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98D0-10B9-4FBF-BE25-7D87F41FA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11DD-A017-4ABB-8113-93388800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1C41-ED10-41E2-82EB-59D090CA9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A6EC-860A-48DF-B380-7C6742383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6FBD-AAAD-4472-99BA-AC33FD9D8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0ACD-8B10-4211-9162-D2BAAB9E3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F564-AAFE-4A9C-8249-856F94DC3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43F1-2325-47FC-A931-9CF570C7E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9064-8684-45C4-860A-1A778497B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1981-72B0-4631-8CF6-EAF34A5F6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0317-7DE1-46F1-8C06-C5937B64B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8705-751F-47BA-847F-A6C20711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1644-81EA-4DFC-868C-26D22D472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6EC2-5DB5-4AAD-9A44-397F0BEDE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35DC-9A04-4DD2-995C-A16FDC96E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0AA5-4BA8-45E1-961B-C08E2246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256C-3DEB-45AE-89FF-91CD94F69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95A7-A69C-4D06-B77E-5B6FCEF7C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EA40-0E75-4627-865E-A52145159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CCB7-D1DA-447E-9A62-B2186F296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2FA70-377E-40C0-AE3E-A64BC0F50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8869-B481-4939-8A5B-B30FE42BB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8FB3-98D1-4082-B9F2-E0603EE65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BAEE-61DE-42A3-B2BA-A701B3E55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1C9E-4CC1-4A3A-91E0-9B2EE168E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AED8-C48E-436F-8D32-3F0405CA2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3756-3F78-4539-9DAD-0334E3EED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6979-FC39-4F1F-B109-38458171F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6D59-E39E-446B-8AF9-3FE3A612C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5A05-A80D-4DA9-A920-2A4D3DF6F36F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9C23-8BF9-4269-B661-E86D06C06A7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F30D-FC7C-43D4-9F5F-85A82AAB245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CAE4-8BF1-4E0F-BC41-B2A721F2E93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2ED9-1C8D-4026-A48C-78826C3AC3F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6663-B955-4620-A187-03C40A485DE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7E1B-4D40-4C63-9178-5E480BD47DF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108-7FC3-40F8-AEC1-B4B4E370E5D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B822-9B7C-464E-B43D-6C4AAD82FC8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4E81-98A2-4E35-8B06-40EB9DAB777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7C44-59E9-4C98-B8D6-6B9DF2A75B1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8A7C-4424-491C-936C-39E2A8FAA55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3F53-214D-41AF-AF42-F91B994BA0B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1136-65D5-49CA-9232-A1556C9566D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2D20-BBB2-47AD-875A-D662C01119B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ksu</cp:lastModifiedBy>
  <dcterms:modified xsi:type="dcterms:W3CDTF">2014-02-17T08:19:17Z</dcterms:modified>
  <cp:revision>105</cp:revision>
  <dc:subject>What is Statistics</dc:subject>
  <dc:title>Chapter 1</dc:title>
</cp:coreProperties>
</file>