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69E1-55BE-4277-9FBD-2F99F1C92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8453-F83B-406B-B856-2670CB3DB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67BB-A300-4D53-884A-09B878539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B156-6DB0-49A2-B904-B588454AA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098A-F1CE-4885-A69C-A7C8D2386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BC44-7D88-4622-9032-D77224D38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CCC4-539E-45CD-931A-F2297B30B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0F33-45E1-4FA7-9035-6714A549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5EF2-5A78-4034-AC74-2C4DECFD0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8EC1-4BE7-4B28-B6AA-1076258CD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0174-F4F7-4C39-B98C-427D45CE5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D87C-40DB-485C-91CF-BE32E8292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9A77-1CAD-4D35-9A65-27A17666C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8711-B0C6-49CF-A026-0551FB63D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433F-7CEF-4C1D-907D-5B5A27BC9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74C8-1A21-4D8A-BF99-A4F1F0724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05C2-62A8-49E3-B468-90D00BC00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0A91-CA99-4A84-A23F-0A0AC44F4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EF5E-B8D9-469C-A7E2-401E5C6F3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62A9-E8C8-42B3-A2CC-1F9D50D01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9C52-40F9-484E-BA49-E1E5337A5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7102-BF16-4B32-B4EA-D484851E5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6D2B-7F60-4EE0-ADC2-E15579401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6A93-8096-4610-A944-B03E2ABF6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0BD7-4E34-42D2-94DC-BEFEABD5E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6378-F7A9-45A0-9882-774D5E8E8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2848-AA46-4079-A92F-6A259D6D1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44A3-606F-42EF-836E-6E4448A88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567D-D12B-4EE6-8E10-A20B1D8F9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F9A8-A044-48B3-9D58-CC8B93CAF4DA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6C72-DE49-4AB1-953F-33D152B7DF9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B483-201C-47A4-A881-A40960DDA95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8155-2291-4B5D-80BD-3D2517904FC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E25B-AC15-45DF-8E7F-68188C81BF8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DB0F-121C-46D4-975D-837401964DF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3134-FB58-4F7D-B549-2BA6BCB1A16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1E43-3432-40E2-BA8B-53F1649BCFE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97F3-0D1F-4248-B7B5-558DC1C6C0D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A517-01C9-46D9-9998-79E19425C3D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96AE-6A4D-4EF3-81BD-001E94C0D74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065B-8284-43F1-BC72-CA3B49EE5FC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49B5-A3D6-43DD-BE7E-A40394EC5DF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C61D-2474-47B6-AF17-A1BBADE3806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8EAD-E8F7-4904-8BBD-D13C92EA0FD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iadah Fawaz</cp:lastModifiedBy>
  <dcterms:modified xsi:type="dcterms:W3CDTF">2014-09-09T21:50:17Z</dcterms:modified>
  <cp:revision>105</cp:revision>
  <dc:subject>What is Statistics</dc:subject>
  <dc:title>Chapter 1</dc:title>
</cp:coreProperties>
</file>