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05F-E7EC-4F4A-B0FA-10F39E67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C37-6FC3-4154-BC22-E35526CAC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6B95-3AE3-459A-9FF3-30E56D2E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46CC-102C-4D4E-9907-91E8004E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A6F-96BF-475B-9D46-81001AF1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D5CB-C6D9-4C44-9CE2-0D5A33E7F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2EC-C664-4538-929E-02202EE7B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C80-9A0A-43A0-9802-2EFA3004D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7805-BE1A-46E6-A344-56E23472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C9F-DB98-42F2-8C96-2B19920D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584C-25BE-4663-B1C4-75AB26DF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CF7B-A9B2-4233-AAF8-8A1A23C2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8896-7C97-435A-ABA8-7C2A8096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F560-2C6E-4156-BAF7-3B10B577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C46-8A5B-4EAE-A5FC-D4D5312FB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5A75-1ECE-41F3-8BBF-275019C2B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9941-2BBC-4038-931C-C90A7DD1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993-AA49-4E97-9635-EAE6E5D23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A74-A945-45DB-97B9-C8196FEB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4E2C-699C-49D3-BC47-2886A299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F8CC-BA3F-40C3-A990-DE51BD7F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191-392E-43FD-B271-D5619EA3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1FA-FB22-44E7-A95F-46244B94F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AA45-4C39-420C-B4D9-D6666D8EC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FEF1-DB6C-4327-A3AA-78760AED9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5D2F-EA12-402E-998B-E5F28CA1D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A56C-CCCA-46E1-9765-E023D05FE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925C-2BA2-4F31-AC9A-46A1C4DE9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416C-7657-410F-8749-081C63A48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3F9E-6D47-4A44-A7B8-F2871ADDD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9E5D-60C1-4622-B531-1F8388F81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93B1-5EE7-469A-9B51-32119FDDC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37CC-A782-4140-AF29-7F18F263E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DD4F-B33D-49C6-81BE-FA091BB61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2A6F-570F-41B7-8EE6-7D4EE9728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625-A1A6-4D52-84FA-B6C25996FBBD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BE9-EF36-4A7D-B0DE-D5379A5895B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1860-3292-4DFB-996B-EC2BE5624CE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457200" y="1619280"/>
            <a:ext cx="8229600" cy="10476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y take a sample instead of studying every member of the population?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C8A4-89DD-44DB-87EE-C32B1DD48C8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57160"/>
            <a:ext cx="8229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hibitive cost of cen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truction of item being studied may be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possible to test or inspect all members of a population being stud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ing a sample to learn something about a population is done extensively in business, agriculture, politics, and governme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: Television networks constantly monitor the popularity of their programs by hiring Nielsen and other organizations to sample the preferences of TV viewer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itle 4"/>
          <p:cNvSpPr/>
          <p:nvPr/>
        </p:nvSpPr>
        <p:spPr>
          <a:xfrm>
            <a:off x="457200" y="1619280"/>
            <a:ext cx="8229600" cy="10476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y take a sample instead of studying every member of the population?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,,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188-3604-4D2D-B205-186FCF02E3E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erson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4BCD-7BD9-4F18-8745-6F08B56C340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4704-66A6-4BE2-85A0-79B49B7CDA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03080" y="1904760"/>
            <a:ext cx="377316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1- Nominal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2- Ordinal leve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3- Interval leve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4- Ratio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minal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8720" y="1790280"/>
            <a:ext cx="806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NOMINAL LEVEL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ye color, gender, religious affilia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- The variable of interest is divided into categories or outcom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- There is no natural order to the outco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dinal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704880" y="1781280"/>
            <a:ext cx="82486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Arial"/>
              </a:rPr>
              <a:t>ORDINAL LEVEL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Data arranged in some order, but the differences between data values cannot be determined or are meaningless. 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EXAMPLE: During a taste test of 4 soft drinks, Mellow Yellow was ranked number 1, Sprite number 2, Seven-up number 3, and Orange Crush number 4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Data classifications are represented by sets of labels or names (high, medium, low) that have </a:t>
            </a:r>
            <a:r>
              <a:rPr b="1" i="1" lang="en-US" sz="2400" spc="-1" strike="noStrike">
                <a:solidFill>
                  <a:srgbClr val="00264d"/>
                </a:solidFill>
                <a:latin typeface="Arial"/>
              </a:rPr>
              <a:t>relative values</a:t>
            </a: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Because of the relative values, the </a:t>
            </a:r>
            <a:r>
              <a:rPr b="1" i="1" lang="en-US" sz="2400" spc="-1" strike="noStrike">
                <a:solidFill>
                  <a:srgbClr val="00264d"/>
                </a:solidFill>
                <a:latin typeface="Arial"/>
              </a:rPr>
              <a:t>data classified can be ranked or ordered</a:t>
            </a: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val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47440" y="1762200"/>
            <a:ext cx="81630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TERVAL LEVEL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S: Temperature on the Fahrenheit scal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72280" y="4172040"/>
            <a:ext cx="3409920" cy="22572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762120" y="4172040"/>
            <a:ext cx="43434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perties:</a:t>
            </a: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classifications are ordered according to the amount of the characteristic they possess.</a:t>
            </a: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qual differences in the characteristic are represented by equal differences in the measurements.</a:t>
            </a: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tio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876240" y="1866960"/>
            <a:ext cx="80964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Arial"/>
              </a:rPr>
              <a:t>RATIO LEVEL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Monthly income of surgeons, or distance traveled by manufacturer’s representatives per month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tio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876240" y="1866960"/>
            <a:ext cx="80964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Arial"/>
              </a:rPr>
              <a:t>RATIO LEVEL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perties: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ata classifications ar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orde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ccording to the amount of the characteristics they possess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qual differences in the characteristic are represented by equal differences in the numbers assigned to the classifications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he zero point is the absence of the characteristic and the ratio between two numbers is meaningful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actically all quantitative data is recorded on the ratio level of measurement. Ratio level is the “highest” level of measurement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81760" y="62964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7717"/>
          <a:stretch/>
        </p:blipFill>
        <p:spPr>
          <a:xfrm>
            <a:off x="866880" y="1824120"/>
            <a:ext cx="6980040" cy="2962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714240" y="4981680"/>
            <a:ext cx="77914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Why Know the Level of Measurement of a Data?</a:t>
            </a: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evel of measurement of the data dictates the calculations that can b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done to summarize and present the data.</a:t>
            </a: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 determine the statistical tests that should be performed on the data</a:t>
            </a: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6741-F03F-4250-B260-84E7D9C0FCC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6A8-C295-496B-9CC2-ECDCD004A6D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8A07-B1DB-4139-A722-4AB6390D891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EB26-470E-414B-8C77-F9762A7EB6F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1.Descriptive Stat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XAMPLE 1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e population of Saudi Arabia in the following sl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F04-F454-44F4-813B-348EDABD4E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99F0-1B2B-4E28-8977-D280F42B98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6720" y="179064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4EC0-FD31-4F1D-8BA4-1ABAF8A971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2.Inferential Statistics (also called Statistical inference)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methods used to estimate a property of a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on the basis on a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DCE9-FAB5-4610-9041-403036A271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7-09-24T23:21:31Z</dcterms:modified>
  <cp:revision>117</cp:revision>
  <dc:subject>What is Statistics</dc:subject>
  <dc:title>Chapter 1</dc:title>
</cp:coreProperties>
</file>