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28.wmf" ContentType="image/x-wmf"/>
  <Override PartName="/ppt/media/image10.jpeg" ContentType="image/jpeg"/>
  <Override PartName="/ppt/media/image8.jpeg" ContentType="image/jpeg"/>
  <Override PartName="/ppt/media/image5.jpeg" ContentType="image/jpeg"/>
  <Override PartName="/ppt/media/image18.wmf" ContentType="image/x-wmf"/>
  <Override PartName="/ppt/media/image13.jpeg" ContentType="image/jpeg"/>
  <Override PartName="/ppt/media/image4.png" ContentType="image/png"/>
  <Override PartName="/ppt/media/image27.png" ContentType="image/png"/>
  <Override PartName="/ppt/media/image26.wmf" ContentType="image/x-wmf"/>
  <Override PartName="/ppt/media/image22.jpeg" ContentType="image/jpeg"/>
  <Override PartName="/ppt/media/image14.png" ContentType="image/png"/>
  <Override PartName="/ppt/media/image21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1.wmf" ContentType="image/x-wmf"/>
  <Override PartName="/ppt/media/image24.wmf" ContentType="image/x-wmf"/>
  <Override PartName="/ppt/media/image2.png" ContentType="image/png"/>
  <Override PartName="/ppt/media/image25.png" ContentType="image/pn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91900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90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1440" y="-36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2882880" y="517680"/>
            <a:ext cx="3425760" cy="25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1225080" y="3257640"/>
            <a:ext cx="6737400" cy="30859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7"/>
          </p:nvPr>
        </p:nvSpPr>
        <p:spPr>
          <a:xfrm>
            <a:off x="5207040" y="-36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1440" y="651312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5207040" y="651312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DA134D95-07A7-4B35-8DD5-71DDD897091B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5207040" y="6513480"/>
            <a:ext cx="3983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DA9EC7BD-A819-4FF6-8A01-9D7C8FF7A561}" type="slidenum">
              <a:rPr b="0" lang="en-CA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886120" y="52056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225080" y="3257640"/>
            <a:ext cx="6737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5207040" y="6513480"/>
            <a:ext cx="3983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4538133E-EFAF-473C-BBA1-68DE6157CD53}" type="slidenum">
              <a:rPr b="0" lang="en-CA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884320" y="517680"/>
            <a:ext cx="3422880" cy="2566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225080" y="3257640"/>
            <a:ext cx="6737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5207040" y="6513480"/>
            <a:ext cx="3983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53977329-6687-45BB-B897-D1CC51E7DC1A}" type="slidenum">
              <a:rPr b="0" lang="en-CA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884320" y="517680"/>
            <a:ext cx="3422880" cy="25668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225080" y="3257640"/>
            <a:ext cx="6737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5207040" y="6513480"/>
            <a:ext cx="3983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08B5D59F-B349-4FEF-AA1C-1E44A1A79CD6}" type="slidenum">
              <a:rPr b="0" lang="en-CA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884320" y="517680"/>
            <a:ext cx="3422880" cy="25668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225080" y="3257640"/>
            <a:ext cx="6737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5207040" y="6513480"/>
            <a:ext cx="3983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0A793B8D-0894-45D1-A544-EFAB4F9F0751}" type="slidenum">
              <a:rPr b="0" lang="en-CA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884320" y="517680"/>
            <a:ext cx="3422880" cy="25668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225080" y="3257640"/>
            <a:ext cx="6737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5207040" y="6513480"/>
            <a:ext cx="3983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74FFD84A-6468-4B7D-A041-90CAE09EBBCA}" type="slidenum">
              <a:rPr b="0" lang="en-CA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884320" y="517680"/>
            <a:ext cx="3422880" cy="25668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225080" y="3257640"/>
            <a:ext cx="6737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5207040" y="6513480"/>
            <a:ext cx="3983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103CA019-D4EC-48CB-A38C-08AA2DD701F1}" type="slidenum">
              <a:rPr b="0" lang="en-CA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884320" y="517680"/>
            <a:ext cx="3422880" cy="25668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1225080" y="3257640"/>
            <a:ext cx="6737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5207040" y="6513480"/>
            <a:ext cx="3983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6056ED5E-FEFE-444C-B370-041385DCAFD9}" type="slidenum">
              <a:rPr b="0" lang="en-CA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884320" y="517680"/>
            <a:ext cx="3422880" cy="25668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225080" y="3257640"/>
            <a:ext cx="6737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5207040" y="6513480"/>
            <a:ext cx="3983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F251FD20-512B-426C-B279-A25CC1F23D8C}" type="slidenum">
              <a:rPr b="0" lang="en-CA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884320" y="517680"/>
            <a:ext cx="3422880" cy="25668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25080" y="3257640"/>
            <a:ext cx="6737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5207040" y="6513480"/>
            <a:ext cx="3983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98C2CBCC-B856-46F7-B4F8-9305F8065A88}" type="slidenum">
              <a:rPr b="0" lang="en-CA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884320" y="517680"/>
            <a:ext cx="3422880" cy="25668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225080" y="3257640"/>
            <a:ext cx="6737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5207040" y="6513480"/>
            <a:ext cx="3983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21891212-D342-4605-A40A-49C18F38A7C4}" type="slidenum">
              <a:rPr b="0" lang="en-CA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882880" y="515880"/>
            <a:ext cx="3425760" cy="25686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227240" y="3257640"/>
            <a:ext cx="67341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1658-154C-4F4E-BF35-602633155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56E6-2301-4087-B540-DDCC220C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18DA-4A8C-4BF8-925A-86966A0EB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4BBA-3C9A-43D0-AE8A-B2BCFFD3D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71B3-E720-40AB-BAA4-9323AFF6F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2386-AEB1-4A3B-B07E-7BF64E84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DD6F-BA39-497A-A518-8800D3FD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1A2B-419A-4B37-A1BD-9858AE35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11B2-2F5D-4689-9F65-3ABCC540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226F-83AF-48F1-9EF1-F95F413B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193A-9BF9-469D-A768-1E95D36D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EC43-1966-4355-A59E-D615A40A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23E2-7505-405C-9067-5B560E49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2BD9-7ED0-4F48-BF3B-567B674F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2829-F60D-4B9B-A81B-88CBEE53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A2F0-41CB-451C-B13F-879A7E8C8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29E2-FB16-40CD-A13A-E85F9D808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114D-565D-4C88-ACF9-456633D5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85B3-4062-48BE-A197-2E150D50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347B-CA94-4423-AC5D-AF26B516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7BB0-0FAE-4767-AF68-AB5CC479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D0EC-4066-4D3A-AD1F-CBE6071D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280B-6887-48C7-B75F-26D80884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3350-DF6C-4F73-84D3-1E954D68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5480" cy="60181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11" y="0"/>
                </a:moveTo>
                <a:cubicBezTo>
                  <a:pt x="11936" y="6"/>
                  <a:pt x="21600" y="9675"/>
                  <a:pt x="21600" y="21600"/>
                </a:cubicBezTo>
              </a:path>
              <a:path stroke="0" w="21600" h="21600">
                <a:moveTo>
                  <a:pt x="11" y="0"/>
                </a:moveTo>
                <a:cubicBezTo>
                  <a:pt x="11936" y="6"/>
                  <a:pt x="21600" y="9675"/>
                  <a:pt x="21600" y="21600"/>
                </a:cubicBezTo>
                <a:lnTo>
                  <a:pt x="0" y="21600"/>
                </a:lnTo>
                <a:lnTo>
                  <a:pt x="11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4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D691-C10D-4904-804C-B5A77C86E0D6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1440" y="1708200"/>
            <a:ext cx="9147240" cy="0"/>
          </a:xfrm>
          <a:prstGeom prst="line">
            <a:avLst/>
          </a:prstGeom>
          <a:ln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5480" cy="60181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11" y="0"/>
                </a:moveTo>
                <a:cubicBezTo>
                  <a:pt x="11936" y="6"/>
                  <a:pt x="21600" y="9675"/>
                  <a:pt x="21600" y="21600"/>
                </a:cubicBezTo>
              </a:path>
              <a:path stroke="0" w="21600" h="21600">
                <a:moveTo>
                  <a:pt x="11" y="0"/>
                </a:moveTo>
                <a:cubicBezTo>
                  <a:pt x="11936" y="6"/>
                  <a:pt x="21600" y="9675"/>
                  <a:pt x="21600" y="21600"/>
                </a:cubicBezTo>
                <a:lnTo>
                  <a:pt x="0" y="21600"/>
                </a:lnTo>
                <a:lnTo>
                  <a:pt x="11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4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9B88-9130-45E3-907F-35D3E701214F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AA4F-B906-4797-845F-ADFBADF0F355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PLC: Programmable Logical Controller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467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CONTENT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28600"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28600"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1. What is a PLC ?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28600"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2. Application examples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28600"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3. Inputs, Outputs and Commercial PLC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28600"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4. Structure and Operating cycle of a PLC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28600"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5. How to choose a PLC ?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6A34-DB65-41C1-B682-D7984EA8EF59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28600"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An application example 1: Gate Control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66720" y="1847520"/>
            <a:ext cx="794376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286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286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286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286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28600" indent="-228600" algn="just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10000"/>
                </a:solidFill>
                <a:latin typeface="Arial"/>
              </a:rPr>
              <a:t>PLC can: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971640" indent="-228600" algn="just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10000"/>
                </a:solidFill>
                <a:latin typeface="Arial"/>
              </a:rPr>
              <a:t>Sense a vehicle at the entrance or exit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971640" indent="-228600" algn="just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10000"/>
                </a:solidFill>
                <a:latin typeface="Arial"/>
              </a:rPr>
              <a:t>Open and close the gate automatically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228600" indent="-228600" algn="just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10000"/>
                </a:solidFill>
                <a:latin typeface="Arial"/>
              </a:rPr>
              <a:t>Vehicle count is easily determined by programming a simple counte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2181240" y="2057400"/>
            <a:ext cx="48229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B537-6C2E-4FB8-8CEB-95F1996CD0CC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28600"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An application example 2: Conveyor System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66720" y="1847520"/>
            <a:ext cx="794376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286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286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286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286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28600" indent="-228600" algn="just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10000"/>
                </a:solidFill>
                <a:latin typeface="Arial"/>
              </a:rPr>
              <a:t>PLC can be used to start/stop latching logic for motor contro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28600" indent="-228600" algn="just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10000"/>
                </a:solidFill>
                <a:latin typeface="Arial"/>
              </a:rPr>
              <a:t>Counters can be used for monitoring product amount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2179800" y="2057400"/>
            <a:ext cx="47145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numéro de diapositive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F2BB-CA5F-4D41-ADD3-DFACEC9FF930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4118040" y="1600200"/>
            <a:ext cx="4749840" cy="46483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914400" y="38088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228600" indent="-228600">
              <a:lnSpc>
                <a:spcPct val="6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An application example 3: 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  <a:p>
            <a:pPr marL="228600" indent="-228600">
              <a:lnSpc>
                <a:spcPct val="6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Electric Drive (Motor) Control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428760" y="1967040"/>
            <a:ext cx="3276360" cy="41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2 push button switches (Start/Stop) are used to switch the motor on/off.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se switches are connected to the PLC using 2 discrete inputs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One of the output ports (discrete output) of the PLC is used to switch the motor starter on/off, which will start/stop the electric motor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97956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txBody>
          <a:bodyPr lIns="92160" rIns="92160" tIns="46080" bIns="46080"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99"/>
                </a:solidFill>
                <a:latin typeface="Arial"/>
              </a:rPr>
              <a:t>Old installations: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99"/>
                </a:solidFill>
                <a:latin typeface="Arial"/>
              </a:rPr>
              <a:t>Wired relay logic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97956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txBody>
          <a:bodyPr lIns="92160" rIns="92160" tIns="46080" bIns="46080"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99"/>
                </a:solidFill>
                <a:latin typeface="Arial"/>
              </a:rPr>
              <a:t>Modern installations: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99"/>
                </a:solidFill>
                <a:latin typeface="Arial"/>
              </a:rPr>
              <a:t>Programmed logic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4" name="Espace réservé du numéro de diapositive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79E9-F8D3-4A46-9F6E-CFD2B6610630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75" name="Picture 4" descr="rcds_11.jpg"/>
          <p:cNvPicPr/>
          <p:nvPr/>
        </p:nvPicPr>
        <p:blipFill>
          <a:blip r:embed="rId1"/>
          <a:stretch/>
        </p:blipFill>
        <p:spPr>
          <a:xfrm>
            <a:off x="819000" y="2602080"/>
            <a:ext cx="3524400" cy="39510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2"/>
          <p:cNvSpPr/>
          <p:nvPr/>
        </p:nvSpPr>
        <p:spPr>
          <a:xfrm>
            <a:off x="914400" y="380880"/>
            <a:ext cx="807732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Why PLCs?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77" name="Picture 2" descr="C:\Users\mikeb\Desktop\PLC_Junction_Box.JPG"/>
          <p:cNvPicPr/>
          <p:nvPr/>
        </p:nvPicPr>
        <p:blipFill>
          <a:blip r:embed="rId2"/>
          <a:stretch/>
        </p:blipFill>
        <p:spPr>
          <a:xfrm>
            <a:off x="4876920" y="2590920"/>
            <a:ext cx="36399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A6FC-BADA-4A69-B7B3-E431A92C2130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807732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Comparing traditional and programmable control systems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7086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85C5-8C69-4E9A-AD04-8306A245A8C0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90440"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Comparing traditional and programmable control systems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597960" y="1857240"/>
            <a:ext cx="7851960" cy="484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-190440" algn="just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10000"/>
                </a:solidFill>
                <a:latin typeface="Arial"/>
              </a:rPr>
              <a:t>In traditional control, the switches S1, S2 and S3 must close for K1 to be turned on -  </a:t>
            </a:r>
            <a:r>
              <a:rPr b="0" lang="en-CA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C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CA" sz="2000" spc="-1" strike="noStrike">
                <a:solidFill>
                  <a:srgbClr val="ff0000"/>
                </a:solidFill>
                <a:latin typeface="Arial"/>
              </a:rPr>
              <a:t>wiring</a:t>
            </a:r>
            <a:r>
              <a:rPr b="0" lang="en-CA" sz="2000" spc="-1" strike="noStrike">
                <a:solidFill>
                  <a:srgbClr val="ff0000"/>
                </a:solidFill>
                <a:latin typeface="Arial"/>
              </a:rPr>
              <a:t> makes the rul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190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190440" indent="-190440" algn="just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10000"/>
                </a:solidFill>
                <a:latin typeface="Arial"/>
              </a:rPr>
              <a:t>In PLC systems, the program is written to perform the logic “when S1 is closed AND S2 is closed AND S3 is closed, THEN turn on K1” - </a:t>
            </a:r>
            <a:r>
              <a:rPr b="0" lang="en-CA" sz="2000" spc="-1" strike="noStrike">
                <a:solidFill>
                  <a:srgbClr val="ff0000"/>
                </a:solidFill>
                <a:latin typeface="Arial"/>
              </a:rPr>
              <a:t>the </a:t>
            </a:r>
            <a:r>
              <a:rPr b="1" lang="en-CA" sz="2000" spc="-1" strike="noStrike">
                <a:solidFill>
                  <a:srgbClr val="ff0000"/>
                </a:solidFill>
                <a:latin typeface="Arial"/>
              </a:rPr>
              <a:t>program</a:t>
            </a:r>
            <a:r>
              <a:rPr b="0" lang="en-CA" sz="2000" spc="-1" strike="noStrike">
                <a:solidFill>
                  <a:srgbClr val="ff0000"/>
                </a:solidFill>
                <a:latin typeface="Arial"/>
              </a:rPr>
              <a:t> makes the rul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19044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0000"/>
                </a:solidFill>
                <a:latin typeface="Arial"/>
              </a:rPr>
              <a:t>It is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1085760" indent="-342720" algn="just">
              <a:lnSpc>
                <a:spcPct val="11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ff0000"/>
                </a:solidFill>
                <a:latin typeface="Arial"/>
              </a:rPr>
              <a:t>Much simpler (complexity)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1085760" indent="-342720" algn="just">
              <a:lnSpc>
                <a:spcPct val="11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ff0000"/>
                </a:solidFill>
                <a:latin typeface="Arial"/>
              </a:rPr>
              <a:t>Much easier (difficulty)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1085760" indent="-342720" algn="just">
              <a:lnSpc>
                <a:spcPct val="11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ff0000"/>
                </a:solidFill>
                <a:latin typeface="Arial"/>
              </a:rPr>
              <a:t>Much more reliable (fault free)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1085760" indent="-342720" algn="just">
              <a:lnSpc>
                <a:spcPct val="11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ff0000"/>
                </a:solidFill>
                <a:latin typeface="Arial"/>
              </a:rPr>
              <a:t>Much more effective (cost and time )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19044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0000"/>
                </a:solidFill>
                <a:latin typeface="Arial"/>
              </a:rPr>
              <a:t>to change program then wiring!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CA7F-21AE-4BEA-A7E0-DB9037BA75E0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How does a PLC differ from a computer?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66360" y="1980720"/>
            <a:ext cx="77151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80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80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80880" indent="-380880" algn="just">
              <a:lnSpc>
                <a:spcPct val="11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10000"/>
                </a:solidFill>
                <a:latin typeface="Arial"/>
              </a:rPr>
              <a:t>A computer is optimized for calculation and display tasks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80880" indent="-380880" algn="just">
              <a:lnSpc>
                <a:spcPct val="11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10000"/>
                </a:solidFill>
                <a:latin typeface="Arial"/>
              </a:rPr>
              <a:t>A computer is more user focused and user friendly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80880" indent="-380880" algn="just">
              <a:lnSpc>
                <a:spcPct val="11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10000"/>
                </a:solidFill>
                <a:latin typeface="Arial"/>
              </a:rPr>
              <a:t>Not necessarily real tim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808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80880" indent="-380880" algn="just">
              <a:lnSpc>
                <a:spcPct val="11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10000"/>
                </a:solidFill>
                <a:latin typeface="Arial"/>
              </a:rPr>
              <a:t>A PLC is more task/process oriented 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80880" indent="-380880" algn="just">
              <a:lnSpc>
                <a:spcPct val="11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10000"/>
                </a:solidFill>
                <a:latin typeface="Arial"/>
              </a:rPr>
              <a:t>A PLC is designed for (logic) control and regulation tasks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80880" indent="-380880" algn="just">
              <a:lnSpc>
                <a:spcPct val="11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10000"/>
                </a:solidFill>
                <a:latin typeface="Arial"/>
              </a:rPr>
              <a:t>A PLC has to operate in real tim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80880" indent="-380880" algn="just">
              <a:lnSpc>
                <a:spcPct val="11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10000"/>
                </a:solidFill>
                <a:latin typeface="Arial"/>
              </a:rPr>
              <a:t>A PLC is well adapted to industrial environment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8B15-1583-4284-90C6-28E0744F75AF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Advantages of PLCs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838080" y="198072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80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10000"/>
                </a:solidFill>
                <a:latin typeface="Arial"/>
              </a:rPr>
              <a:t>PLCs have significant advantages over traditional control systems based on relay or pneumatic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80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80880" indent="-380880" algn="just">
              <a:lnSpc>
                <a:spcPct val="12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10000"/>
                </a:solidFill>
                <a:latin typeface="Arial"/>
              </a:rPr>
              <a:t>They are cost-effectiv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80880" indent="-380880" algn="just">
              <a:lnSpc>
                <a:spcPct val="12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10000"/>
                </a:solidFill>
                <a:latin typeface="Arial"/>
              </a:rPr>
              <a:t>They are flexible, reliable and compac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80880" indent="-380880" algn="just">
              <a:lnSpc>
                <a:spcPct val="12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10000"/>
                </a:solidFill>
                <a:latin typeface="Arial"/>
              </a:rPr>
              <a:t>Can be used in every industry where automation is involved, from individual machines to whole process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9499-A9DF-46DC-9CB9-DC7F46C5EB1A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What tasks do PLCs perform?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838080" y="1980720"/>
            <a:ext cx="746784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80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80880" indent="-380880" algn="just">
              <a:lnSpc>
                <a:spcPct val="12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10000"/>
                </a:solidFill>
                <a:latin typeface="Arial"/>
              </a:rPr>
              <a:t>Logic control tasks: interlocking, sequencing, timing and counting (previously undertaken with relays or pneumatics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808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80880" indent="-380880" algn="just">
              <a:lnSpc>
                <a:spcPct val="12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10000"/>
                </a:solidFill>
                <a:latin typeface="Arial"/>
              </a:rPr>
              <a:t>A variety of calculation, communication and monitoring task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D8B7-2D10-46B5-98DC-DD6A490510FB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80880"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Structure of a PLC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2057400" y="2133720"/>
            <a:ext cx="5410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380880" y="380880"/>
            <a:ext cx="84391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What is a PLC?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851760" y="2552760"/>
            <a:ext cx="2818440" cy="761760"/>
            <a:chOff x="851760" y="2552760"/>
            <a:chExt cx="2818440" cy="761760"/>
          </a:xfrm>
        </p:grpSpPr>
        <p:grpSp>
          <p:nvGrpSpPr>
            <p:cNvPr id="97" name="Group 4"/>
            <p:cNvGrpSpPr/>
            <p:nvPr/>
          </p:nvGrpSpPr>
          <p:grpSpPr>
            <a:xfrm>
              <a:off x="2374920" y="2552760"/>
              <a:ext cx="1295280" cy="761760"/>
              <a:chOff x="2374920" y="2552760"/>
              <a:chExt cx="1295280" cy="761760"/>
            </a:xfrm>
          </p:grpSpPr>
          <p:sp>
            <p:nvSpPr>
              <p:cNvPr id="98" name="Line 5"/>
              <p:cNvSpPr/>
              <p:nvPr/>
            </p:nvSpPr>
            <p:spPr>
              <a:xfrm>
                <a:off x="2374920" y="2552760"/>
                <a:ext cx="129528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9" name="Line 6"/>
              <p:cNvSpPr/>
              <p:nvPr/>
            </p:nvSpPr>
            <p:spPr>
              <a:xfrm>
                <a:off x="2374920" y="2705040"/>
                <a:ext cx="129528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0" name="Line 7"/>
              <p:cNvSpPr/>
              <p:nvPr/>
            </p:nvSpPr>
            <p:spPr>
              <a:xfrm>
                <a:off x="2374920" y="2857320"/>
                <a:ext cx="129528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1" name="Line 8"/>
              <p:cNvSpPr/>
              <p:nvPr/>
            </p:nvSpPr>
            <p:spPr>
              <a:xfrm>
                <a:off x="2374920" y="3009600"/>
                <a:ext cx="129528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2" name="Line 9"/>
              <p:cNvSpPr/>
              <p:nvPr/>
            </p:nvSpPr>
            <p:spPr>
              <a:xfrm>
                <a:off x="2374920" y="3162240"/>
                <a:ext cx="129528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3" name="Line 10"/>
              <p:cNvSpPr/>
              <p:nvPr/>
            </p:nvSpPr>
            <p:spPr>
              <a:xfrm>
                <a:off x="2374920" y="3314520"/>
                <a:ext cx="129528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04" name="Text Box 11"/>
            <p:cNvSpPr/>
            <p:nvPr/>
          </p:nvSpPr>
          <p:spPr>
            <a:xfrm>
              <a:off x="851760" y="2552760"/>
              <a:ext cx="140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9999"/>
                  </a:solidFill>
                  <a:latin typeface="Times New Roman"/>
                </a:rPr>
                <a:t>Inputs</a:t>
              </a:r>
              <a:endParaRPr b="0" lang="en-US" sz="3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05" name="Group 12"/>
          <p:cNvGrpSpPr/>
          <p:nvPr/>
        </p:nvGrpSpPr>
        <p:grpSpPr>
          <a:xfrm>
            <a:off x="5270400" y="2552760"/>
            <a:ext cx="3103560" cy="762120"/>
            <a:chOff x="5270400" y="2552760"/>
            <a:chExt cx="3103560" cy="762120"/>
          </a:xfrm>
        </p:grpSpPr>
        <p:grpSp>
          <p:nvGrpSpPr>
            <p:cNvPr id="106" name="Group 13"/>
            <p:cNvGrpSpPr/>
            <p:nvPr/>
          </p:nvGrpSpPr>
          <p:grpSpPr>
            <a:xfrm>
              <a:off x="5270400" y="2552760"/>
              <a:ext cx="1295280" cy="762120"/>
              <a:chOff x="5270400" y="2552760"/>
              <a:chExt cx="1295280" cy="762120"/>
            </a:xfrm>
          </p:grpSpPr>
          <p:sp>
            <p:nvSpPr>
              <p:cNvPr id="107" name="Line 14"/>
              <p:cNvSpPr/>
              <p:nvPr/>
            </p:nvSpPr>
            <p:spPr>
              <a:xfrm>
                <a:off x="5270400" y="2552760"/>
                <a:ext cx="129528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8" name="Line 15"/>
              <p:cNvSpPr/>
              <p:nvPr/>
            </p:nvSpPr>
            <p:spPr>
              <a:xfrm>
                <a:off x="5270400" y="2705400"/>
                <a:ext cx="129528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9" name="Line 16"/>
              <p:cNvSpPr/>
              <p:nvPr/>
            </p:nvSpPr>
            <p:spPr>
              <a:xfrm>
                <a:off x="5270400" y="2857680"/>
                <a:ext cx="129528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0" name="Line 17"/>
              <p:cNvSpPr/>
              <p:nvPr/>
            </p:nvSpPr>
            <p:spPr>
              <a:xfrm>
                <a:off x="5270400" y="3009960"/>
                <a:ext cx="129528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1" name="Line 18"/>
              <p:cNvSpPr/>
              <p:nvPr/>
            </p:nvSpPr>
            <p:spPr>
              <a:xfrm>
                <a:off x="5270400" y="3162600"/>
                <a:ext cx="129528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2" name="Line 19"/>
              <p:cNvSpPr/>
              <p:nvPr/>
            </p:nvSpPr>
            <p:spPr>
              <a:xfrm>
                <a:off x="5270400" y="3314880"/>
                <a:ext cx="129528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13" name="Text Box 20"/>
            <p:cNvSpPr/>
            <p:nvPr/>
          </p:nvSpPr>
          <p:spPr>
            <a:xfrm>
              <a:off x="6693480" y="2629080"/>
              <a:ext cx="1680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9999"/>
                  </a:solidFill>
                  <a:latin typeface="Times New Roman"/>
                </a:rPr>
                <a:t>Outputs</a:t>
              </a:r>
              <a:endParaRPr b="0" lang="en-US" sz="3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14" name="Rectangle 22"/>
          <p:cNvSpPr/>
          <p:nvPr/>
        </p:nvSpPr>
        <p:spPr>
          <a:xfrm>
            <a:off x="577800" y="4114800"/>
            <a:ext cx="8066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10000"/>
                </a:solidFill>
                <a:latin typeface="Times New Roman"/>
              </a:rPr>
              <a:t>PLC - </a:t>
            </a:r>
            <a:r>
              <a:rPr b="0" lang="en-CA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CA" sz="2400" spc="-1" strike="noStrike">
                <a:solidFill>
                  <a:srgbClr val="010000"/>
                </a:solidFill>
                <a:latin typeface="Times New Roman"/>
              </a:rPr>
              <a:t>rogrammable </a:t>
            </a:r>
            <a:r>
              <a:rPr b="0" lang="en-CA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CA" sz="2400" spc="-1" strike="noStrike">
                <a:solidFill>
                  <a:srgbClr val="010000"/>
                </a:solidFill>
                <a:latin typeface="Times New Roman"/>
              </a:rPr>
              <a:t>ogic </a:t>
            </a:r>
            <a:r>
              <a:rPr b="0" lang="en-CA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CA" sz="2400" spc="-1" strike="noStrike">
                <a:solidFill>
                  <a:srgbClr val="010000"/>
                </a:solidFill>
                <a:latin typeface="Times New Roman"/>
              </a:rPr>
              <a:t>ontroller</a:t>
            </a:r>
            <a:r>
              <a:rPr b="0" lang="ar-SA" sz="2400" spc="-1" strike="noStrike">
                <a:solidFill>
                  <a:srgbClr val="010000"/>
                </a:solidFill>
                <a:latin typeface="Times New Roman"/>
              </a:rPr>
              <a:t> </a:t>
            </a:r>
            <a:r>
              <a:rPr b="1" lang="ar-SA" sz="2000" spc="-1" strike="noStrike">
                <a:solidFill>
                  <a:srgbClr val="010000"/>
                </a:solidFill>
                <a:latin typeface="Times New Roman"/>
              </a:rPr>
              <a:t>متحكم منطقي مبرمج</a:t>
            </a:r>
            <a:r>
              <a:rPr b="1" lang="ar-SA" sz="20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0b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LC</a:t>
            </a:r>
            <a:r>
              <a:rPr b="0" lang="en-US" sz="2400" spc="-1" strike="noStrike">
                <a:solidFill>
                  <a:srgbClr val="1f1f0b"/>
                </a:solidFill>
                <a:latin typeface="Times New Roman"/>
              </a:rPr>
              <a:t> is a digital (discrete) control system that continuously monitors the status of devices connected as inputs. 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0b"/>
                </a:solidFill>
                <a:latin typeface="Times New Roman"/>
              </a:rPr>
              <a:t>Based upon a user written program, stored in memory, it controls the status of devices connected as outputs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3724200" y="1905120"/>
            <a:ext cx="1447920" cy="190476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16" name="Object 2"/>
          <p:cNvGraphicFramePr/>
          <p:nvPr/>
        </p:nvGraphicFramePr>
        <p:xfrm>
          <a:off x="4105440" y="2438280"/>
          <a:ext cx="6300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05440" y="2438280"/>
                    <a:ext cx="6300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25"/>
          <p:cNvSpPr/>
          <p:nvPr/>
        </p:nvSpPr>
        <p:spPr>
          <a:xfrm>
            <a:off x="4089600" y="14335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Times New Roman"/>
              </a:rPr>
              <a:t>PL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numéro de diapositive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1D87-FA21-4D43-AB8E-F1F54C2D5C38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97" name="Group 3"/>
          <p:cNvGrpSpPr/>
          <p:nvPr/>
        </p:nvGrpSpPr>
        <p:grpSpPr>
          <a:xfrm>
            <a:off x="1447920" y="2514600"/>
            <a:ext cx="5943600" cy="2438280"/>
            <a:chOff x="1447920" y="2514600"/>
            <a:chExt cx="5943600" cy="2438280"/>
          </a:xfrm>
        </p:grpSpPr>
        <p:sp>
          <p:nvSpPr>
            <p:cNvPr id="198" name="Rectangle 4"/>
            <p:cNvSpPr/>
            <p:nvPr/>
          </p:nvSpPr>
          <p:spPr>
            <a:xfrm>
              <a:off x="5594400" y="2788560"/>
              <a:ext cx="137520" cy="4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pic>
          <p:nvPicPr>
            <p:cNvPr id="199" name="Picture 5" descr=""/>
            <p:cNvPicPr/>
            <p:nvPr/>
          </p:nvPicPr>
          <p:blipFill>
            <a:blip r:embed="rId1"/>
            <a:stretch/>
          </p:blipFill>
          <p:spPr>
            <a:xfrm>
              <a:off x="1447920" y="2619000"/>
              <a:ext cx="3801960" cy="230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6"/>
            <p:cNvSpPr/>
            <p:nvPr/>
          </p:nvSpPr>
          <p:spPr>
            <a:xfrm>
              <a:off x="5258160" y="2756160"/>
              <a:ext cx="885960" cy="88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9999"/>
                  </a:solidFill>
                  <a:latin typeface="Arial"/>
                  <a:ea typeface="Traditional Arabic"/>
                </a:rPr>
                <a:t>Analog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9999"/>
                  </a:solidFill>
                  <a:latin typeface="Arial"/>
                  <a:ea typeface="Traditional Arabic"/>
                </a:rPr>
                <a:t>Inpu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Text Box 7"/>
            <p:cNvSpPr/>
            <p:nvPr/>
          </p:nvSpPr>
          <p:spPr>
            <a:xfrm>
              <a:off x="5248080" y="3927600"/>
              <a:ext cx="885960" cy="88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9999"/>
                  </a:solidFill>
                  <a:latin typeface="Arial"/>
                  <a:ea typeface="Traditional Arabic"/>
                </a:rPr>
                <a:t>Analog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9999"/>
                  </a:solidFill>
                  <a:latin typeface="Arial"/>
                  <a:ea typeface="Traditional Arabic"/>
                </a:rPr>
                <a:t>Oupu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Rectangle 8"/>
            <p:cNvSpPr/>
            <p:nvPr/>
          </p:nvSpPr>
          <p:spPr>
            <a:xfrm>
              <a:off x="1447920" y="2514600"/>
              <a:ext cx="5943600" cy="243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3" name="Rectangle 9"/>
            <p:cNvSpPr/>
            <p:nvPr/>
          </p:nvSpPr>
          <p:spPr>
            <a:xfrm>
              <a:off x="3481920" y="2654640"/>
              <a:ext cx="3771000" cy="2216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4" name="Text Box 10"/>
            <p:cNvSpPr/>
            <p:nvPr/>
          </p:nvSpPr>
          <p:spPr>
            <a:xfrm>
              <a:off x="6205680" y="2776320"/>
              <a:ext cx="885960" cy="88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9999"/>
                  </a:solidFill>
                  <a:latin typeface="Arial"/>
                  <a:ea typeface="Traditional Arabic"/>
                </a:rPr>
                <a:t>Networking modul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5" name="Text Box 11"/>
            <p:cNvSpPr/>
            <p:nvPr/>
          </p:nvSpPr>
          <p:spPr>
            <a:xfrm>
              <a:off x="6195960" y="3929400"/>
              <a:ext cx="885960" cy="88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9999"/>
                  </a:solidFill>
                  <a:latin typeface="Arial"/>
                  <a:ea typeface="Traditional Arabic"/>
                </a:rPr>
                <a:t>Modem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06" name="Rectangle 2"/>
          <p:cNvSpPr/>
          <p:nvPr/>
        </p:nvSpPr>
        <p:spPr>
          <a:xfrm>
            <a:off x="914400" y="380880"/>
            <a:ext cx="70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80880" indent="-380880">
              <a:lnSpc>
                <a:spcPct val="6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Structure of a PLC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C6D3-3C42-4562-9D3C-644E6519C356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80880" indent="0" algn="just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PLC main component: the processor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6934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026"/>
          <p:cNvSpPr/>
          <p:nvPr/>
        </p:nvSpPr>
        <p:spPr>
          <a:xfrm>
            <a:off x="420840" y="368280"/>
            <a:ext cx="84391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PLC Operating Cycle: the scanning method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1" name="Rectangle 1027"/>
          <p:cNvSpPr/>
          <p:nvPr/>
        </p:nvSpPr>
        <p:spPr>
          <a:xfrm>
            <a:off x="533520" y="1235160"/>
            <a:ext cx="7759440" cy="54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2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An “Executive” program tells the PLC to: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1250"/>
              </a:spcBef>
              <a:buClr>
                <a:srgbClr val="1f1f0b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1f1f0b"/>
                </a:solidFill>
                <a:latin typeface="Times New Roman"/>
              </a:rPr>
              <a:t>Input Scan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0b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1f1f0b"/>
                </a:solidFill>
                <a:latin typeface="Times New Roman"/>
              </a:rPr>
              <a:t>Scan the state of the Input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1250"/>
              </a:spcBef>
              <a:buClr>
                <a:srgbClr val="1f1f0b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1f1f0b"/>
                </a:solidFill>
                <a:latin typeface="Times New Roman"/>
              </a:rPr>
              <a:t>Program Scan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0b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1f1f0b"/>
                </a:solidFill>
                <a:latin typeface="Times New Roman"/>
              </a:rPr>
              <a:t>Processes the program log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1250"/>
              </a:spcBef>
              <a:buClr>
                <a:srgbClr val="1f1f0b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1f1f0b"/>
                </a:solidFill>
                <a:latin typeface="Times New Roman"/>
              </a:rPr>
              <a:t>Output Scan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0b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1f1f0b"/>
                </a:solidFill>
                <a:latin typeface="Times New Roman"/>
              </a:rPr>
              <a:t>Activate/de-activate the output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1250"/>
              </a:spcBef>
              <a:buClr>
                <a:srgbClr val="1f1f0b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1f1f0b"/>
                </a:solidFill>
                <a:latin typeface="Times New Roman"/>
              </a:rPr>
              <a:t>Housekeeping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0b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1f1f0b"/>
                </a:solidFill>
                <a:latin typeface="Times New Roman"/>
              </a:rPr>
              <a:t>This step includes communications, Internal Diagnostics, etc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380880" indent="-380880" algn="just">
              <a:lnSpc>
                <a:spcPct val="12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teps are continually repeated - processed in a loo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380880" indent="-380880" algn="just">
              <a:lnSpc>
                <a:spcPct val="12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is program is stored in “non volatile” memory meaning that the program will not be lost if power is removed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12" name="Picture 3" descr=""/>
          <p:cNvPicPr/>
          <p:nvPr/>
        </p:nvPicPr>
        <p:blipFill>
          <a:blip r:embed="rId1"/>
          <a:stretch/>
        </p:blipFill>
        <p:spPr>
          <a:xfrm>
            <a:off x="6656400" y="1295280"/>
            <a:ext cx="2182680" cy="2995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83C0-2232-418C-A1B1-76D9FC613BD4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69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"/>
              </a:rPr>
              <a:t>Data Flow in the PLC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467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4572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3657600" y="1981080"/>
            <a:ext cx="1630440" cy="43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835760" cy="474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9966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0b"/>
                </a:solidFill>
                <a:latin typeface="Arial"/>
              </a:rPr>
              <a:t>Quantity, Type and Location of I/O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66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0b"/>
                </a:solidFill>
                <a:latin typeface="Arial"/>
              </a:rPr>
              <a:t>Number of Inputs and output points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66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0b"/>
                </a:solidFill>
                <a:latin typeface="Arial"/>
              </a:rPr>
              <a:t>AC or DC voltag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66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0b"/>
                </a:solidFill>
                <a:latin typeface="Arial"/>
              </a:rPr>
              <a:t>Analog or Discret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66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0b"/>
                </a:solidFill>
                <a:latin typeface="Arial"/>
              </a:rPr>
              <a:t>Concentrated or spread out (distributed)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9966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0b"/>
                </a:solidFill>
                <a:latin typeface="Arial"/>
              </a:rPr>
              <a:t>Communication Requirement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66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0b"/>
                </a:solidFill>
                <a:latin typeface="Arial"/>
              </a:rPr>
              <a:t>Protocol/Network used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66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0b"/>
                </a:solidFill>
                <a:latin typeface="Arial"/>
              </a:rPr>
              <a:t>Devices to communicate with (HMI, other PLCs, etc)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9966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0b"/>
                </a:solidFill>
                <a:latin typeface="Arial"/>
              </a:rPr>
              <a:t>Speed of Applicat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66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0b"/>
                </a:solidFill>
                <a:latin typeface="Arial"/>
              </a:rPr>
              <a:t>Response time required (throughput) of the system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66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0b"/>
                </a:solidFill>
                <a:latin typeface="Arial"/>
              </a:rPr>
              <a:t>How fast does the process chang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380880" y="380880"/>
            <a:ext cx="8439120" cy="666720"/>
          </a:xfrm>
          <a:prstGeom prst="rect">
            <a:avLst/>
          </a:prstGeom>
          <a:noFill/>
          <a:ln w="12600">
            <a:solidFill>
              <a:srgbClr val="33996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at you need to know when specifying a PLC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835760" cy="474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0b"/>
                </a:solidFill>
                <a:latin typeface="Arial"/>
              </a:rPr>
              <a:t>Control Architecture Philosoph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0b"/>
                </a:solidFill>
                <a:latin typeface="Arial"/>
              </a:rPr>
              <a:t>Centralized Control, Distributed Control or combination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0b"/>
                </a:solidFill>
                <a:latin typeface="Arial"/>
              </a:rPr>
              <a:t>Redundancy - CPUs, Power Supplies, etc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0b"/>
                </a:solidFill>
                <a:latin typeface="Arial"/>
              </a:rPr>
              <a:t>Programming Softwar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0b"/>
                </a:solidFill>
                <a:latin typeface="Arial"/>
              </a:rPr>
              <a:t>IEC vs. 984 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0b"/>
                </a:solidFill>
                <a:latin typeface="Arial"/>
              </a:rPr>
              <a:t>Installed base / what is currently being used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0b"/>
                </a:solidFill>
                <a:latin typeface="Arial"/>
              </a:rPr>
              <a:t>User Logic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0b"/>
                </a:solidFill>
                <a:latin typeface="Arial"/>
              </a:rPr>
              <a:t>Size and complexity of Program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0b"/>
                </a:solidFill>
                <a:latin typeface="Arial"/>
              </a:rPr>
              <a:t>Feedback control used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0b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380880" y="380880"/>
            <a:ext cx="8439120" cy="666720"/>
          </a:xfrm>
          <a:prstGeom prst="rect">
            <a:avLst/>
          </a:prstGeom>
          <a:noFill/>
          <a:ln w="12600">
            <a:solidFill>
              <a:srgbClr val="33996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at you need to know when specifying a PLC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3324-5E0F-466D-A737-72A7F00FC065}" type="slidenum">
              <a:rPr b="0" lang="en-CA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2057400" y="2666880"/>
            <a:ext cx="5846760" cy="25750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3"/>
          <p:cNvSpPr/>
          <p:nvPr/>
        </p:nvSpPr>
        <p:spPr>
          <a:xfrm>
            <a:off x="4709160" y="5622840"/>
            <a:ext cx="94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2400" spc="-1" strike="noStrike">
                <a:solidFill>
                  <a:srgbClr val="009999"/>
                </a:solidFill>
                <a:latin typeface="Times New Roman"/>
              </a:rPr>
              <a:t>Inpu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3409920" y="1736640"/>
            <a:ext cx="3260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2400" spc="-1" strike="noStrike">
                <a:solidFill>
                  <a:srgbClr val="009999"/>
                </a:solidFill>
                <a:latin typeface="Times New Roman"/>
              </a:rPr>
              <a:t>Outputs &amp; Power Suppl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 rot="16200000">
            <a:off x="56520" y="3562200"/>
            <a:ext cx="215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2400" spc="-1" strike="noStrike">
                <a:solidFill>
                  <a:srgbClr val="009999"/>
                </a:solidFill>
                <a:latin typeface="Times New Roman"/>
              </a:rPr>
              <a:t>Communica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2400" spc="-1" strike="noStrike">
                <a:solidFill>
                  <a:srgbClr val="009999"/>
                </a:solidFill>
                <a:latin typeface="Times New Roman"/>
              </a:rPr>
              <a:t>Ports (RS-485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Line 6"/>
          <p:cNvSpPr/>
          <p:nvPr/>
        </p:nvSpPr>
        <p:spPr>
          <a:xfrm flipH="1" flipV="1">
            <a:off x="4190760" y="4876920"/>
            <a:ext cx="990360" cy="761760"/>
          </a:xfrm>
          <a:prstGeom prst="line">
            <a:avLst/>
          </a:prstGeom>
          <a:ln w="38160">
            <a:solidFill>
              <a:srgbClr val="cce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5334120" y="4876920"/>
            <a:ext cx="1218960" cy="761760"/>
          </a:xfrm>
          <a:prstGeom prst="line">
            <a:avLst/>
          </a:prstGeom>
          <a:ln w="38160">
            <a:solidFill>
              <a:srgbClr val="cce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5410080" y="2133720"/>
            <a:ext cx="1067040" cy="533160"/>
          </a:xfrm>
          <a:prstGeom prst="line">
            <a:avLst/>
          </a:prstGeom>
          <a:ln w="38160">
            <a:solidFill>
              <a:srgbClr val="cce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Line 9"/>
          <p:cNvSpPr/>
          <p:nvPr/>
        </p:nvSpPr>
        <p:spPr>
          <a:xfrm flipH="1">
            <a:off x="4190760" y="2133720"/>
            <a:ext cx="1066680" cy="533160"/>
          </a:xfrm>
          <a:prstGeom prst="line">
            <a:avLst/>
          </a:prstGeom>
          <a:ln w="38160">
            <a:solidFill>
              <a:srgbClr val="cce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Line 10"/>
          <p:cNvSpPr/>
          <p:nvPr/>
        </p:nvSpPr>
        <p:spPr>
          <a:xfrm flipV="1">
            <a:off x="1600200" y="3505320"/>
            <a:ext cx="838080" cy="457200"/>
          </a:xfrm>
          <a:prstGeom prst="line">
            <a:avLst/>
          </a:prstGeom>
          <a:ln w="38160">
            <a:solidFill>
              <a:srgbClr val="cce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1600200" y="3962520"/>
            <a:ext cx="762120" cy="380880"/>
          </a:xfrm>
          <a:prstGeom prst="line">
            <a:avLst/>
          </a:prstGeom>
          <a:ln w="38160">
            <a:solidFill>
              <a:srgbClr val="cce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704880" y="85680"/>
            <a:ext cx="70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Schematic of a PLC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5"/>
          <p:cNvSpPr/>
          <p:nvPr/>
        </p:nvSpPr>
        <p:spPr>
          <a:xfrm>
            <a:off x="1017720" y="1235160"/>
            <a:ext cx="333828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buClr>
                <a:srgbClr val="1f1f0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1f1f0b"/>
                </a:solidFill>
                <a:latin typeface="Times New Roman"/>
              </a:rPr>
              <a:t>Switches and Push buttons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1f1f0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1f1f0b"/>
                </a:solidFill>
                <a:latin typeface="Times New Roman"/>
              </a:rPr>
              <a:t>Sensing Devices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1f1f0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1f1f0b"/>
                </a:solidFill>
                <a:latin typeface="Times New Roman"/>
              </a:rPr>
              <a:t>Limit Switches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1f1f0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1f1f0b"/>
                </a:solidFill>
                <a:latin typeface="Times New Roman"/>
              </a:rPr>
              <a:t>Photoelectric Sensors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1f1f0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1f1f0b"/>
                </a:solidFill>
                <a:latin typeface="Times New Roman"/>
              </a:rPr>
              <a:t>Proximity Sensors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1f1f0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1f1f0b"/>
                </a:solidFill>
                <a:latin typeface="Times New Roman"/>
              </a:rPr>
              <a:t>Condition Sensors 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1f1f0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1f1f0b"/>
                </a:solidFill>
                <a:latin typeface="Times New Roman"/>
              </a:rPr>
              <a:t>Pressure Switches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1f1f0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1f1f0b"/>
                </a:solidFill>
                <a:latin typeface="Times New Roman"/>
              </a:rPr>
              <a:t>Level Switches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1f1f0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1f1f0b"/>
                </a:solidFill>
                <a:latin typeface="Times New Roman"/>
              </a:rPr>
              <a:t>Temperature Switches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1f1f0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1f1f0b"/>
                </a:solidFill>
                <a:latin typeface="Times New Roman"/>
              </a:rPr>
              <a:t>Vacuum Switches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1f1f0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1f1f0b"/>
                </a:solidFill>
                <a:latin typeface="Times New Roman"/>
              </a:rPr>
              <a:t>Float Switches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1f1f0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1f1f0b"/>
                </a:solidFill>
                <a:latin typeface="Times New Roman"/>
              </a:rPr>
              <a:t>Encoders 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32" name="Picture 26" descr="D:\Images\Float Switch.jpg"/>
          <p:cNvPicPr/>
          <p:nvPr/>
        </p:nvPicPr>
        <p:blipFill>
          <a:blip r:embed="rId1"/>
          <a:stretch/>
        </p:blipFill>
        <p:spPr>
          <a:xfrm>
            <a:off x="4532400" y="4006800"/>
            <a:ext cx="2527200" cy="946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7" descr="D:\Images\Photoelectric switch.gif"/>
          <p:cNvPicPr/>
          <p:nvPr/>
        </p:nvPicPr>
        <p:blipFill>
          <a:blip r:embed="rId2"/>
          <a:stretch/>
        </p:blipFill>
        <p:spPr>
          <a:xfrm>
            <a:off x="4495680" y="1978200"/>
            <a:ext cx="1190880" cy="1666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9" descr="D:\Images\proximity.jpg"/>
          <p:cNvPicPr/>
          <p:nvPr/>
        </p:nvPicPr>
        <p:blipFill>
          <a:blip r:embed="rId3"/>
          <a:stretch/>
        </p:blipFill>
        <p:spPr>
          <a:xfrm>
            <a:off x="6226200" y="3249720"/>
            <a:ext cx="1666800" cy="828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0" descr="D:\Images\pushbuttons3.jpg"/>
          <p:cNvPicPr/>
          <p:nvPr/>
        </p:nvPicPr>
        <p:blipFill>
          <a:blip r:embed="rId4"/>
          <a:stretch/>
        </p:blipFill>
        <p:spPr>
          <a:xfrm>
            <a:off x="6365880" y="1409760"/>
            <a:ext cx="1362240" cy="1419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1" descr="D:\Images\Incremental encoder.jpg"/>
          <p:cNvPicPr/>
          <p:nvPr/>
        </p:nvPicPr>
        <p:blipFill>
          <a:blip r:embed="rId5"/>
          <a:stretch/>
        </p:blipFill>
        <p:spPr>
          <a:xfrm>
            <a:off x="4437000" y="5111640"/>
            <a:ext cx="852480" cy="912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2" descr="D:\Images\Pressure Switch.jpg"/>
          <p:cNvPicPr/>
          <p:nvPr/>
        </p:nvPicPr>
        <p:blipFill>
          <a:blip r:embed="rId6"/>
          <a:stretch/>
        </p:blipFill>
        <p:spPr>
          <a:xfrm>
            <a:off x="7102440" y="4735440"/>
            <a:ext cx="952560" cy="11746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2"/>
          <p:cNvSpPr/>
          <p:nvPr/>
        </p:nvSpPr>
        <p:spPr>
          <a:xfrm>
            <a:off x="914400" y="38088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What are inputs?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997920" y="1235160"/>
            <a:ext cx="2535120" cy="56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1f1f0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f1f0b"/>
                </a:solidFill>
                <a:latin typeface="Times New Roman"/>
              </a:rPr>
              <a:t>Valv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1f1f0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f1f0b"/>
                </a:solidFill>
                <a:latin typeface="Times New Roman"/>
              </a:rPr>
              <a:t>Motor Starter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1f1f0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f1f0b"/>
                </a:solidFill>
                <a:latin typeface="Times New Roman"/>
              </a:rPr>
              <a:t>Solenoi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1f1f0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f1f0b"/>
                </a:solidFill>
                <a:latin typeface="Times New Roman"/>
              </a:rPr>
              <a:t>Actuator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1f1f0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f1f0b"/>
                </a:solidFill>
                <a:latin typeface="Times New Roman"/>
              </a:rPr>
              <a:t>Control Relay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1f1f0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f1f0b"/>
                </a:solidFill>
                <a:latin typeface="Times New Roman"/>
              </a:rPr>
              <a:t>Horns &amp; Alarm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1f1f0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f1f0b"/>
                </a:solidFill>
                <a:latin typeface="Times New Roman"/>
              </a:rPr>
              <a:t>Stack Ligh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1f1f0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f1f0b"/>
                </a:solidFill>
                <a:latin typeface="Times New Roman"/>
              </a:rPr>
              <a:t>Fan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1f1f0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f1f0b"/>
                </a:solidFill>
                <a:latin typeface="Times New Roman"/>
              </a:rPr>
              <a:t>Counter/Totaliz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1f1f0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f1f0b"/>
                </a:solidFill>
                <a:latin typeface="Times New Roman"/>
              </a:rPr>
              <a:t>Pump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1f1f0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0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f1f0b"/>
                </a:solidFill>
                <a:latin typeface="Times New Roman"/>
              </a:rPr>
              <a:t>Printer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40" name="Picture 4" descr="D:\Images\Stacklights.jpg"/>
          <p:cNvPicPr/>
          <p:nvPr/>
        </p:nvPicPr>
        <p:blipFill>
          <a:blip r:embed="rId1"/>
          <a:stretch/>
        </p:blipFill>
        <p:spPr>
          <a:xfrm>
            <a:off x="4229280" y="4406760"/>
            <a:ext cx="1563480" cy="1629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D:\Images\Fans.3.jpg"/>
          <p:cNvPicPr/>
          <p:nvPr/>
        </p:nvPicPr>
        <p:blipFill>
          <a:blip r:embed="rId2"/>
          <a:stretch/>
        </p:blipFill>
        <p:spPr>
          <a:xfrm>
            <a:off x="3751200" y="3090960"/>
            <a:ext cx="2063880" cy="1593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D:\Images\Manual Starters.jpg"/>
          <p:cNvPicPr/>
          <p:nvPr/>
        </p:nvPicPr>
        <p:blipFill>
          <a:blip r:embed="rId3"/>
          <a:stretch/>
        </p:blipFill>
        <p:spPr>
          <a:xfrm>
            <a:off x="5324400" y="1450800"/>
            <a:ext cx="1143000" cy="1752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D:\Images\Pulse_Valve.jpg"/>
          <p:cNvPicPr/>
          <p:nvPr/>
        </p:nvPicPr>
        <p:blipFill>
          <a:blip r:embed="rId4"/>
          <a:stretch/>
        </p:blipFill>
        <p:spPr>
          <a:xfrm>
            <a:off x="3792600" y="1095480"/>
            <a:ext cx="1289160" cy="1527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D:\Images\solenoid.jpg"/>
          <p:cNvPicPr/>
          <p:nvPr/>
        </p:nvPicPr>
        <p:blipFill>
          <a:blip r:embed="rId5"/>
          <a:stretch/>
        </p:blipFill>
        <p:spPr>
          <a:xfrm>
            <a:off x="6437160" y="3808440"/>
            <a:ext cx="2211480" cy="2127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D:\Images\totalizer.gif"/>
          <p:cNvPicPr/>
          <p:nvPr/>
        </p:nvPicPr>
        <p:blipFill>
          <a:blip r:embed="rId6"/>
          <a:stretch/>
        </p:blipFill>
        <p:spPr>
          <a:xfrm>
            <a:off x="6915240" y="1557360"/>
            <a:ext cx="1650960" cy="15588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"/>
          <p:cNvSpPr/>
          <p:nvPr/>
        </p:nvSpPr>
        <p:spPr>
          <a:xfrm>
            <a:off x="914400" y="38088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CA" sz="3600" spc="-1" strike="noStrike">
                <a:solidFill>
                  <a:srgbClr val="ff0000"/>
                </a:solidFill>
                <a:latin typeface="Arial Narrow"/>
              </a:rPr>
              <a:t>What are outputs?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numéro de diapositive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AE1A-B91B-438A-A0AA-269360D856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Commercially Available PLC’s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69644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1f0b"/>
                </a:solidFill>
                <a:latin typeface="Arial"/>
              </a:rPr>
              <a:t>A variety of PLCs are available on the market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0b"/>
                </a:solidFill>
                <a:latin typeface="Arial"/>
              </a:rPr>
              <a:t>Siemens Simatic PLC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0b"/>
                </a:solidFill>
                <a:latin typeface="Arial"/>
              </a:rPr>
              <a:t>Allen Bradley (AB) part of Rockwell Automat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0b"/>
                </a:solidFill>
                <a:latin typeface="Arial"/>
              </a:rPr>
              <a:t>Modicon TSX PLC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0b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u pied de page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Eng. R. L. Nkumbwa @ CBU 2010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" name="Espace réservé du numéro de diapositive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203E-D225-4355-8C42-A3387A5B35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Arial Narrow"/>
              </a:rPr>
              <a:t>Siemens Simatic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numéro de diapositive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E464-A140-45C2-ADFE-37A27F7F5F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Arial Narrow"/>
              </a:rPr>
              <a:t>Allen Bradley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0" y="901800"/>
            <a:ext cx="914400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FFF6-436B-4E5D-A7A5-6E1DE002F5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Arial Narrow"/>
              </a:rPr>
              <a:t>Modicon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0" y="984240"/>
            <a:ext cx="914400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9T12:06:41Z</dcterms:created>
  <dc:creator>Gage Ruan</dc:creator>
  <dc:description/>
  <dc:language>en-US</dc:language>
  <cp:lastModifiedBy>USER</cp:lastModifiedBy>
  <cp:lastPrinted>2000-03-19T07:21:04Z</cp:lastPrinted>
  <dcterms:modified xsi:type="dcterms:W3CDTF">2015-02-09T08:32:32Z</dcterms:modified>
  <cp:revision>128</cp:revision>
  <dc:subject/>
  <dc:title>Chapter 12 Machine and System Control</dc:title>
</cp:coreProperties>
</file>