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27.png" ContentType="image/png"/>
  <Override PartName="/ppt/media/image26.wmf" ContentType="image/x-wmf"/>
  <Override PartName="/ppt/media/image22.jpeg" ContentType="image/jpeg"/>
  <Override PartName="/ppt/media/image14.png" ContentType="image/png"/>
  <Override PartName="/ppt/media/image21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.png" ContentType="image/png"/>
  <Override PartName="/ppt/media/image25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440" y="-36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2882880" y="517680"/>
            <a:ext cx="3425760" cy="25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5207040" y="-36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1440" y="651312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207040" y="651312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B69C193-05B3-487E-AED0-89CDE983177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17ECBAA-CD80-4A53-AE47-DE8FFE9BBF2E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86120" y="52056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1FF47AF-4762-4A5E-9F4D-1EE2730CD40D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A111099-8C25-45C0-B3DC-092429C8B583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C5F7C01-FF48-4140-A9E4-E5A046BD37C5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FA3E1F1-5EAD-4956-A664-416E92D2C49F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20291F3-FC47-4FB1-AF4A-7A891EEA4420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34AC67B-A67B-447E-9519-5D96815BE695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77290FA-E300-4FF0-A69D-3B8256FC87D6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597DCD8-507E-4504-885C-C21F39E31887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EB4E925-96B9-45F2-AC3B-BFC3C4452FEE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DB3D546-4931-456A-92A0-29660BFEF989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D52-AAD2-4C62-A74B-F1A0D6D5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BA9-6631-4A63-B7E8-C5A7AAFE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B63-9F5B-492B-902E-F042C21E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43E-41C7-4514-B657-2AF06260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B796-67D9-4108-B0BF-B3804828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9729-E8B4-4B7D-A5EF-C3EBDF01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3AA2-FF39-4C88-9CCE-CAACE728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2F6D-6352-4C65-B446-67837D96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3CC2-008B-4EB2-A149-49E93679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497A-3E9B-4FC6-A80E-F357E4A3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8D63-1094-4039-9E84-CCC3B032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64D-24E7-43FB-B24C-8A4C25E8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45A6-4C9D-4CFF-8999-051B9E08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D0F9-FB7D-4612-A0E9-6DD40128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B924-3C4C-48F3-9B8C-A183D13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3A04-79F6-4B13-B065-C7AF3D40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856C-842F-47E0-8C51-69C6C655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7BC-7D0C-40DA-9C8C-E14A1FD7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EF1-9A6A-4828-99E1-E144E2D0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676-AA9D-453F-95A7-82DFCB4E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E65-E72B-4039-A2E2-AA7F83CB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CFD-932C-471E-AA46-DA23ED8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45F-2487-4BBA-81AD-FF11D6E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602-0D6F-456E-93E8-5FD1405D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</a:path>
              <a:path stroke="0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  <a:lnTo>
                  <a:pt x="0" y="21600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5843-EB1D-4B44-AEE7-5AC01B5AB154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1440" y="1708200"/>
            <a:ext cx="914724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</a:path>
              <a:path stroke="0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  <a:lnTo>
                  <a:pt x="0" y="21600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8E89-BAFE-42B2-A776-557DAEEDDB11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3374-981C-4C55-AB92-34D014B02D04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: Programmable Logical Controller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1. What is a PLC ?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2. Application example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3. Inputs, Outputs and Commercial PL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4. Structure and Operating cycle of a PL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5. How to choose a PLC 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ED57-854C-44C1-BBD8-46E946C34AF4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28600"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An application example 1: Gate Control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66720" y="1847520"/>
            <a:ext cx="79437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-22860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PLC can: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971640" indent="-228600" algn="just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10000"/>
                </a:solidFill>
                <a:latin typeface="Arial"/>
              </a:rPr>
              <a:t>Sense a vehicle at the entrance or exit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971640" indent="-228600" algn="just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10000"/>
                </a:solidFill>
                <a:latin typeface="Arial"/>
              </a:rPr>
              <a:t>Open and close the gate automatically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28600" indent="-22860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Vehicle count is easily determined by programming a simple coun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822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B493-F139-4BFC-8D02-913A51E579AF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28600"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An application example 2: Conveyor System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66720" y="1847520"/>
            <a:ext cx="79437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-22860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PLC can be used to start/stop latching logic for motor contr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-22860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Counters can be used for monitoring product amou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179800" y="2057400"/>
            <a:ext cx="47145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AD61-4B3E-40E0-A736-D6E18F13A69F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4118040" y="1600200"/>
            <a:ext cx="4749840" cy="46483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914400" y="3808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28600" indent="-228600">
              <a:lnSpc>
                <a:spcPct val="6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An application example 3: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228600" indent="-228600">
              <a:lnSpc>
                <a:spcPct val="6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Electric Drive (Motor) Contro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28760" y="1967040"/>
            <a:ext cx="327636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2 push button switches (Start/Stop) are used to switch the motor on/off.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se switches are connected to the PLC using 2 discrete input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One of the output ports (discrete output) of the PLC is used to switch the motor starter on/off, which will start/stop the electric motor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Old installations: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Wired relay logi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979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Modern installations: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Programmed logi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FE80-80B9-445C-9B1F-F155AAC99710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5" name="Picture 4" descr="rcds_11.jpg"/>
          <p:cNvPicPr/>
          <p:nvPr/>
        </p:nvPicPr>
        <p:blipFill>
          <a:blip r:embed="rId1"/>
          <a:stretch/>
        </p:blipFill>
        <p:spPr>
          <a:xfrm>
            <a:off x="819000" y="2602080"/>
            <a:ext cx="3524400" cy="3951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914400" y="380880"/>
            <a:ext cx="8077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Why PLCs?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7" name="Picture 2" descr="C:\Users\mikeb\Desktop\PLC_Junction_Box.JPG"/>
          <p:cNvPicPr/>
          <p:nvPr/>
        </p:nvPicPr>
        <p:blipFill>
          <a:blip r:embed="rId2"/>
          <a:stretch/>
        </p:blipFill>
        <p:spPr>
          <a:xfrm>
            <a:off x="4876920" y="2590920"/>
            <a:ext cx="3639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658A-1759-43FA-97D0-C1B4B2784588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773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Comparing traditional and programmable control system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8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91CC-2015-4518-AF77-0577A85F328D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90440"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Comparing traditional and programmable control system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97960" y="1857240"/>
            <a:ext cx="7851960" cy="484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-19044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In traditional control, the switches S1, S2 and S3 must close for K1 to be turned on -  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</a:rPr>
              <a:t>wiring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 makes the rul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90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In PLC systems, the program is written to perform the logic “when S1 is closed AND S2 is closed AND S3 is closed, THEN turn on K1” - 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program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 makes the rul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904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It i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1085760" indent="-342720" algn="just">
              <a:lnSpc>
                <a:spcPct val="11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"/>
              </a:rPr>
              <a:t>Much simpler (complexity)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1085760" indent="-342720" algn="just">
              <a:lnSpc>
                <a:spcPct val="11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"/>
              </a:rPr>
              <a:t>Much easier (difficulty)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1085760" indent="-342720" algn="just">
              <a:lnSpc>
                <a:spcPct val="11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"/>
              </a:rPr>
              <a:t>Much more reliable (fault free)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1085760" indent="-342720" algn="just">
              <a:lnSpc>
                <a:spcPct val="11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"/>
              </a:rPr>
              <a:t>Much more effective (cost and time )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1904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to change program then wiring!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7070-90C3-4662-AA08-3C3B78961045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How does a PLC differ from a computer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66360" y="1980720"/>
            <a:ext cx="77151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computer is optimized for calculation and display task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computer is more user focused and user friendly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Not necessarily real tim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PLC is more task/process oriented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PLC is designed for (logic) control and regulation task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PLC has to operate in real tim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PLC is well adapted to industrial environmen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8BA-6257-4D0A-93B3-BF541420B7C5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Advantages of PLC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PLCs have significant advantages over traditional control systems based on relay or pneuma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y are cost-effectiv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y are flexible, reliable and compac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Can be used in every industry where automation is involved, from individual machines to whole process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E7E6-4ED5-4EC1-8A5C-A0AFEB198AE5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What tasks do PLCs perform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Logic control tasks: interlocking, sequencing, timing and counting (previously undertaken with relays or pneumatic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A variety of calculation, communication and monitoring task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BC62-F3B7-4413-B60F-3A2DE44A3148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80880"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Structure of a PL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410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0880" y="380880"/>
            <a:ext cx="84391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What is a PLC?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51760" y="2552760"/>
            <a:ext cx="2818440" cy="761760"/>
            <a:chOff x="851760" y="2552760"/>
            <a:chExt cx="2818440" cy="761760"/>
          </a:xfrm>
        </p:grpSpPr>
        <p:grpSp>
          <p:nvGrpSpPr>
            <p:cNvPr id="97" name="Group 4"/>
            <p:cNvGrpSpPr/>
            <p:nvPr/>
          </p:nvGrpSpPr>
          <p:grpSpPr>
            <a:xfrm>
              <a:off x="2374920" y="2552760"/>
              <a:ext cx="1295280" cy="761760"/>
              <a:chOff x="2374920" y="2552760"/>
              <a:chExt cx="1295280" cy="761760"/>
            </a:xfrm>
          </p:grpSpPr>
          <p:sp>
            <p:nvSpPr>
              <p:cNvPr id="98" name="Line 5"/>
              <p:cNvSpPr/>
              <p:nvPr/>
            </p:nvSpPr>
            <p:spPr>
              <a:xfrm>
                <a:off x="2374920" y="255276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" name="Line 6"/>
              <p:cNvSpPr/>
              <p:nvPr/>
            </p:nvSpPr>
            <p:spPr>
              <a:xfrm>
                <a:off x="2374920" y="270504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>
                <a:off x="2374920" y="285732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>
                <a:off x="2374920" y="300960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" name="Line 9"/>
              <p:cNvSpPr/>
              <p:nvPr/>
            </p:nvSpPr>
            <p:spPr>
              <a:xfrm>
                <a:off x="2374920" y="316224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3" name="Line 10"/>
              <p:cNvSpPr/>
              <p:nvPr/>
            </p:nvSpPr>
            <p:spPr>
              <a:xfrm>
                <a:off x="2374920" y="331452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"/>
            <p:cNvSpPr/>
            <p:nvPr/>
          </p:nvSpPr>
          <p:spPr>
            <a:xfrm>
              <a:off x="851760" y="2552760"/>
              <a:ext cx="140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99"/>
                  </a:solidFill>
                  <a:latin typeface="Times New Roman"/>
                </a:rPr>
                <a:t>Inputs</a:t>
              </a:r>
              <a:endParaRPr b="0" lang="en-US" sz="3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5270400" y="2552760"/>
            <a:ext cx="3103560" cy="762120"/>
            <a:chOff x="5270400" y="2552760"/>
            <a:chExt cx="3103560" cy="762120"/>
          </a:xfrm>
        </p:grpSpPr>
        <p:grpSp>
          <p:nvGrpSpPr>
            <p:cNvPr id="106" name="Group 13"/>
            <p:cNvGrpSpPr/>
            <p:nvPr/>
          </p:nvGrpSpPr>
          <p:grpSpPr>
            <a:xfrm>
              <a:off x="5270400" y="2552760"/>
              <a:ext cx="1295280" cy="762120"/>
              <a:chOff x="5270400" y="2552760"/>
              <a:chExt cx="1295280" cy="762120"/>
            </a:xfrm>
          </p:grpSpPr>
          <p:sp>
            <p:nvSpPr>
              <p:cNvPr id="107" name="Line 14"/>
              <p:cNvSpPr/>
              <p:nvPr/>
            </p:nvSpPr>
            <p:spPr>
              <a:xfrm>
                <a:off x="5270400" y="255276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5270400" y="270540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5270400" y="285768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" name="Line 17"/>
              <p:cNvSpPr/>
              <p:nvPr/>
            </p:nvSpPr>
            <p:spPr>
              <a:xfrm>
                <a:off x="5270400" y="300996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" name="Line 18"/>
              <p:cNvSpPr/>
              <p:nvPr/>
            </p:nvSpPr>
            <p:spPr>
              <a:xfrm>
                <a:off x="5270400" y="316260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" name="Line 19"/>
              <p:cNvSpPr/>
              <p:nvPr/>
            </p:nvSpPr>
            <p:spPr>
              <a:xfrm>
                <a:off x="5270400" y="331488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13" name="Text Box 20"/>
            <p:cNvSpPr/>
            <p:nvPr/>
          </p:nvSpPr>
          <p:spPr>
            <a:xfrm>
              <a:off x="6693480" y="2629080"/>
              <a:ext cx="168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99"/>
                  </a:solidFill>
                  <a:latin typeface="Times New Roman"/>
                </a:rPr>
                <a:t>Outputs</a:t>
              </a:r>
              <a:endParaRPr b="0" lang="en-US" sz="3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4" name="Rectangle 22"/>
          <p:cNvSpPr/>
          <p:nvPr/>
        </p:nvSpPr>
        <p:spPr>
          <a:xfrm>
            <a:off x="577800" y="4114800"/>
            <a:ext cx="8066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Times New Roman"/>
              </a:rPr>
              <a:t>PLC -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CA" sz="2400" spc="-1" strike="noStrike">
                <a:solidFill>
                  <a:srgbClr val="010000"/>
                </a:solidFill>
                <a:latin typeface="Times New Roman"/>
              </a:rPr>
              <a:t>rogrammable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CA" sz="2400" spc="-1" strike="noStrike">
                <a:solidFill>
                  <a:srgbClr val="010000"/>
                </a:solidFill>
                <a:latin typeface="Times New Roman"/>
              </a:rPr>
              <a:t>ogic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CA" sz="2400" spc="-1" strike="noStrike">
                <a:solidFill>
                  <a:srgbClr val="010000"/>
                </a:solidFill>
                <a:latin typeface="Times New Roman"/>
              </a:rPr>
              <a:t>ontroller</a:t>
            </a:r>
            <a:r>
              <a:rPr b="0" lang="ar-SA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10000"/>
                </a:solidFill>
                <a:latin typeface="Times New Roman"/>
              </a:rPr>
              <a:t>متحكم منطقي مبرمج</a:t>
            </a:r>
            <a:r>
              <a:rPr b="1" lang="ar-SA" sz="20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C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is a digital (discrete) control system that continuously monitors the status of devices connected as inputs.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Based upon a user written program, stored in memory, it controls the status of devices connected as output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3724200" y="1905120"/>
            <a:ext cx="1447920" cy="19047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4105440" y="2438280"/>
          <a:ext cx="630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5440" y="2438280"/>
                    <a:ext cx="630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25"/>
          <p:cNvSpPr/>
          <p:nvPr/>
        </p:nvSpPr>
        <p:spPr>
          <a:xfrm>
            <a:off x="4089600" y="14335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PL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10CC-30C3-44C0-A48C-07BF47F61CDD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447920" y="2514600"/>
            <a:ext cx="5943600" cy="2438280"/>
            <a:chOff x="1447920" y="2514600"/>
            <a:chExt cx="5943600" cy="2438280"/>
          </a:xfrm>
        </p:grpSpPr>
        <p:sp>
          <p:nvSpPr>
            <p:cNvPr id="198" name="Rectangle 4"/>
            <p:cNvSpPr/>
            <p:nvPr/>
          </p:nvSpPr>
          <p:spPr>
            <a:xfrm>
              <a:off x="5594400" y="2788560"/>
              <a:ext cx="1375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pic>
          <p:nvPicPr>
            <p:cNvPr id="199" name="Picture 5" descr=""/>
            <p:cNvPicPr/>
            <p:nvPr/>
          </p:nvPicPr>
          <p:blipFill>
            <a:blip r:embed="rId1"/>
            <a:stretch/>
          </p:blipFill>
          <p:spPr>
            <a:xfrm>
              <a:off x="1447920" y="2619000"/>
              <a:ext cx="3801960" cy="230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6"/>
            <p:cNvSpPr/>
            <p:nvPr/>
          </p:nvSpPr>
          <p:spPr>
            <a:xfrm>
              <a:off x="5258160" y="2756160"/>
              <a:ext cx="885960" cy="88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Analo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Inpu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5248080" y="3927600"/>
              <a:ext cx="885960" cy="88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Analo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Oupu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Rectangle 8"/>
            <p:cNvSpPr/>
            <p:nvPr/>
          </p:nvSpPr>
          <p:spPr>
            <a:xfrm>
              <a:off x="1447920" y="2514600"/>
              <a:ext cx="5943600" cy="243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3481920" y="2654640"/>
              <a:ext cx="3771000" cy="2216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Text Box 10"/>
            <p:cNvSpPr/>
            <p:nvPr/>
          </p:nvSpPr>
          <p:spPr>
            <a:xfrm>
              <a:off x="6205680" y="2776320"/>
              <a:ext cx="885960" cy="88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Networking modu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Text Box 11"/>
            <p:cNvSpPr/>
            <p:nvPr/>
          </p:nvSpPr>
          <p:spPr>
            <a:xfrm>
              <a:off x="6195960" y="3929400"/>
              <a:ext cx="885960" cy="88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Modem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06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80880" indent="-380880">
              <a:lnSpc>
                <a:spcPct val="6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Structure of a PLC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3FE8-3D30-4C7D-967C-F4A9D41AFD88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80880" indent="0" algn="just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 main component: the processor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3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26"/>
          <p:cNvSpPr/>
          <p:nvPr/>
        </p:nvSpPr>
        <p:spPr>
          <a:xfrm>
            <a:off x="420840" y="368280"/>
            <a:ext cx="84391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PLC Operating Cycle: the scanning method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Rectangle 1027"/>
          <p:cNvSpPr/>
          <p:nvPr/>
        </p:nvSpPr>
        <p:spPr>
          <a:xfrm>
            <a:off x="533520" y="1235160"/>
            <a:ext cx="7759440" cy="54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2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An “Executive” program tells the PLC to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250"/>
              </a:spcBef>
              <a:buClr>
                <a:srgbClr val="1f1f0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Input Sca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Scan the state of the Input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250"/>
              </a:spcBef>
              <a:buClr>
                <a:srgbClr val="1f1f0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Program Sca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Processes the program log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250"/>
              </a:spcBef>
              <a:buClr>
                <a:srgbClr val="1f1f0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Output Sca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Activate/de-activate the output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250"/>
              </a:spcBef>
              <a:buClr>
                <a:srgbClr val="1f1f0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Housekeeping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This step includes communications, Internal Diagnostics, etc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teps are continually repeated - processed in a loo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is program is stored in “non volatile” memory meaning that the program will not be lost if power is remove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6656400" y="1295280"/>
            <a:ext cx="2182680" cy="299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D435-491D-4E49-A8C1-5B781B81E1AA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Data Flow in the PL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163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83576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Quantity, Type and Location of I/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Number of Inputs and output point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AC or DC voltag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Analog or Discre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Concentrated or spread out (distributed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Communication Requirem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Protocol/Network used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Devices to communicate with (HMI, other PLCs, etc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Speed of Applic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Response time required (throughput) of the system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How fast does the process chang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0880" y="380880"/>
            <a:ext cx="8439120" cy="666720"/>
          </a:xfrm>
          <a:prstGeom prst="rect">
            <a:avLst/>
          </a:prstGeom>
          <a:noFill/>
          <a:ln w="12600">
            <a:solidFill>
              <a:srgbClr val="33996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you need to know when specifying a PLC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83576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Control Architecture Philosoph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Centralized Control, Distributed Control or combin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Redundancy - CPUs, Power Supplies, etc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Programming Softwa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IEC vs. 984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Installed base / what is currently being used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User Logi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Size and complexity of Program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Feedback control used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80880" y="380880"/>
            <a:ext cx="8439120" cy="666720"/>
          </a:xfrm>
          <a:prstGeom prst="rect">
            <a:avLst/>
          </a:prstGeom>
          <a:noFill/>
          <a:ln w="12600">
            <a:solidFill>
              <a:srgbClr val="33996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you need to know when specifying a PLC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2F02-50FA-4879-8B60-B7E90081FE39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846760" cy="2575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4709160" y="562284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409920" y="1736640"/>
            <a:ext cx="326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Times New Roman"/>
              </a:rPr>
              <a:t>Outputs &amp; Power Suppl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 rot="16200000">
            <a:off x="56520" y="3562200"/>
            <a:ext cx="215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Times New Roman"/>
              </a:rPr>
              <a:t>Ports (RS-485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Line 6"/>
          <p:cNvSpPr/>
          <p:nvPr/>
        </p:nvSpPr>
        <p:spPr>
          <a:xfrm flipH="1" flipV="1">
            <a:off x="4190760" y="4876920"/>
            <a:ext cx="990360" cy="76176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34120" y="4876920"/>
            <a:ext cx="1218960" cy="76176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5410080" y="2133720"/>
            <a:ext cx="1067040" cy="53316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 flipH="1">
            <a:off x="4190760" y="2133720"/>
            <a:ext cx="1066680" cy="53316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1600200" y="3505320"/>
            <a:ext cx="838080" cy="45720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1600200" y="3962520"/>
            <a:ext cx="762120" cy="38088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704880" y="856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Schematic of a PLC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5"/>
          <p:cNvSpPr/>
          <p:nvPr/>
        </p:nvSpPr>
        <p:spPr>
          <a:xfrm>
            <a:off x="1017720" y="1235160"/>
            <a:ext cx="33382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Switches and Push button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Sensing Devic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Limit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Photoelectric Sensor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Proximity Sensor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Condition Sensors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Pressure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Level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Temperature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Vacuum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Float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Encoders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2" name="Picture 26" descr="D:\Images\Float Switch.jpg"/>
          <p:cNvPicPr/>
          <p:nvPr/>
        </p:nvPicPr>
        <p:blipFill>
          <a:blip r:embed="rId1"/>
          <a:stretch/>
        </p:blipFill>
        <p:spPr>
          <a:xfrm>
            <a:off x="4532400" y="4006800"/>
            <a:ext cx="252720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D:\Images\Photoelectric switch.gif"/>
          <p:cNvPicPr/>
          <p:nvPr/>
        </p:nvPicPr>
        <p:blipFill>
          <a:blip r:embed="rId2"/>
          <a:stretch/>
        </p:blipFill>
        <p:spPr>
          <a:xfrm>
            <a:off x="4495680" y="1978200"/>
            <a:ext cx="1190880" cy="166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D:\Images\proximity.jpg"/>
          <p:cNvPicPr/>
          <p:nvPr/>
        </p:nvPicPr>
        <p:blipFill>
          <a:blip r:embed="rId3"/>
          <a:stretch/>
        </p:blipFill>
        <p:spPr>
          <a:xfrm>
            <a:off x="6226200" y="3249720"/>
            <a:ext cx="1666800" cy="8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0" descr="D:\Images\pushbuttons3.jpg"/>
          <p:cNvPicPr/>
          <p:nvPr/>
        </p:nvPicPr>
        <p:blipFill>
          <a:blip r:embed="rId4"/>
          <a:stretch/>
        </p:blipFill>
        <p:spPr>
          <a:xfrm>
            <a:off x="6365880" y="1409760"/>
            <a:ext cx="1362240" cy="1419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D:\Images\Incremental encoder.jpg"/>
          <p:cNvPicPr/>
          <p:nvPr/>
        </p:nvPicPr>
        <p:blipFill>
          <a:blip r:embed="rId5"/>
          <a:stretch/>
        </p:blipFill>
        <p:spPr>
          <a:xfrm>
            <a:off x="4437000" y="5111640"/>
            <a:ext cx="852480" cy="91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D:\Images\Pressure Switch.jpg"/>
          <p:cNvPicPr/>
          <p:nvPr/>
        </p:nvPicPr>
        <p:blipFill>
          <a:blip r:embed="rId6"/>
          <a:stretch/>
        </p:blipFill>
        <p:spPr>
          <a:xfrm>
            <a:off x="7102440" y="4735440"/>
            <a:ext cx="952560" cy="1174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914400" y="380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What are inputs?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997920" y="1235160"/>
            <a:ext cx="25351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Valv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Motor Starter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Solenoi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Actuator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Control Relay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Horns &amp; Alarm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Stack Ligh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Fa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Counter/Totaliz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Pump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Printer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0" name="Picture 4" descr="D:\Images\Stacklights.jpg"/>
          <p:cNvPicPr/>
          <p:nvPr/>
        </p:nvPicPr>
        <p:blipFill>
          <a:blip r:embed="rId1"/>
          <a:stretch/>
        </p:blipFill>
        <p:spPr>
          <a:xfrm>
            <a:off x="4229280" y="4406760"/>
            <a:ext cx="1563480" cy="162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:\Images\Fans.3.jpg"/>
          <p:cNvPicPr/>
          <p:nvPr/>
        </p:nvPicPr>
        <p:blipFill>
          <a:blip r:embed="rId2"/>
          <a:stretch/>
        </p:blipFill>
        <p:spPr>
          <a:xfrm>
            <a:off x="3751200" y="3090960"/>
            <a:ext cx="2063880" cy="159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D:\Images\Manual Starters.jpg"/>
          <p:cNvPicPr/>
          <p:nvPr/>
        </p:nvPicPr>
        <p:blipFill>
          <a:blip r:embed="rId3"/>
          <a:stretch/>
        </p:blipFill>
        <p:spPr>
          <a:xfrm>
            <a:off x="5324400" y="1450800"/>
            <a:ext cx="1143000" cy="1752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D:\Images\Pulse_Valve.jpg"/>
          <p:cNvPicPr/>
          <p:nvPr/>
        </p:nvPicPr>
        <p:blipFill>
          <a:blip r:embed="rId4"/>
          <a:stretch/>
        </p:blipFill>
        <p:spPr>
          <a:xfrm>
            <a:off x="3792600" y="1095480"/>
            <a:ext cx="1289160" cy="1527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D:\Images\solenoid.jpg"/>
          <p:cNvPicPr/>
          <p:nvPr/>
        </p:nvPicPr>
        <p:blipFill>
          <a:blip r:embed="rId5"/>
          <a:stretch/>
        </p:blipFill>
        <p:spPr>
          <a:xfrm>
            <a:off x="6437160" y="3808440"/>
            <a:ext cx="2211480" cy="212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D:\Images\totalizer.gif"/>
          <p:cNvPicPr/>
          <p:nvPr/>
        </p:nvPicPr>
        <p:blipFill>
          <a:blip r:embed="rId6"/>
          <a:stretch/>
        </p:blipFill>
        <p:spPr>
          <a:xfrm>
            <a:off x="6915240" y="1557360"/>
            <a:ext cx="1650960" cy="1558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914400" y="380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What are outputs?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9618-E47E-4E14-AA5B-9DC68FD1F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Commercially Available PLC’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9644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f0b"/>
                </a:solidFill>
                <a:latin typeface="Arial"/>
              </a:rPr>
              <a:t>A variety of PLCs are available on the marke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Siemens Simatic PL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Allen Bradley (AB) part of Rockwell Autom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Modicon TSX PL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Eng. R. L. Nkumbwa @ CBU 2010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4497-163D-4285-AED0-EDCDF65ED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 Narrow"/>
              </a:rPr>
              <a:t>Siemens Simati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E8A0-9FFE-44CF-8B2B-0EC21633A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 Narrow"/>
              </a:rPr>
              <a:t>Allen Bradley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EAC1-6C13-4716-86EF-653A0734BA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 Narrow"/>
              </a:rPr>
              <a:t>Modicon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98424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2:06:41Z</dcterms:created>
  <dc:creator>Gage Ruan</dc:creator>
  <dc:description/>
  <dc:language>en-US</dc:language>
  <cp:lastModifiedBy>USER</cp:lastModifiedBy>
  <cp:lastPrinted>2000-03-19T07:21:04Z</cp:lastPrinted>
  <dcterms:modified xsi:type="dcterms:W3CDTF">2015-02-09T08:32:32Z</dcterms:modified>
  <cp:revision>128</cp:revision>
  <dc:subject/>
  <dc:title>Chapter 12 Machine and System Control</dc:title>
</cp:coreProperties>
</file>