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3155-05EE-40E6-BE12-A0CBB4C42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5E03-80F9-4C43-B3AF-8ABBB2C6A66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761D-C5B0-41F0-8ACE-CE78E0076E1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40AF-7574-4B48-8DD9-136BF2B4900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6157-9CC6-4F37-BC47-4FD80197B81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9C66-8098-4CC1-A880-D39A3F88BF0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07C3-BF8A-443A-B7A0-5DDD267CA99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3"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E7C7-783B-4CED-BD03-0BBF11962B5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4C30-4547-4880-BE99-A552A890743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8B7A-E9B6-4E43-9E2F-2A92615174E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3D6F-DFB3-4442-B427-60DF5093A4A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5A4A-9642-47C8-9D58-5416311B114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169D-B30B-49D7-82D5-22969A6AE5C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38E3-E541-4D8D-B1C1-4DA12624C51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24CE-4F24-42D7-A4CB-73FC3C1A45F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6546-E237-4023-B0A3-C0F7B085A56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0815-382E-4E60-ADB9-A03E94A1629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F70F-5FD0-4A4E-BED0-A16B06D7602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04C1-CBDE-4AF8-99F5-CEBAD4EC23A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99DC-0834-454F-9AF4-7B835C77642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717B65-9C58-4400-B10B-9C67CE0351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8E7702-0F38-48DF-82E6-9F1C69B7C1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A880CC-6EBF-4B46-BB19-1897992607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5D79FB-93F8-4EFF-8B77-D50CC891B3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6B2894-39B6-40FA-A5E8-562DA4E2FC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AC9B31-8604-4D5F-9C9C-AB781FA3A0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D44BCD-7AB0-43A2-BED4-7C83D94C28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6F363D-D6AC-4E3E-A543-339F4A126B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E7E32A-C748-4DA8-990E-35F3B9A1BA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83B3BF-E91C-4001-97E0-A1EB1D84D9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96D4CF-BF3A-419C-B7F0-53DBE47FE1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8A94F4-DDFE-4B7E-B5A9-3D2DBDC0FA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36B9-C12C-42E2-9FBC-74B6BA1691A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5CA6-6AB2-4972-A5AC-6598F172F20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7"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8"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BD8F-F49E-4CBF-B681-5F9D481A632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1"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2"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49"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9677-E694-4949-BCD8-C15F97BD10C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5"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6"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21E3-211E-4CEF-B58D-3816BBF69B5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49"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0"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EF7C-72D4-45B0-8381-B8C0D3C769B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3"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5"/>
                                        </p:tgtEl>
                                        <p:attrNameLst>
                                          <p:attrName>style.visibility</p:attrName>
                                        </p:attrNameLst>
                                      </p:cBhvr>
                                      <p:to>
                                        <p:strVal val="visible"/>
                                      </p:to>
                                    </p:set>
                                    <p:animEffect filter="blinds(horizontal)" transition="in">
                                      <p:cBhvr additive="repl">
                                        <p:cTn id="56" dur="500"/>
                                        <p:tgtEl>
                                          <p:spTgt spid="1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61" dur="500"/>
                                        <p:tgtEl>
                                          <p:spTgt spid="153">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64" dur="500"/>
                                        <p:tgtEl>
                                          <p:spTgt spid="153">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67" dur="500"/>
                                        <p:tgtEl>
                                          <p:spTgt spid="153">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70"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D600-E3EF-4342-B498-E7A003C252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58"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59"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230B-6FB5-4D48-A964-4401D50DAC7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3"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D115-FEF0-4A51-B223-C2ACC418E53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6"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F3AD-4B7A-4415-9F6B-92422B212F3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9"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CD6D-86BA-4ABE-AB9C-3B6D4117E87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B633-D7D9-4787-9341-C939EDAEBBB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FCC9-8AF5-4C7B-83C2-38C799C1485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07" name="Picture 7" descr=""/>
          <p:cNvPicPr/>
          <p:nvPr/>
        </p:nvPicPr>
        <p:blipFill>
          <a:blip r:embed="rId1"/>
          <a:stretch/>
        </p:blipFill>
        <p:spPr>
          <a:xfrm>
            <a:off x="757080" y="3705120"/>
            <a:ext cx="7167600" cy="1500120"/>
          </a:xfrm>
          <a:prstGeom prst="rect">
            <a:avLst/>
          </a:prstGeom>
          <a:ln w="0">
            <a:noFill/>
          </a:ln>
        </p:spPr>
      </p:pic>
      <p:pic>
        <p:nvPicPr>
          <p:cNvPr id="108"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5E66-6966-476F-B8D8-58E7882193A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12"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12"/>
                                        </p:tgtEl>
                                        <p:attrNameLst>
                                          <p:attrName>style.visibility</p:attrName>
                                        </p:attrNameLst>
                                      </p:cBhvr>
                                      <p:to>
                                        <p:strVal val="visible"/>
                                      </p:to>
                                    </p:set>
                                    <p:animEffect filter="wipe(up)" transition="in">
                                      <p:cBhvr additive="repl">
                                        <p:cTn id="3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8D43-FC9B-45E4-A4A0-A40E2509266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15" name="Picture 3" descr=""/>
          <p:cNvPicPr/>
          <p:nvPr/>
        </p:nvPicPr>
        <p:blipFill>
          <a:blip r:embed="rId1"/>
          <a:stretch/>
        </p:blipFill>
        <p:spPr>
          <a:xfrm>
            <a:off x="698400" y="2019240"/>
            <a:ext cx="8137800" cy="1047960"/>
          </a:xfrm>
          <a:prstGeom prst="rect">
            <a:avLst/>
          </a:prstGeom>
          <a:ln w="0">
            <a:noFill/>
          </a:ln>
        </p:spPr>
      </p:pic>
      <p:pic>
        <p:nvPicPr>
          <p:cNvPr id="116"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4235-22D7-4524-94F0-2BACD31DD67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9" name="Picture 9" descr=""/>
          <p:cNvPicPr/>
          <p:nvPr/>
        </p:nvPicPr>
        <p:blipFill>
          <a:blip r:embed="rId1"/>
          <a:stretch/>
        </p:blipFill>
        <p:spPr>
          <a:xfrm>
            <a:off x="838080" y="1905120"/>
            <a:ext cx="7323120" cy="723960"/>
          </a:xfrm>
          <a:prstGeom prst="rect">
            <a:avLst/>
          </a:prstGeom>
          <a:ln w="0">
            <a:noFill/>
          </a:ln>
        </p:spPr>
      </p:pic>
      <p:pic>
        <p:nvPicPr>
          <p:cNvPr id="120"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DFA6-6E8E-4066-A4D0-068B8271790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3"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24"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643B-B3B5-4F99-A4AE-E6B48502C23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br>
              <a:rPr sz="3600"/>
            </a:b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27"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9"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0"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0"/>
                                        </p:tgtEl>
                                        <p:attrNameLst>
                                          <p:attrName>style.visibility</p:attrName>
                                        </p:attrNameLst>
                                      </p:cBhvr>
                                      <p:to>
                                        <p:strVal val="visible"/>
                                      </p:to>
                                    </p:set>
                                    <p:animEffect filter="blinds(horizontal)" transition="in">
                                      <p:cBhvr additive="repl">
                                        <p:cTn id="4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BB80-6084-4391-8606-4496CE2234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3"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4" name="Picture 9" descr=""/>
          <p:cNvPicPr/>
          <p:nvPr/>
        </p:nvPicPr>
        <p:blipFill>
          <a:blip r:embed="rId1"/>
          <a:stretch/>
        </p:blipFill>
        <p:spPr>
          <a:xfrm>
            <a:off x="676440" y="4092480"/>
            <a:ext cx="2628720" cy="1836720"/>
          </a:xfrm>
          <a:prstGeom prst="rect">
            <a:avLst/>
          </a:prstGeom>
          <a:ln w="0">
            <a:noFill/>
          </a:ln>
        </p:spPr>
      </p:pic>
      <p:pic>
        <p:nvPicPr>
          <p:cNvPr id="135"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2-07T06:19:20Z</dcterms:modified>
  <cp:revision>113</cp:revision>
  <dc:subject>Freq Dist and Graphic Presentation</dc:subject>
  <dc:title>Chapter 2</dc:title>
</cp:coreProperties>
</file>