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057B-8342-4F09-ADA7-38A5C1712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C848-03A4-4755-8CC7-52E18179A7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66A8-7842-45FD-B718-1F3BE0739EA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8C32-6CC6-4A6C-A8B6-9BB3C80E7F5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2A0D-8E30-4666-BDE6-6BB5984535C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7E58-F312-4D88-AD2B-8E3D19D6805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3EBB-387D-4300-AE06-613E7808408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6B28-E6D0-4BD0-BFF6-9F4C6838A9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F9A6-9B18-4BC2-A389-A7854B3323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F60F-6275-42BD-892B-AF3A3A7DC3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8BF2-6215-4CB3-B713-BABBB95EEFD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749F-A7E6-48FD-ABD1-0FD6217D92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0753-E0DC-4FE7-A918-AED2F130CA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AF5D-8DD0-4443-B455-9D5E27D369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7CF7-796C-4B94-AB93-7F7DF368E6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D7E0-8C50-429F-A4F8-121ADBFC41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5401-CC46-4538-A9E2-FB049B5BF46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91DA-5CAB-457C-90A5-615A96CD4C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1582-5519-4DA0-8207-8E7EE04A1A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2E87-34AE-4BB3-B24D-4D251BB27E7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694048-7D86-4278-A319-9421EE36D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C157C8-AE87-4C71-ADD3-EF7E776795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2DA81B-120E-4745-981F-34A0A02DE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CB9DA7-5CA7-4229-B14E-D057CE4FA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FC35A2-EF12-44CA-8A70-4E8735E57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E500E8-1A12-4EC9-B57C-9E361D177C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C79D07-C0CE-4B4C-807A-CED988B491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52084F-A694-4615-B50C-0675B1096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2CAEF6-A6ED-4A32-9975-55F5762872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F73734-1735-49C0-8BB8-ED7512878A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1C6C7-C104-4FB8-8BFE-D0D729284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DE3F5-D758-4979-8222-9C247DB30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3B48-3ACE-4FC4-B54A-41DB81355AE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6C93-777D-4EAC-BD14-9271B1BC3E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E9AF-3EB0-4C29-9BD8-C56735889E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1DF3-3185-4C3D-8F40-049E992D61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79B0-5573-4D4C-B236-33CC095781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1F4D-67A7-49E9-AB5D-2095F46664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B4A2-85A8-4B0B-A054-7575109110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8BFE-5765-4E59-B350-1AD346D917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45EB-7F20-433E-AC4A-9C09686C6AF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C1A5-60A5-4829-A626-4409A0B68F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3071-43FE-460D-87BB-3AF6710317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8F52-223E-49C3-8D33-71FBF1D555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FBDD-AF01-4965-81BE-EC7268A8726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840E-F911-4EBA-A972-7F25215910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0614-B9A0-4E07-B71C-885A19D96B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6C81-F8EA-4B66-9504-D7DC081F9B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EDE9-F1BA-47B1-A74D-87E7C63FFE6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FD3C-FA9E-4A4D-8B49-1FC0BCCD41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1261-E01D-404D-9543-109886AD29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7T06:19:20Z</dcterms:modified>
  <cp:revision>113</cp:revision>
  <dc:subject>Freq Dist and Graphic Presentation</dc:subject>
  <dc:title>Chapter 2</dc:title>
</cp:coreProperties>
</file>