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ED319-F7E5-46C1-9B2C-1DAA4CCFD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A035D-7D2E-4D9C-948C-8B841FAF197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46A7-9AFA-436B-BC4A-EA73FA5C6D4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5766C-03D0-4BE2-8B00-32F97EEEEE5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35283-F11E-4028-A0CD-28ECB59BA23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69B93-153D-4B91-93AC-805A71D02FE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20920-2F92-45F7-899C-2B7D2DE7452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13" name="PlaceHolder 2"/>
          <p:cNvSpPr>
            <a:spLocks noGrp="1"/>
          </p:cNvSpPr>
          <p:nvPr>
            <p:ph type="sldImg"/>
          </p:nvPr>
        </p:nvSpPr>
        <p:spPr>
          <a:xfrm>
            <a:off x="1143000" y="685800"/>
            <a:ext cx="4572000" cy="34290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30BF3-BCEC-4261-831D-8AE6683EDBC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A973C-BB9A-4FE5-8FAE-2EBA6837139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0FABA-123B-4C66-BE37-3FD64F5F31D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8D170-F3ED-43C2-92C3-FF451141F4F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ACD71-57CB-45A5-B4D0-67416B279B1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8D814-DC45-41B3-9CAC-81F9E5E0618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97A25-E3CC-47AF-85EE-EA982E5EAE1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7A3B9-86D0-40E1-B41C-26B7E16CBA7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0BEAE-84F3-4E94-B1F2-A08A7CE8464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5AE9F-9DC4-408D-B55A-97A677E527E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BA1AD-4001-41A5-B53F-B432470D9FD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92"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9949F-36FA-4B90-8C2B-BB19A03DD78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95"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6FBAD-E9D3-42BD-9F83-F7330BB8AC5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21E5BD-5E35-4507-BDB3-31B1022FD6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E84F12-0174-4344-B527-84B916FEEC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83593E-B2AB-41C2-A522-CBF11CE801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0C65DB-F8B3-472A-8C11-DF4330220E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A104DB-3BE9-4EF3-8E83-4D60049408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9B43F1-228B-4039-9511-1CC16F554D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06CE0E-4BEC-4867-BAB8-A7759090BC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232749-9841-430D-B9B6-A805B30718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BC0AA1-B512-4261-ADD9-0195621B3A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30DC92-81CF-4D9C-8419-318E55B50C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57848E-ED1D-41C6-B846-524FF77EF0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7D1ED2-9BAE-454D-B15A-519ACAB0D4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2A68F-2249-4A92-9C69-65A763201E26}"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5CE77-2EC5-485A-9C70-837F2DF0E76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7"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38" name="PlaceHolder 1"/>
          <p:cNvSpPr>
            <a:spLocks noGrp="1"/>
          </p:cNvSpPr>
          <p:nvPr>
            <p:ph/>
          </p:nvPr>
        </p:nvSpPr>
        <p:spPr>
          <a:xfrm>
            <a:off x="752040" y="1904760"/>
            <a:ext cx="7209000" cy="467676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D3DB4-5920-460C-B802-46AC85A1158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0" name="PlaceHolder 1"/>
          <p:cNvSpPr>
            <a:spLocks noGrp="1"/>
          </p:cNvSpPr>
          <p:nvPr>
            <p:ph/>
          </p:nvPr>
        </p:nvSpPr>
        <p:spPr>
          <a:xfrm>
            <a:off x="837720" y="1905120"/>
            <a:ext cx="7123320" cy="46656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1"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42" name="Picture 15" descr="0212"/>
          <p:cNvPicPr/>
          <p:nvPr/>
        </p:nvPicPr>
        <p:blipFill>
          <a:blip r:embed="rId1"/>
          <a:stretch/>
        </p:blipFill>
        <p:spPr>
          <a:xfrm>
            <a:off x="2343240" y="2479680"/>
            <a:ext cx="3314520" cy="3273480"/>
          </a:xfrm>
          <a:prstGeom prst="rect">
            <a:avLst/>
          </a:prstGeom>
          <a:ln w="0">
            <a:noFill/>
          </a:ln>
        </p:spPr>
      </p:pic>
    </p:spTree>
  </p:cSld>
  <p:transition>
    <p:wipe dir="r"/>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49"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FA607-1CA9-4FA4-9392-7A3BBC32299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4" name="PlaceHolder 1"/>
          <p:cNvSpPr>
            <a:spLocks noGrp="1"/>
          </p:cNvSpPr>
          <p:nvPr>
            <p:ph/>
          </p:nvPr>
        </p:nvSpPr>
        <p:spPr>
          <a:xfrm>
            <a:off x="5067000" y="2028600"/>
            <a:ext cx="377028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5" name="AutoShape 10"/>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46" name="Picture 18" descr="0213"/>
          <p:cNvPicPr/>
          <p:nvPr/>
        </p:nvPicPr>
        <p:blipFill>
          <a:blip r:embed="rId1"/>
          <a:stretch/>
        </p:blipFill>
        <p:spPr>
          <a:xfrm>
            <a:off x="765000" y="1954080"/>
            <a:ext cx="3659400" cy="40561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8FA4F-E9D1-4EC9-9AC2-BC6C80CB87C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49" name="Rectangle 6"/>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50" name="Picture 10" descr="0214"/>
          <p:cNvPicPr/>
          <p:nvPr/>
        </p:nvPicPr>
        <p:blipFill>
          <a:blip r:embed="rId1"/>
          <a:stretch/>
        </p:blipFill>
        <p:spPr>
          <a:xfrm>
            <a:off x="1009800" y="3257640"/>
            <a:ext cx="7686360" cy="29527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F8844-2845-4A0E-BE58-C939BF633D2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53" name="PlaceHolder 1"/>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5" name="Text Box 5"/>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Tree>
  </p:cSld>
  <p:transition>
    <p:wipe dir="r"/>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55"/>
                                        </p:tgtEl>
                                        <p:attrNameLst>
                                          <p:attrName>style.visibility</p:attrName>
                                        </p:attrNameLst>
                                      </p:cBhvr>
                                      <p:to>
                                        <p:strVal val="visible"/>
                                      </p:to>
                                    </p:set>
                                    <p:animEffect filter="blinds(horizontal)" transition="in">
                                      <p:cBhvr additive="repl">
                                        <p:cTn id="56" dur="500"/>
                                        <p:tgtEl>
                                          <p:spTgt spid="155"/>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61" dur="500"/>
                                        <p:tgtEl>
                                          <p:spTgt spid="153">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64" dur="500"/>
                                        <p:tgtEl>
                                          <p:spTgt spid="153">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67" dur="500"/>
                                        <p:tgtEl>
                                          <p:spTgt spid="153">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53">
                                            <p:txEl>
                                              <p:pRg st="3" end="3"/>
                                            </p:txEl>
                                          </p:spTgt>
                                        </p:tgtEl>
                                        <p:attrNameLst>
                                          <p:attrName>style.visibility</p:attrName>
                                        </p:attrNameLst>
                                      </p:cBhvr>
                                      <p:to>
                                        <p:strVal val="visible"/>
                                      </p:to>
                                    </p:set>
                                    <p:animEffect filter="wipe(left)" transition="in">
                                      <p:cBhvr additive="repl">
                                        <p:cTn id="70"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9BA4B-6755-4D90-B190-3CE4FE4568E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58" name="Rectangle 4"/>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59" name="Picture 10" descr="0216"/>
          <p:cNvPicPr/>
          <p:nvPr/>
        </p:nvPicPr>
        <p:blipFill>
          <a:blip r:embed="rId1"/>
          <a:stretch/>
        </p:blipFill>
        <p:spPr>
          <a:xfrm>
            <a:off x="2295360" y="3914640"/>
            <a:ext cx="4819680" cy="261936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BB3F1-935D-4FA5-9920-3CA60757BFD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62" name="PlaceHolder 1"/>
          <p:cNvSpPr>
            <a:spLocks noGrp="1"/>
          </p:cNvSpPr>
          <p:nvPr>
            <p:ph/>
          </p:nvPr>
        </p:nvSpPr>
        <p:spPr>
          <a:xfrm>
            <a:off x="838080" y="1904760"/>
            <a:ext cx="320832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3" name="Picture 12" descr="0218"/>
          <p:cNvPicPr/>
          <p:nvPr/>
        </p:nvPicPr>
        <p:blipFill>
          <a:blip r:embed="rId1"/>
          <a:stretch/>
        </p:blipFill>
        <p:spPr>
          <a:xfrm>
            <a:off x="4467240" y="1952640"/>
            <a:ext cx="4248000" cy="454356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8A3C7-B97B-4E75-BFBD-D66ECE3814C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66" name="Picture 8" descr="0219"/>
          <p:cNvPicPr/>
          <p:nvPr/>
        </p:nvPicPr>
        <p:blipFill>
          <a:blip r:embed="rId1"/>
          <a:stretch/>
        </p:blipFill>
        <p:spPr>
          <a:xfrm>
            <a:off x="1028880" y="2314440"/>
            <a:ext cx="7581600" cy="316260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08AED-75D6-4528-8E7B-C7070B0A402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69" name="Picture 8" descr="0220"/>
          <p:cNvPicPr/>
          <p:nvPr/>
        </p:nvPicPr>
        <p:blipFill>
          <a:blip r:embed="rId1"/>
          <a:stretch/>
        </p:blipFill>
        <p:spPr>
          <a:xfrm>
            <a:off x="1523880" y="1933560"/>
            <a:ext cx="6010560" cy="41814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48B83-E1BB-44F8-9A36-DB8BF1099A3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1"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7A235-2F1D-4D4A-94AD-D075ABE2F7F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4" name="Text Box 13"/>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7" dur="20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2" dur="20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fade" transition="in">
                                      <p:cBhvr additive="repl">
                                        <p:cTn id="18" dur="20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fade" transition="in">
                                      <p:cBhvr additive="repl">
                                        <p:cTn id="24" dur="20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4">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32515-0C17-472C-A34A-B166E4A8B81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07" name="Picture 7" descr=""/>
          <p:cNvPicPr/>
          <p:nvPr/>
        </p:nvPicPr>
        <p:blipFill>
          <a:blip r:embed="rId1"/>
          <a:stretch/>
        </p:blipFill>
        <p:spPr>
          <a:xfrm>
            <a:off x="757080" y="3705120"/>
            <a:ext cx="7167600" cy="1500120"/>
          </a:xfrm>
          <a:prstGeom prst="rect">
            <a:avLst/>
          </a:prstGeom>
          <a:ln w="0">
            <a:noFill/>
          </a:ln>
        </p:spPr>
      </p:pic>
      <p:pic>
        <p:nvPicPr>
          <p:cNvPr id="108" name="Picture 8" descr=""/>
          <p:cNvPicPr/>
          <p:nvPr/>
        </p:nvPicPr>
        <p:blipFill>
          <a:blip r:embed="rId2"/>
          <a:stretch/>
        </p:blipFill>
        <p:spPr>
          <a:xfrm>
            <a:off x="776160" y="2484360"/>
            <a:ext cx="7977240" cy="73044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110AD-1477-4F8A-859F-B062D0AE9CE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11" name="PlaceHolder 1"/>
          <p:cNvSpPr>
            <a:spLocks noGrp="1"/>
          </p:cNvSpPr>
          <p:nvPr>
            <p:ph/>
          </p:nvPr>
        </p:nvSpPr>
        <p:spPr>
          <a:xfrm>
            <a:off x="838080" y="1904760"/>
            <a:ext cx="7896240" cy="214308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12" name="Picture 7" descr=""/>
          <p:cNvPicPr/>
          <p:nvPr/>
        </p:nvPicPr>
        <p:blipFill>
          <a:blip r:embed="rId1"/>
          <a:stretch/>
        </p:blipFill>
        <p:spPr>
          <a:xfrm>
            <a:off x="849240" y="4303800"/>
            <a:ext cx="7881840" cy="2049480"/>
          </a:xfrm>
          <a:prstGeom prst="rect">
            <a:avLst/>
          </a:prstGeom>
          <a:ln w="0">
            <a:noFill/>
          </a:ln>
        </p:spPr>
      </p:pic>
    </p:spTree>
  </p:cSld>
  <p:transition>
    <p:wipe dir="r"/>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12"/>
                                        </p:tgtEl>
                                        <p:attrNameLst>
                                          <p:attrName>style.visibility</p:attrName>
                                        </p:attrNameLst>
                                      </p:cBhvr>
                                      <p:to>
                                        <p:strVal val="visible"/>
                                      </p:to>
                                    </p:set>
                                    <p:animEffect filter="wipe(up)" transition="in">
                                      <p:cBhvr additive="repl">
                                        <p:cTn id="35"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F9312-4C29-4565-AAFC-155FF646D22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15" name="Picture 3" descr=""/>
          <p:cNvPicPr/>
          <p:nvPr/>
        </p:nvPicPr>
        <p:blipFill>
          <a:blip r:embed="rId1"/>
          <a:stretch/>
        </p:blipFill>
        <p:spPr>
          <a:xfrm>
            <a:off x="698400" y="2019240"/>
            <a:ext cx="8137800" cy="1047960"/>
          </a:xfrm>
          <a:prstGeom prst="rect">
            <a:avLst/>
          </a:prstGeom>
          <a:ln w="0">
            <a:noFill/>
          </a:ln>
        </p:spPr>
      </p:pic>
      <p:pic>
        <p:nvPicPr>
          <p:cNvPr id="116" name="Picture 8" descr="0203"/>
          <p:cNvPicPr/>
          <p:nvPr/>
        </p:nvPicPr>
        <p:blipFill>
          <a:blip r:embed="rId2"/>
          <a:stretch/>
        </p:blipFill>
        <p:spPr>
          <a:xfrm>
            <a:off x="2333520" y="3267000"/>
            <a:ext cx="5133960" cy="3029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B3B4A-11CB-4E00-8BE7-86B05A1886F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19" name="Picture 9" descr=""/>
          <p:cNvPicPr/>
          <p:nvPr/>
        </p:nvPicPr>
        <p:blipFill>
          <a:blip r:embed="rId1"/>
          <a:stretch/>
        </p:blipFill>
        <p:spPr>
          <a:xfrm>
            <a:off x="838080" y="1905120"/>
            <a:ext cx="7323120" cy="723960"/>
          </a:xfrm>
          <a:prstGeom prst="rect">
            <a:avLst/>
          </a:prstGeom>
          <a:ln w="0">
            <a:noFill/>
          </a:ln>
        </p:spPr>
      </p:pic>
      <p:pic>
        <p:nvPicPr>
          <p:cNvPr id="120" name="Picture 11" descr="0204"/>
          <p:cNvPicPr/>
          <p:nvPr/>
        </p:nvPicPr>
        <p:blipFill>
          <a:blip r:embed="rId2"/>
          <a:stretch/>
        </p:blipFill>
        <p:spPr>
          <a:xfrm>
            <a:off x="1209600" y="2809800"/>
            <a:ext cx="6991560" cy="36385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2B05A-B615-4F30-A89A-A4ABB42F69F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2" name=""/>
          <p:cNvSpPr txBox="1"/>
          <p:nvPr/>
        </p:nvSpPr>
        <p:spPr>
          <a:xfrm>
            <a:off x="510840" y="496440"/>
            <a:ext cx="7833600" cy="91512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23" name="PlaceHolder 1"/>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24" name="Picture 6" descr="0206"/>
          <p:cNvPicPr/>
          <p:nvPr/>
        </p:nvPicPr>
        <p:blipFill>
          <a:blip r:embed="rId1"/>
          <a:stretch/>
        </p:blipFill>
        <p:spPr>
          <a:xfrm>
            <a:off x="743040" y="2733840"/>
            <a:ext cx="3486240" cy="22953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90F75-2FBC-4B4F-9932-6F5D55C37DB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br>
              <a:rPr sz="3600"/>
            </a:b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127" name="PlaceHolder 1"/>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2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9" name="Text Box 5"/>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0" name="Text Box 6"/>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Tree>
  </p:cSld>
  <p:transition>
    <p:wipe dir="r"/>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30"/>
                                        </p:tgtEl>
                                        <p:attrNameLst>
                                          <p:attrName>style.visibility</p:attrName>
                                        </p:attrNameLst>
                                      </p:cBhvr>
                                      <p:to>
                                        <p:strVal val="visible"/>
                                      </p:to>
                                    </p:set>
                                    <p:animEffect filter="blinds(horizontal)" transition="in">
                                      <p:cBhvr additive="repl">
                                        <p:cTn id="4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B6639-49E7-4B8E-AAC4-0F3CF4F79B4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33" name="Rectangle 7"/>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34" name="Picture 9" descr=""/>
          <p:cNvPicPr/>
          <p:nvPr/>
        </p:nvPicPr>
        <p:blipFill>
          <a:blip r:embed="rId1"/>
          <a:stretch/>
        </p:blipFill>
        <p:spPr>
          <a:xfrm>
            <a:off x="676440" y="4092480"/>
            <a:ext cx="2628720" cy="1836720"/>
          </a:xfrm>
          <a:prstGeom prst="rect">
            <a:avLst/>
          </a:prstGeom>
          <a:ln w="0">
            <a:noFill/>
          </a:ln>
        </p:spPr>
      </p:pic>
      <p:pic>
        <p:nvPicPr>
          <p:cNvPr id="135" name="Picture 11" descr="0210"/>
          <p:cNvPicPr/>
          <p:nvPr/>
        </p:nvPicPr>
        <p:blipFill>
          <a:blip r:embed="rId2"/>
          <a:stretch/>
        </p:blipFill>
        <p:spPr>
          <a:xfrm>
            <a:off x="3495600" y="2666880"/>
            <a:ext cx="5429160" cy="26956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Nadia MS</cp:lastModifiedBy>
  <dcterms:modified xsi:type="dcterms:W3CDTF">2017-09-18T17:14:59Z</dcterms:modified>
  <cp:revision>113</cp:revision>
  <dc:subject>Freq Dist and Graphic Presentation</dc:subject>
  <dc:title>Chapter 2</dc:title>
</cp:coreProperties>
</file>