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EC59-1D91-45CC-AF7A-172424BB3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7EC3-C1C7-45EC-AABB-8753D4626C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C041-A02B-47A3-9BEC-5E38B162F41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3AAD-0325-4AF2-9041-8BA11F4A613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86F4-9012-4705-9D73-414ED0824D7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52FA-7855-4191-A7A1-5941ECEEC80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2957-4FFF-4241-B079-8E660F7BE06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3"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C137-7C0A-4BB2-984C-981925E4F9E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080C-77D6-4622-B2C4-C0F526AB28E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25BA-DD00-49F9-B5F8-427D7C03AE4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BCD9-D9C4-4556-B95A-B528B8B751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F388-93B2-4B31-A572-16B98B8C806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44C5-E3C0-476E-AD3E-1ABFB9EB5E6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1D1E-990B-4150-AD6D-7ABFC171952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36D4-FA2E-4C99-9E80-BF40DA402A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54B5-EA10-4A04-BC24-D115B0D70C6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C64F-57B6-472D-8AF3-7C0E0C9C83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4160-D6E6-4825-957B-A590EF26B56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6270-E31C-4CC0-B4F4-B84DB087A92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5489-B9A5-4C9C-876D-CD2E827E282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5A6234-856D-42A8-AA8E-15A99EA2DC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C96549-CAB8-4D70-BDC2-743B978C7A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6E6521-85AD-4DB4-9C9E-D801C0718F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540DB8-1A5A-4B5B-99F2-213306BBD6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B1F42B-BFA7-4067-B4EF-A3BD500827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433CA3-D20B-4BD2-92C9-2D4939865E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72C2C6-584A-40BD-8C9E-DB44E4FFD9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CDAFAC-603B-44A2-BE10-5130AE0629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1D1B63-18C8-474F-9906-D4A68BBEC9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67120B-5EA8-4B3B-8C83-2273EDE364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DAA809-988C-4C60-893D-F88C7A0D2B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350DCB-F0B7-4C94-AFCB-65D0DCD3C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2296-A675-4430-8129-F7C7F4FD6FF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DE70-871E-4FBF-AF35-6872023B529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8"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E38B-9E7D-4820-8498-A68F5F84B8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2"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B167-306B-42E2-95EE-B0F5C7C839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5"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6"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7F76-A396-40B1-8020-D991D253042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4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0"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9BB2-444E-4F7C-8766-617B52023C8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3"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blinds(horizontal)" transition="in">
                                      <p:cBhvr additive="repl">
                                        <p:cTn id="56" dur="500"/>
                                        <p:tgtEl>
                                          <p:spTgt spid="1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1" dur="500"/>
                                        <p:tgtEl>
                                          <p:spTgt spid="153">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64" dur="500"/>
                                        <p:tgtEl>
                                          <p:spTgt spid="153">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67" dur="500"/>
                                        <p:tgtEl>
                                          <p:spTgt spid="153">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7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C3CE-F940-449D-94A4-03ACC59DA70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58"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59"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11B9-0996-471B-AA53-AE80660311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C9D7-8865-421E-B341-10F8B84C5D4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6"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00B7-DA37-41E5-95B0-E4CA5EF1CE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9"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7AFD-CE77-4E2F-9340-2E438F3801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E102-0211-4323-B4D3-E4E1617147A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E496-C8BB-4BDB-8805-B772FF4035B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07" name="Picture 7" descr=""/>
          <p:cNvPicPr/>
          <p:nvPr/>
        </p:nvPicPr>
        <p:blipFill>
          <a:blip r:embed="rId1"/>
          <a:stretch/>
        </p:blipFill>
        <p:spPr>
          <a:xfrm>
            <a:off x="757080" y="3705120"/>
            <a:ext cx="7167600" cy="1500120"/>
          </a:xfrm>
          <a:prstGeom prst="rect">
            <a:avLst/>
          </a:prstGeom>
          <a:ln w="0">
            <a:noFill/>
          </a:ln>
        </p:spPr>
      </p:pic>
      <p:pic>
        <p:nvPicPr>
          <p:cNvPr id="108"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19B4-3C6B-4405-890F-509B0F8A91D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12"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12"/>
                                        </p:tgtEl>
                                        <p:attrNameLst>
                                          <p:attrName>style.visibility</p:attrName>
                                        </p:attrNameLst>
                                      </p:cBhvr>
                                      <p:to>
                                        <p:strVal val="visible"/>
                                      </p:to>
                                    </p:set>
                                    <p:animEffect filter="wipe(up)" transition="in">
                                      <p:cBhvr additive="repl">
                                        <p:cTn id="3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2981-9AED-4B57-A337-25544E5E563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15" name="Picture 3" descr=""/>
          <p:cNvPicPr/>
          <p:nvPr/>
        </p:nvPicPr>
        <p:blipFill>
          <a:blip r:embed="rId1"/>
          <a:stretch/>
        </p:blipFill>
        <p:spPr>
          <a:xfrm>
            <a:off x="698400" y="2019240"/>
            <a:ext cx="8137800" cy="1047960"/>
          </a:xfrm>
          <a:prstGeom prst="rect">
            <a:avLst/>
          </a:prstGeom>
          <a:ln w="0">
            <a:noFill/>
          </a:ln>
        </p:spPr>
      </p:pic>
      <p:pic>
        <p:nvPicPr>
          <p:cNvPr id="116"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68A1-A13A-40A6-B46E-5BCC866422E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9" name="Picture 9" descr=""/>
          <p:cNvPicPr/>
          <p:nvPr/>
        </p:nvPicPr>
        <p:blipFill>
          <a:blip r:embed="rId1"/>
          <a:stretch/>
        </p:blipFill>
        <p:spPr>
          <a:xfrm>
            <a:off x="838080" y="1905120"/>
            <a:ext cx="7323120" cy="723960"/>
          </a:xfrm>
          <a:prstGeom prst="rect">
            <a:avLst/>
          </a:prstGeom>
          <a:ln w="0">
            <a:noFill/>
          </a:ln>
        </p:spPr>
      </p:pic>
      <p:pic>
        <p:nvPicPr>
          <p:cNvPr id="120"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B6A0-C6E5-4955-A9EA-FD56ED4DA7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3"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24"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297A-8914-4F65-9ADB-68854A3590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br>
              <a:rPr sz="3600"/>
            </a:b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27"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0"/>
                                        </p:tgtEl>
                                        <p:attrNameLst>
                                          <p:attrName>style.visibility</p:attrName>
                                        </p:attrNameLst>
                                      </p:cBhvr>
                                      <p:to>
                                        <p:strVal val="visible"/>
                                      </p:to>
                                    </p:set>
                                    <p:animEffect filter="blinds(horizontal)" transition="in">
                                      <p:cBhvr additive="repl">
                                        <p:cTn id="4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BDCF-E77A-419E-BF81-171D22F73C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4" name="Picture 9" descr=""/>
          <p:cNvPicPr/>
          <p:nvPr/>
        </p:nvPicPr>
        <p:blipFill>
          <a:blip r:embed="rId1"/>
          <a:stretch/>
        </p:blipFill>
        <p:spPr>
          <a:xfrm>
            <a:off x="676440" y="4092480"/>
            <a:ext cx="2628720" cy="1836720"/>
          </a:xfrm>
          <a:prstGeom prst="rect">
            <a:avLst/>
          </a:prstGeom>
          <a:ln w="0">
            <a:noFill/>
          </a:ln>
        </p:spPr>
      </p:pic>
      <p:pic>
        <p:nvPicPr>
          <p:cNvPr id="135"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2-07T06:19:20Z</dcterms:modified>
  <cp:revision>113</cp:revision>
  <dc:subject>Freq Dist and Graphic Presentation</dc:subject>
  <dc:title>Chapter 2</dc:title>
</cp:coreProperties>
</file>