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E867-E67A-4449-922F-9A71DD353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4F86-F0C6-4777-A6B7-1263133E2AF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2F53-C9EA-407C-AE56-39077E671A0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72C6-9C57-4AF7-900C-DF3A0DCED5C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3E2B-C11C-4C2E-9B3F-F4A25D02C5F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447C-208A-4F5F-81CB-CCA77CB03E0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0329-3A21-49AD-9967-F78D63637D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3"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294F-7290-4497-BF74-9488198026A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33AE-AE53-411F-819E-7A51EAF1736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824B-E8CC-4C20-90F4-7AECC47A87F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A689-E106-4939-A41A-44166948572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58E4-9729-4C73-8FE0-111F97114E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24D6-5544-4B5C-A171-C84F6F8F0D0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346F-3B0B-4158-9DFA-75B156553D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638E-9DD2-4DA8-A220-97ABAB121BB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C0B4-FD25-41B8-AB44-2B741F07CF0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8514-FD26-4171-A9FE-F0A5E7AC288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0FA3-091F-4E44-8F9D-81D35D084CD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2C29-FD86-4CB5-8DBB-122458434DA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895F-E3E0-4D6F-B42F-11AAC66AE70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568E02-812D-4585-AEA4-325F5C97C2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78DE15-C382-4473-98F8-0896063FF6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7FE533-7257-4921-9471-224587ABDE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99034D-278F-4D5A-952A-12D422313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0FFBEB-B9FE-486E-8E47-072C500643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FB7DF4-746C-40A7-8907-1986C384A5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3CE123-10FE-4DDF-B661-457022D2A4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2DB13F-C4A1-4B3A-B43F-3EC2362966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DBE044-BDC5-41BB-ADB3-0E7BA1AA9A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F3707A-5011-4A83-8A2B-57579F8F1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69742F-FBC1-41F1-8898-0CF603772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5940FF-BAB1-4592-8173-DE0699202F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FFD0-D8A7-4411-B5A3-EFD1088413E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D90D-89FC-4940-B977-52D1BAC6CE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8"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008A-6F6F-4ADC-9698-D92C44E3CA6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2"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87C9-321B-477F-A5A0-9516FE3996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5"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6"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9ACB-7CB7-4B7D-8CE2-F13966120E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4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0"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BBF5-DA58-4E96-A414-5AF2B3490E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3"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blinds(horizontal)" transition="in">
                                      <p:cBhvr additive="repl">
                                        <p:cTn id="56" dur="500"/>
                                        <p:tgtEl>
                                          <p:spTgt spid="1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1" dur="500"/>
                                        <p:tgtEl>
                                          <p:spTgt spid="153">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64" dur="500"/>
                                        <p:tgtEl>
                                          <p:spTgt spid="153">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67" dur="500"/>
                                        <p:tgtEl>
                                          <p:spTgt spid="153">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7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1DC3-AB53-4674-A90E-5B4DDEB7BB6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58"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59"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DA2E-3FF0-44F7-8A56-E9FBA71ACB2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20A1-F9AF-452B-BFE8-FE08D5E934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6"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62C2-6244-4DF5-A0CB-4E12EE9AAE7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9"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16D6-C72D-43F6-9924-6C53E72F1A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D139-0C72-49E5-BFA5-41027A49B1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8DC2-87ED-47C3-8094-02AF372741F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07" name="Picture 7" descr=""/>
          <p:cNvPicPr/>
          <p:nvPr/>
        </p:nvPicPr>
        <p:blipFill>
          <a:blip r:embed="rId1"/>
          <a:stretch/>
        </p:blipFill>
        <p:spPr>
          <a:xfrm>
            <a:off x="757080" y="3705120"/>
            <a:ext cx="7167600" cy="1500120"/>
          </a:xfrm>
          <a:prstGeom prst="rect">
            <a:avLst/>
          </a:prstGeom>
          <a:ln w="0">
            <a:noFill/>
          </a:ln>
        </p:spPr>
      </p:pic>
      <p:pic>
        <p:nvPicPr>
          <p:cNvPr id="108"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B669-C99E-4330-A2FF-6566283C2E5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12"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12"/>
                                        </p:tgtEl>
                                        <p:attrNameLst>
                                          <p:attrName>style.visibility</p:attrName>
                                        </p:attrNameLst>
                                      </p:cBhvr>
                                      <p:to>
                                        <p:strVal val="visible"/>
                                      </p:to>
                                    </p:set>
                                    <p:animEffect filter="wipe(up)" transition="in">
                                      <p:cBhvr additive="repl">
                                        <p:cTn id="3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C7D2-3CC0-4E14-AA3C-DBE18ABFC5E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15" name="Picture 3" descr=""/>
          <p:cNvPicPr/>
          <p:nvPr/>
        </p:nvPicPr>
        <p:blipFill>
          <a:blip r:embed="rId1"/>
          <a:stretch/>
        </p:blipFill>
        <p:spPr>
          <a:xfrm>
            <a:off x="698400" y="2019240"/>
            <a:ext cx="8137800" cy="1047960"/>
          </a:xfrm>
          <a:prstGeom prst="rect">
            <a:avLst/>
          </a:prstGeom>
          <a:ln w="0">
            <a:noFill/>
          </a:ln>
        </p:spPr>
      </p:pic>
      <p:pic>
        <p:nvPicPr>
          <p:cNvPr id="116"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5334-58BA-425C-B545-AD005C7DC83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9" name="Picture 9" descr=""/>
          <p:cNvPicPr/>
          <p:nvPr/>
        </p:nvPicPr>
        <p:blipFill>
          <a:blip r:embed="rId1"/>
          <a:stretch/>
        </p:blipFill>
        <p:spPr>
          <a:xfrm>
            <a:off x="838080" y="1905120"/>
            <a:ext cx="7323120" cy="723960"/>
          </a:xfrm>
          <a:prstGeom prst="rect">
            <a:avLst/>
          </a:prstGeom>
          <a:ln w="0">
            <a:noFill/>
          </a:ln>
        </p:spPr>
      </p:pic>
      <p:pic>
        <p:nvPicPr>
          <p:cNvPr id="120"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CE5D-CB13-4C41-8297-52251BFA3B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3"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24"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7635-6CCC-46EB-B5DA-51B38B51D1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br>
              <a:rPr sz="3600"/>
            </a:b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27"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0"/>
                                        </p:tgtEl>
                                        <p:attrNameLst>
                                          <p:attrName>style.visibility</p:attrName>
                                        </p:attrNameLst>
                                      </p:cBhvr>
                                      <p:to>
                                        <p:strVal val="visible"/>
                                      </p:to>
                                    </p:set>
                                    <p:animEffect filter="blinds(horizontal)" transition="in">
                                      <p:cBhvr additive="repl">
                                        <p:cTn id="4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813D-1A67-4D6C-AA11-9B806AE9B8C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4" name="Picture 9" descr=""/>
          <p:cNvPicPr/>
          <p:nvPr/>
        </p:nvPicPr>
        <p:blipFill>
          <a:blip r:embed="rId1"/>
          <a:stretch/>
        </p:blipFill>
        <p:spPr>
          <a:xfrm>
            <a:off x="676440" y="4092480"/>
            <a:ext cx="2628720" cy="1836720"/>
          </a:xfrm>
          <a:prstGeom prst="rect">
            <a:avLst/>
          </a:prstGeom>
          <a:ln w="0">
            <a:noFill/>
          </a:ln>
        </p:spPr>
      </p:pic>
      <p:pic>
        <p:nvPicPr>
          <p:cNvPr id="135"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2-07T06:19:20Z</dcterms:modified>
  <cp:revision>113</cp:revision>
  <dc:subject>Freq Dist and Graphic Presentation</dc:subject>
  <dc:title>Chapter 2</dc:title>
</cp:coreProperties>
</file>