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3C8C-B7F4-4924-91DF-9A47645CE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6F82-CB15-4070-B46C-C9003286FC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37E7-F1E8-4723-9484-0C3A409893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4DE2-40B0-4F3F-B4DF-50262AB93BB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04B4-3AE8-4CF6-A5E4-FD4B78B70D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DC34-4601-40CD-B297-460CC31D22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512-FD6D-4D51-AFBD-8775E19011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3D7C-029B-4086-BDDC-C88578A345A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C6AE-FE5B-42EE-94AB-D9FFA14263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DDB2-BD18-4617-90A3-FFB9C70666B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F01C-8E4A-4E43-B044-5F67E5F3D0B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DCB2-0F17-4ED6-A23D-F35487F533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BED2-77A8-4BCE-8FFC-13F8B9E0D6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EB0A-2E96-41CA-A8DA-9F61195C15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AD72-C60D-49EC-8594-6D572EAA7C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E7EF-54C5-4FB1-B7FB-9D64A052157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43FE-664F-4682-A39D-1F822F9F7F9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D54C-A1B0-4609-9B59-38EFDF6FE25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253B-6840-4DD6-9674-9A012F0126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5501-9EF0-4AB5-B3E1-0BCB3616973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7958-1671-480B-9F7B-D971BD08C6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2B2C-B026-4665-B42F-9A84C6965F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F3A891-E834-439B-B515-0ADCD8F1D9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6C3988-7F73-48BD-8664-9BA74581D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579D52-347A-4270-B58B-3351159E62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CA3162-7B93-4705-BECF-3F85C4B074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CC3861-DBB7-46AD-ACAE-907FA9D3C7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F4BC5D-2FDE-4596-924E-6EB33F64EB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B638C9-AE86-4CF0-B309-0ED3B2372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47DDB4-F6D8-4ACF-BFD9-B4902889D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A879EE-FEB5-4E41-BD53-441873FBC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A8664B-5420-4973-8163-5BCC496DA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A71D2-6C2C-4ADA-BCB7-915D8066F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F3C8C-B45C-459F-8369-4DF53A66F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69B6-EA87-4149-9C2C-64DE29FDB01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FF6D-0E10-4BD6-B28D-9E2D7F913F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8A7F-EFD4-457B-9137-17AE49ACD1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EFBF-4BDF-41AD-A6E7-B2D1F564E2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17F6-815C-46C1-B733-BAF75209A3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1282-B45E-4470-BA61-5A4E5AC795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7487-52B2-433E-81FA-01756CBA53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8B73-2196-47F6-8DE5-1865D47D6F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3D79-8C21-40E2-9A37-CCA2E7AE61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162D-1BF0-4346-886F-EFBE87BCA5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8260-8117-41F1-9738-C0BA5074185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F8C2-B84C-4687-AED9-889A2396E7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55B4-E954-410D-B204-7B7E8FEE3F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9913-10F8-4D09-B16C-97F48C96FC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105E-BEA1-4B20-B0F1-D98912E39F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8602-6C71-4EAB-AE25-A45450EDC89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E0B1-CE13-4949-9FA0-EDB2F31447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BFC1-CEBA-40F8-9ADA-87D79E8C68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EFB2-5B73-4DD5-AD0B-DBA004E8D91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A7EC-31DB-411D-A306-3675BFFB42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AA75-9974-427C-AE1C-9DE3B8ADE8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cp:lastModifiedBy>
  <dcterms:modified xsi:type="dcterms:W3CDTF">2014-02-17T08:19:52Z</dcterms:modified>
  <cp:revision>111</cp:revision>
  <dc:subject>Freq Dist and Graphic Presentation</dc:subject>
  <dc:title>Chapter 2</dc:title>
</cp:coreProperties>
</file>