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3A37-2793-4DEA-8C94-B1504EC34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3D68-753B-4D01-928A-A7D02E021F9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C82F-D98C-43E1-89D9-9B7A222021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5E17-D7B4-42A2-96ED-207B3492D0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6694-38A5-4A90-A21A-DE799336E8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1055-EF7A-4454-A5DF-F821E97C7A1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A741-A7AE-4E3E-8E63-3B2029B2D7F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1B00-54EA-484F-A2DD-7523BAAEE2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20E3-09FC-4FEB-8F4C-EB91F58F11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CF14-ABFF-44C6-B28A-38132C9D29B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AA46-7C9C-4D6E-851E-58F498ED1D6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83CB-59A8-4CA1-9163-1FBBFD2E38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B44E-1B4D-4710-BD57-02BEF2BA984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FC91-0AB7-4E88-9E96-B38EBFB0A75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503-5DA0-4E0C-BEFD-5B3F7A50B2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5929-45F6-411C-831A-36E9B1FA2E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9868-BA10-48B9-B55C-326FD03D46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0278-BAE1-41D3-8CBA-BE9907B7D7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1330-F338-44FC-80C8-9E52AE5C66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A39B-52C8-42DE-BC2D-0D5D54F25B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9937-0D41-4458-A5DE-4483CFDAD82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08E9-407E-4F64-9576-5F9BDD8689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03E299-931A-40EE-8B56-E3EC23DA21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43D275-2554-4187-90BB-643D07903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36EBF8-D5D4-4F03-8F05-863033DF4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871ED-008D-4CBD-AA64-5A293FE4C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279B60-B14A-48B8-986B-DA51BD6234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B01019-4513-475B-93EC-B133B0FB1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B17D7C-C96B-408F-BAA4-28FE7FB7D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240114-967C-402E-99CD-35D3DCF50B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E6F6E-77F5-4C7A-9963-AEBAF854BC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A7E912-BBF4-4B1B-BC70-1263FD274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27724-8265-4939-949A-457B8B66C4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8E2E52-DDBD-47AD-BDC2-59B0C131B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9C98-1368-4F63-BE1D-F4167062511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441-13CE-4A6B-B888-8169389300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9CFD-5E85-44EA-AD68-7FB47C2A0B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F17F-3CB6-46A1-9177-5F0B542C33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014B-DFD6-4D8E-BFFE-1EEDBF18C3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5B8A-59DA-4166-B138-D4D111EE07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835B-9F31-4BE7-9980-60FB7E31F9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A918-F9E7-4107-A1D2-0588A98D08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0678-1084-46B3-8C5F-2FB61DE75B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2843-064C-49B0-9326-96C2E18A5D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5F89-0A86-4B01-91FF-0629F59E6A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C48C-3F86-4DBD-92C0-874397B1CB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2F91-6562-420B-815A-CECB054BDF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711E-22DD-4244-AA08-E3DEB9BF6E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180E-3BE1-495E-AA6E-724315F201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E15A-18EA-4390-9750-45023DC26B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1A30-C9FA-4146-BE99-4B97B01107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03F6-5C04-4B93-9784-9198DD9CB6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43E7-D297-4DA8-917B-F9D4238423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38A5-BBDD-44E7-A1C7-09F56956701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D349-0D3E-42D7-9B16-1194B0D1FB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5:25Z</dcterms:modified>
  <cp:revision>111</cp:revision>
  <dc:subject>Freq Dist and Graphic Presentation</dc:subject>
  <dc:title>Chapter 2</dc:title>
</cp:coreProperties>
</file>