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D304-5980-4F6F-9B32-03568D811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3D64-35C7-40F9-8F53-D42595B7DFE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883D-7363-4F4E-8C79-A41F9D3410B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155D-E428-4350-B52B-95A3435419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30BA-BE12-4F85-AF52-B14ECBA14A6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6EDD-6750-4BE4-87ED-62F292AE7E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052B-6320-48AC-9244-2B6AE800345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FE9E-9EB3-4203-8A49-3BDC7E230F9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5721-BEDD-4A32-933D-1182DE40F4B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E0C2-36E2-4A21-AED5-D11A0AB1998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192F-D213-4E04-BC96-34B703D2BCB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7CDD-3E54-4902-AA25-B9DB17C704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3512-7A04-41CF-AAC3-C7761A4DCA3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E5E4-47DE-47E3-A214-F6018485DF7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9A3D-E62F-417A-9ADF-FF5A14A5E9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2019-F123-4E07-BA04-DF702D54D3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4F68-36DF-4CBB-A153-CBA67E793CC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0EBA-5CB1-4BA7-B01F-9BE75CEC15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B0E0-9D15-4F8E-89C5-CD35072175B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BBDB-A1AD-4219-8F52-3E48CD327FD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8199-668C-4B08-ABB8-DD058C5111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C357-F8C1-4E61-B736-DAEB677FB38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6E353D-CF9C-4789-BD98-022A0B231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545A8A-0B9C-468D-87B3-7121881AB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20F9DA-9042-4837-B99F-C5DC5286E2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3C21ED-E2E7-484A-BC53-080EEC171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49ADED-686F-4808-82A4-EA86ECEC3E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A7B32-0AC4-4572-BC1A-19D2FDF10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373E76-D991-4941-9D3B-5F619D024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6241AC-E4A7-41B0-A4DA-8D89BF0891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631A6F-D662-453D-A703-A000739C6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F05A4-FBA7-49A1-A075-826FE53654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14C63-828D-4EE3-B1E5-B9CD7BA12B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371BFF-DAE2-4FB2-ADA7-8E4A6CC626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D07D-9F0E-4FAD-9140-3DBC270F36E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64B8-DB91-41D4-B71A-C84E1F6451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6"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7" name="Picture 9" descr=""/>
          <p:cNvPicPr/>
          <p:nvPr/>
        </p:nvPicPr>
        <p:blipFill>
          <a:blip r:embed="rId1"/>
          <a:stretch/>
        </p:blipFill>
        <p:spPr>
          <a:xfrm>
            <a:off x="676440" y="4092480"/>
            <a:ext cx="2628720" cy="1836720"/>
          </a:xfrm>
          <a:prstGeom prst="rect">
            <a:avLst/>
          </a:prstGeom>
          <a:ln w="0">
            <a:noFill/>
          </a:ln>
        </p:spPr>
      </p:pic>
      <p:pic>
        <p:nvPicPr>
          <p:cNvPr id="138"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2C57-E91A-4124-8C3D-7D4052CFB6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41"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DB98-FC5B-4DBC-BFEB-CEEF314940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5"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9"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20B0-A624-4A31-A2C2-A79558CBD5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9"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73CB-665E-4125-9918-064577E318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52"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3"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9C45-497D-4CA7-8E78-7CFCCD2308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6"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61" dur="500"/>
                                        <p:tgtEl>
                                          <p:spTgt spid="156">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64" dur="500"/>
                                        <p:tgtEl>
                                          <p:spTgt spid="156">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67" dur="500"/>
                                        <p:tgtEl>
                                          <p:spTgt spid="156">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7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1B11-CA34-44B0-A8AB-B5536DBD77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61"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62"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A083-C83A-47CF-8381-ED17C72009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65" name="Picture 9" descr="0217"/>
          <p:cNvPicPr/>
          <p:nvPr/>
        </p:nvPicPr>
        <p:blipFill>
          <a:blip r:embed="rId1"/>
          <a:stretch/>
        </p:blipFill>
        <p:spPr>
          <a:xfrm>
            <a:off x="1562040" y="1952640"/>
            <a:ext cx="5972400" cy="4467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BF08-5403-4CD7-B006-829408897F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0CF4-750E-402A-AF10-3BD3D0CD2A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2"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8D69-3E83-4EC5-94F6-A4987E22005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1FB3-F1B1-43B5-A0C5-7D6672FFFB8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5"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CACA-761A-4871-BDC0-2F9610C75E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1FA3-AD31-4CB8-8723-9B0B322D54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7" name="Picture 3" descr=""/>
          <p:cNvPicPr/>
          <p:nvPr/>
        </p:nvPicPr>
        <p:blipFill>
          <a:blip r:embed="rId1"/>
          <a:stretch/>
        </p:blipFill>
        <p:spPr>
          <a:xfrm>
            <a:off x="698400" y="2019240"/>
            <a:ext cx="8137800" cy="1047960"/>
          </a:xfrm>
          <a:prstGeom prst="rect">
            <a:avLst/>
          </a:prstGeom>
          <a:ln w="0">
            <a:noFill/>
          </a:ln>
        </p:spPr>
      </p:pic>
      <p:pic>
        <p:nvPicPr>
          <p:cNvPr id="108"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F91A-8D86-477C-832A-E0A4BF999E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1" name="Picture 9" descr=""/>
          <p:cNvPicPr/>
          <p:nvPr/>
        </p:nvPicPr>
        <p:blipFill>
          <a:blip r:embed="rId1"/>
          <a:stretch/>
        </p:blipFill>
        <p:spPr>
          <a:xfrm>
            <a:off x="838080" y="1905120"/>
            <a:ext cx="7323120" cy="723960"/>
          </a:xfrm>
          <a:prstGeom prst="rect">
            <a:avLst/>
          </a:prstGeom>
          <a:ln w="0">
            <a:noFill/>
          </a:ln>
        </p:spPr>
      </p:pic>
      <p:pic>
        <p:nvPicPr>
          <p:cNvPr id="112"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E45F-1AAA-4C72-AA87-1A97B9B354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5" name="Picture 6" descr="0205"/>
          <p:cNvPicPr/>
          <p:nvPr/>
        </p:nvPicPr>
        <p:blipFill>
          <a:blip r:embed="rId1"/>
          <a:stretch/>
        </p:blipFill>
        <p:spPr>
          <a:xfrm>
            <a:off x="1171440" y="1838160"/>
            <a:ext cx="6363000" cy="484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DC53-79EF-42A5-ABE8-2B5F800DF63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8"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9"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2CB9-EDF5-4F41-856C-E0BE48D901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22" name="Picture 7" descr=""/>
          <p:cNvPicPr/>
          <p:nvPr/>
        </p:nvPicPr>
        <p:blipFill>
          <a:blip r:embed="rId1"/>
          <a:stretch/>
        </p:blipFill>
        <p:spPr>
          <a:xfrm>
            <a:off x="757080" y="3705120"/>
            <a:ext cx="7167600" cy="1500120"/>
          </a:xfrm>
          <a:prstGeom prst="rect">
            <a:avLst/>
          </a:prstGeom>
          <a:ln w="0">
            <a:noFill/>
          </a:ln>
        </p:spPr>
      </p:pic>
      <p:pic>
        <p:nvPicPr>
          <p:cNvPr id="123"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A9DB-0389-48DE-AE06-CF0BC5BB5D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7"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7"/>
                                        </p:tgtEl>
                                        <p:attrNameLst>
                                          <p:attrName>style.visibility</p:attrName>
                                        </p:attrNameLst>
                                      </p:cBhvr>
                                      <p:to>
                                        <p:strVal val="visible"/>
                                      </p:to>
                                    </p:set>
                                    <p:animEffect filter="wipe(up)" transition="in">
                                      <p:cBhvr additive="repl">
                                        <p:cTn id="3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86EE-CF96-4F1B-B164-A76A565D6B8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30"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3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2"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blinds(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iadah Fawaz</cp:lastModifiedBy>
  <dcterms:modified xsi:type="dcterms:W3CDTF">2014-09-09T21:55:25Z</dcterms:modified>
  <cp:revision>111</cp:revision>
  <dc:subject>Freq Dist and Graphic Presentation</dc:subject>
  <dc:title>Chapter 2</dc:title>
</cp:coreProperties>
</file>