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A04F-9CCD-40BD-8B19-0B17B55CC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A443-31E3-41D1-AC4F-193A140622E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08EF-427A-4F4C-9BF3-98200B85D95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6914-9DD5-487C-9CED-ED34EB0FE66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4C65-ACB1-4974-A23A-718A71FC248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B1B1-1EA2-4EFC-AB19-8AB29E88746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FEFD-C158-43B6-BD06-7CAE7A83AD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9029-BC30-427B-9D80-B2699317982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8347-E4D6-4CEC-913B-B31C46D9D5E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F7C5-2AD6-41E8-AB16-B563BF56427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6C35-3C4A-49A5-AFE7-7D529B5711D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76F5-802F-4D48-9248-64CCE39C51E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7CC7-08D5-4A39-81A5-0B86F4ADBB3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7AE3-E60B-4AEC-89C9-90AD84B6160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1BAE-F1B5-47B9-A4C4-A3FA9D3A3BB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47A1-E9E3-4025-81FE-1DF70F35240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A2A6-3F3C-43E6-906D-9702916313E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7B71-5D3F-4354-ACB2-D6E313F82A2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5C25-820B-44F8-84B4-BA208FD16BF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010F-C0A7-4383-BCB3-A45C574C15F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F376-6A6A-4B98-AAE8-8AB1FD80380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CFE4-1F7B-4FBC-80ED-5D7741DD2A6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FAA4-71EE-4C5A-89E6-643E798E789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E6B7-FC1D-40BF-B160-D2C6CECC523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4B15-1D72-45B2-9ED1-EAB5A152CA5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FEFD-6215-4A6B-857D-99043F46A6A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AA9E-06E0-4D25-8D94-B675B26062A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BE5E-0D07-4BE9-9CB5-52837DCED24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B3C2-3BDE-467A-A4B6-EFE0EAB446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B65A-9F2F-4B22-A392-81C504C0BB0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BA15-3E85-4797-8649-E92FE065779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B6F1-1EA8-4F72-9270-9E6967AC4CC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95D5-046C-46BE-AA76-F49550FEAF1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4E63-E76D-42FB-8260-1685D3C9A6A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18FE-1355-4DEC-B3E8-D3938EBE1EF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C307-7009-4195-AC24-C935A2F2D4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96ED-89DA-4D14-B917-02B70836C9D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E017A4-1F83-4AB9-92D1-6CAB1BCAE9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4C86DA-151B-4D8E-AB17-104755C3F8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1627BA-6980-4E28-8FEF-65F425310E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0F5BD2-260D-463E-AA7A-B82E5EAD88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6EB9A3-74CD-4BB6-B114-2E2AF55C2D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16CEA0-05E5-4D9D-A5CB-FA550764D6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CAC460-E20F-4B39-9E6E-6B5FD03A03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A514A6-374B-4DAC-A3D8-6D6F57662E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C40BE9-6F73-412D-B522-CC8C7FFE8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E4D960-A08C-4087-80FB-815DE53055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D1AB82-2774-4C7C-A888-1DCD0CD28A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7635E2-2812-418C-A3E1-FEBC06F2C6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BC6B-E293-4252-985F-D49A75179E1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05BD-47D4-4765-BEA2-D093FBEC55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Rectangle 14"/>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41" name="Picture 15" descr="0310"/>
          <p:cNvPicPr/>
          <p:nvPr/>
        </p:nvPicPr>
        <p:blipFill>
          <a:blip r:embed="rId1"/>
          <a:stretch/>
        </p:blipFill>
        <p:spPr>
          <a:xfrm>
            <a:off x="2055960" y="4603680"/>
            <a:ext cx="5924520" cy="1695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8CF4-B9E6-46A3-8E42-BF8380EFD8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443F-EE15-4BC0-BBCA-EA7E2F586BB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01" dur="500"/>
                                        <p:tgtEl>
                                          <p:spTgt spid="14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06" dur="500"/>
                                        <p:tgtEl>
                                          <p:spTgt spid="14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1" dur="500"/>
                                        <p:tgtEl>
                                          <p:spTgt spid="14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F6B9-FBF6-4A9E-A758-255D136D8B9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3" dur="500"/>
                                        <p:tgtEl>
                                          <p:spTgt spid="15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8" dur="500"/>
                                        <p:tgtEl>
                                          <p:spTgt spid="15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133" dur="500"/>
                                        <p:tgtEl>
                                          <p:spTgt spid="15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138" dur="500"/>
                                        <p:tgtEl>
                                          <p:spTgt spid="152">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143" dur="500"/>
                                        <p:tgtEl>
                                          <p:spTgt spid="152">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4"/>
                                        </p:tgtEl>
                                        <p:attrNameLst>
                                          <p:attrName>style.visibility</p:attrName>
                                        </p:attrNameLst>
                                      </p:cBhvr>
                                      <p:to>
                                        <p:strVal val="visible"/>
                                      </p:to>
                                    </p:set>
                                    <p:animEffect filter="wipe(up)" transition="in">
                                      <p:cBhvr additive="repl">
                                        <p:cTn id="1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86BF-ED9B-4DD5-AE80-62E718CD10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962D-0600-491D-B1F6-7F006A53A7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36A2-7E22-4766-BEE8-A36C54DD4CE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6" name="Picture 5" descr=""/>
          <p:cNvPicPr/>
          <p:nvPr/>
        </p:nvPicPr>
        <p:blipFill>
          <a:blip r:embed="rId1"/>
          <a:stretch/>
        </p:blipFill>
        <p:spPr>
          <a:xfrm>
            <a:off x="689040" y="2833560"/>
            <a:ext cx="2628720" cy="1836720"/>
          </a:xfrm>
          <a:prstGeom prst="rect">
            <a:avLst/>
          </a:prstGeom>
          <a:ln w="0">
            <a:noFill/>
          </a:ln>
        </p:spPr>
      </p:pic>
      <p:pic>
        <p:nvPicPr>
          <p:cNvPr id="16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889C-5E91-4F6E-BD6C-F01C3F40B1E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7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D3F6-1865-4C72-8258-DC356E59D86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723B-ABA1-4A1D-9674-09D2BB5E83D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76" name="PlaceHolder 1"/>
          <p:cNvSpPr>
            <a:spLocks noGrp="1"/>
          </p:cNvSpPr>
          <p:nvPr>
            <p:ph/>
          </p:nvPr>
        </p:nvSpPr>
        <p:spPr>
          <a:xfrm>
            <a:off x="476280" y="1905120"/>
            <a:ext cx="8361360" cy="357192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77" name="Picture 5" descr=""/>
          <p:cNvPicPr/>
          <p:nvPr/>
        </p:nvPicPr>
        <p:blipFill>
          <a:blip r:embed="rId1"/>
          <a:stretch/>
        </p:blipFill>
        <p:spPr>
          <a:xfrm>
            <a:off x="627120" y="5560920"/>
            <a:ext cx="8074080" cy="547920"/>
          </a:xfrm>
          <a:prstGeom prst="rect">
            <a:avLst/>
          </a:prstGeom>
          <a:ln w="0">
            <a:noFill/>
          </a:ln>
        </p:spPr>
      </p:pic>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55" dur="500"/>
                                        <p:tgtEl>
                                          <p:spTgt spid="176">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60" dur="500"/>
                                        <p:tgtEl>
                                          <p:spTgt spid="176">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65" dur="500"/>
                                        <p:tgtEl>
                                          <p:spTgt spid="176">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70" dur="500"/>
                                        <p:tgtEl>
                                          <p:spTgt spid="176">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75" dur="500"/>
                                        <p:tgtEl>
                                          <p:spTgt spid="176">
                                            <p:txEl>
                                              <p:pRg st="4" end="4"/>
                                            </p:txEl>
                                          </p:spTgt>
                                        </p:tgtEl>
                                      </p:cBhvr>
                                    </p:animEffect>
                                  </p:childTnLst>
                                </p:cTn>
                              </p:par>
                            </p:childTnLst>
                          </p:cTn>
                        </p:par>
                        <p:par>
                          <p:cTn id="176" nodeType="afterEffect"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77"/>
                                        </p:tgtEl>
                                        <p:attrNameLst>
                                          <p:attrName>style.visibility</p:attrName>
                                        </p:attrNameLst>
                                      </p:cBhvr>
                                      <p:to>
                                        <p:strVal val="visible"/>
                                      </p:to>
                                    </p:set>
                                    <p:animEffect filter="wipe(up)" transition="in">
                                      <p:cBhvr additive="repl">
                                        <p:cTn id="1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D45E-F260-427A-BB2D-0E0450C8430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A39E-6699-4E56-9F13-F63C81279F5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80" name="PlaceHolder 1"/>
          <p:cNvSpPr>
            <a:spLocks noGrp="1"/>
          </p:cNvSpPr>
          <p:nvPr>
            <p:ph/>
          </p:nvPr>
        </p:nvSpPr>
        <p:spPr>
          <a:xfrm>
            <a:off x="837720" y="1905120"/>
            <a:ext cx="7885080" cy="282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81" name="Object 4"/>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Tree>
  </p:cSld>
  <p:transition>
    <p:wipe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81"/>
                                        </p:tgtEl>
                                        <p:attrNameLst>
                                          <p:attrName>style.visibility</p:attrName>
                                        </p:attrNameLst>
                                      </p:cBhvr>
                                      <p:to>
                                        <p:strVal val="visible"/>
                                      </p:to>
                                    </p:set>
                                    <p:animEffect filter="wipe(left)" transition="in">
                                      <p:cBhvr additive="repl">
                                        <p:cTn id="1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E06D-3A79-45EE-8655-6266EEF569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84" name="PlaceHolder 1"/>
          <p:cNvSpPr>
            <a:spLocks noGrp="1"/>
          </p:cNvSpPr>
          <p:nvPr>
            <p:ph/>
          </p:nvPr>
        </p:nvSpPr>
        <p:spPr>
          <a:xfrm>
            <a:off x="837720" y="1905120"/>
            <a:ext cx="7923240" cy="271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5" name="Object 4"/>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Tree>
  </p:cSld>
  <p:transition>
    <p:wipe dir="r"/>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85"/>
                                        </p:tgtEl>
                                        <p:attrNameLst>
                                          <p:attrName>style.visibility</p:attrName>
                                        </p:attrNameLst>
                                      </p:cBhvr>
                                      <p:to>
                                        <p:strVal val="visible"/>
                                      </p:to>
                                    </p:set>
                                    <p:animEffect filter="wipe(left)"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6B62-8A8C-4571-9BCE-E00033D2D35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8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00" dur="500"/>
                                        <p:tgtEl>
                                          <p:spTgt spid="188">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05" dur="500"/>
                                        <p:tgtEl>
                                          <p:spTgt spid="18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10" dur="500"/>
                                        <p:tgtEl>
                                          <p:spTgt spid="188">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15"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B69A-E50F-4E4F-A3FE-A1E9F68F3C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91"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3447-CD6D-4AF2-BD58-3A04CCBC175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95" name="Picture 4" descr=""/>
          <p:cNvPicPr/>
          <p:nvPr/>
        </p:nvPicPr>
        <p:blipFill>
          <a:blip r:embed="rId1"/>
          <a:srcRect l="-3029" t="40728" r="0" b="0"/>
          <a:stretch/>
        </p:blipFill>
        <p:spPr>
          <a:xfrm>
            <a:off x="2244600" y="1839960"/>
            <a:ext cx="6534360" cy="698400"/>
          </a:xfrm>
          <a:prstGeom prst="rect">
            <a:avLst/>
          </a:prstGeom>
          <a:ln w="0">
            <a:noFill/>
          </a:ln>
        </p:spPr>
      </p:pic>
      <p:pic>
        <p:nvPicPr>
          <p:cNvPr id="196" name="Picture 6" descr=""/>
          <p:cNvPicPr/>
          <p:nvPr/>
        </p:nvPicPr>
        <p:blipFill>
          <a:blip r:embed="rId2"/>
          <a:stretch/>
        </p:blipFill>
        <p:spPr>
          <a:xfrm>
            <a:off x="2475000" y="3440160"/>
            <a:ext cx="5180040" cy="630360"/>
          </a:xfrm>
          <a:prstGeom prst="rect">
            <a:avLst/>
          </a:prstGeom>
          <a:ln w="0">
            <a:noFill/>
          </a:ln>
        </p:spPr>
      </p:pic>
      <p:pic>
        <p:nvPicPr>
          <p:cNvPr id="197" name="Picture 8" descr=""/>
          <p:cNvPicPr/>
          <p:nvPr/>
        </p:nvPicPr>
        <p:blipFill>
          <a:blip r:embed="rId3"/>
          <a:stretch/>
        </p:blipFill>
        <p:spPr>
          <a:xfrm>
            <a:off x="2438280" y="4772160"/>
            <a:ext cx="5335560" cy="637920"/>
          </a:xfrm>
          <a:prstGeom prst="rect">
            <a:avLst/>
          </a:prstGeom>
          <a:ln w="0">
            <a:noFill/>
          </a:ln>
        </p:spPr>
      </p:pic>
      <p:pic>
        <p:nvPicPr>
          <p:cNvPr id="198"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6"/>
                                        </p:tgtEl>
                                        <p:attrNameLst>
                                          <p:attrName>style.visibility</p:attrName>
                                        </p:attrNameLst>
                                      </p:cBhvr>
                                      <p:to>
                                        <p:strVal val="visible"/>
                                      </p:to>
                                    </p:set>
                                    <p:animEffect filter="wipe(left)" transition="in">
                                      <p:cBhvr additive="repl">
                                        <p:cTn id="227" dur="500"/>
                                        <p:tgtEl>
                                          <p:spTgt spid="19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7"/>
                                        </p:tgtEl>
                                        <p:attrNameLst>
                                          <p:attrName>style.visibility</p:attrName>
                                        </p:attrNameLst>
                                      </p:cBhvr>
                                      <p:to>
                                        <p:strVal val="visible"/>
                                      </p:to>
                                    </p:set>
                                    <p:animEffect filter="wipe(left)" transition="in">
                                      <p:cBhvr additive="repl">
                                        <p:cTn id="232" dur="500"/>
                                        <p:tgtEl>
                                          <p:spTgt spid="19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8"/>
                                        </p:tgtEl>
                                        <p:attrNameLst>
                                          <p:attrName>style.visibility</p:attrName>
                                        </p:attrNameLst>
                                      </p:cBhvr>
                                      <p:to>
                                        <p:strVal val="visible"/>
                                      </p:to>
                                    </p:set>
                                    <p:animEffect filter="wipe(left)" transition="in">
                                      <p:cBhvr additive="repl">
                                        <p:cTn id="2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D999-9099-4A76-A599-8057EABC84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20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202"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2"/>
                                        </p:tgtEl>
                                        <p:attrNameLst>
                                          <p:attrName>style.visibility</p:attrName>
                                        </p:attrNameLst>
                                      </p:cBhvr>
                                      <p:to>
                                        <p:strVal val="visible"/>
                                      </p:to>
                                    </p:set>
                                    <p:animEffect filter="wipe(left)" transition="in">
                                      <p:cBhvr additive="repl">
                                        <p:cTn id="24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BF06-BDA2-4D09-AE21-2F46242EB44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205"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206"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169A-461B-48F3-A585-2B5C4F52BE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209"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210"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B9CA-CB4A-47FD-8650-3791DD26C01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213"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14"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45B8-F510-4565-A377-571ABCE13C8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217" name="PlaceHolder 1"/>
          <p:cNvSpPr>
            <a:spLocks noGrp="1"/>
          </p:cNvSpPr>
          <p:nvPr>
            <p:ph/>
          </p:nvPr>
        </p:nvSpPr>
        <p:spPr>
          <a:xfrm>
            <a:off x="838080" y="1905120"/>
            <a:ext cx="7693200" cy="1674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8" name="Picture 6" descr="0329"/>
          <p:cNvPicPr/>
          <p:nvPr/>
        </p:nvPicPr>
        <p:blipFill>
          <a:blip r:embed="rId1"/>
          <a:stretch/>
        </p:blipFill>
        <p:spPr>
          <a:xfrm>
            <a:off x="1271520" y="3919680"/>
            <a:ext cx="7220160" cy="238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7429-A374-404F-BFCE-7CA10CF80B2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F17E-444C-4CB8-8FBC-269734D0F1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221" name="Picture 6" descr="0330"/>
          <p:cNvPicPr/>
          <p:nvPr/>
        </p:nvPicPr>
        <p:blipFill>
          <a:blip r:embed="rId1"/>
          <a:stretch/>
        </p:blipFill>
        <p:spPr>
          <a:xfrm>
            <a:off x="1189080" y="1952640"/>
            <a:ext cx="6981840" cy="49053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86F7-654F-45E9-AA95-886D7B2902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3"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224"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BDD7-2221-4AD9-841C-CD4FFFAD5AF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6"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7" name="Picture 4" descr=""/>
          <p:cNvPicPr/>
          <p:nvPr/>
        </p:nvPicPr>
        <p:blipFill>
          <a:blip r:embed="rId1"/>
          <a:stretch/>
        </p:blipFill>
        <p:spPr>
          <a:xfrm>
            <a:off x="1311120" y="4297320"/>
            <a:ext cx="2629080" cy="1836720"/>
          </a:xfrm>
          <a:prstGeom prst="rect">
            <a:avLst/>
          </a:prstGeom>
          <a:ln w="0">
            <a:noFill/>
          </a:ln>
        </p:spPr>
      </p:pic>
      <p:sp>
        <p:nvSpPr>
          <p:cNvPr id="228"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29"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9D47-BAE3-424B-994D-313E9FB3EB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1"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32"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6406-A48F-40D5-9C3F-E70EC6C7E40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35"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5DB0-BA4F-4227-BA33-F185887533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7"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38"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39"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6260-C1A3-48A6-AEF1-9BB854C1766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8BD8-CA14-48CA-B5B2-EADFCD74978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D231-BEFF-4ADF-A5FC-9259130FC47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9EEB-8218-455E-B9BD-026272FB4C2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9582-AA5E-4C94-AE3A-B0D1ED8B652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8DCB-9ABB-46DB-8226-7A31CC16A3A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FCD7-CB15-4709-B216-C3D2BFFA482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34" name="PlaceHolder 1"/>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35"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6" name="Picture 12" descr="0309"/>
          <p:cNvPicPr/>
          <p:nvPr/>
        </p:nvPicPr>
        <p:blipFill>
          <a:blip r:embed="rId1"/>
          <a:stretch/>
        </p:blipFill>
        <p:spPr>
          <a:xfrm>
            <a:off x="801720" y="4903920"/>
            <a:ext cx="8020080" cy="809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8:06Z</dcterms:modified>
  <cp:revision>141</cp:revision>
  <dc:subject>Numerical Values</dc:subject>
  <dc:title>Chapter 3</dc:title>
</cp:coreProperties>
</file>