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5B7E-BAEA-4BEE-A750-9800048F0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8DFA-3936-45D7-BBDA-3AEE17643D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3DA8-0E2F-40F0-9B81-EC8C600C5C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1A08-D9D8-492B-B254-364138F424E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47FE-7297-4887-8D81-62263F377D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E69F-846F-432A-808F-7A2B1675AE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3F78-058A-43A6-BA43-B99C509A290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8296-EA4A-4105-A2E6-08B615C41BC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1318-53B0-44A0-A53C-12409F9B25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DBB0-8012-4129-8529-33886049D5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198F-E2B1-4C63-BCB5-5F41F7E92B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F3CF-CF0B-4A2C-91EF-0D211EBB83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DD74-09B0-461D-A989-332DF9F431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1EBD-AD33-407D-A6C8-CE8BFC09D9D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959B-0995-463F-9372-F8AC477CCF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79AC-0F7D-4964-9F79-FC4DE2115BF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E980-7F24-40B0-A766-5B39FC2C7A1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4D8E-0E70-4C07-9E9D-4764EA8A49C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3C06-73A1-4C69-854B-9866D83111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3CB3-381D-47C0-AD22-F6ABE444D1A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AA59-C9CE-4DB5-AA30-C350AE6DB13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C5BC-C81C-4DE7-8344-ABC38335A5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D9A3-C39E-4007-9D87-A55B74E191F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2831-90AA-447E-A8A5-E976A26F14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B702-9D71-4704-956F-2C3A65F953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758B-011F-4A33-B047-B7C27901DF8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9733-97E3-43F1-A915-623DE138D41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46BC-3CE1-4321-A7C9-68C4E8F598A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3F20-8DD5-46A0-B55D-B5E30483D6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D3C8-B59B-4476-8A84-8F587709AD5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6AEC-C812-44E7-906E-3974A24B0DB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B06C-FE39-4739-8173-37C1AA5AF7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4604-8AD7-4C6A-92D3-5EAC1F4803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DE87-DC14-49B7-B940-E2B0BBB9AE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901D-8A41-434C-B1DF-BCFED656EA2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F02C-2B8A-4704-A489-6513C259F9A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D9A9-B99C-4772-9295-062107FA2CC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CD62B1-2152-4F4E-B1B9-942D456CD2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B1E05-4415-4700-A15C-7A0E63D6E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534FCA-4229-4FBB-B3DB-85258CC79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1D2237-A590-46A8-8E0A-159BED6F8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CD17DB-0B3A-40F6-8DBD-5F68BB5867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133E2F-C8CF-46EB-B13C-0F8CB1BDC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1D509E-6F44-4BF5-8D00-FB1AA8C8D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09377-34F8-432F-AD2E-27A0C7A31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89827A-E0A1-4755-9154-E4F7F7B00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28BD4-7798-4E24-A1B0-B9FFE95F96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36F1E-8FDD-45A5-8D9F-B00529996C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00FF2E-0ACF-4D6D-8065-F8798CCD3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CB67-B8CE-400F-AF9B-F73C081CE06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5D40-F7E1-40F0-8369-6C12CA1372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3C0C-7AE5-4D25-A684-ACDA780E2F1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E471-99C3-4A27-8E2C-A2036907AE0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9BCB-CEDB-46A3-A82A-1BF672E9F0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30B8-F676-4FD7-B318-73CD2B9AC5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1888-30D3-4D8F-BF16-358430B7B7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785A-1F95-4F1F-8856-677F25AEA2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5C0D-CABF-4F79-9E03-CE2FCF0F90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BA88-0AF5-4ABC-B8C8-B845CEA781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6B1A-76CA-47F5-9739-E0FD0D0F71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D207-DE83-4D1E-8244-5B6399584D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09E0-6465-4B21-9924-FCF507287F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CCAE-47EF-4D72-B348-E65A6C82E8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80C3-F951-477E-B19A-76E71F58B6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0BEA-5F2C-4B56-AABE-03CFB4A2A8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607F-40B8-428A-BBAE-FDC71E41C7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8AAC-F6CF-4446-A13C-24F84B4456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9C3F-BBF8-41EF-BF07-0E04F9AD84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A272-5104-4F69-AAD2-35E35D7095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93EE-369B-474F-8B3B-DAAC10071B4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B57A-3B21-4D84-95E6-8F4D1E307C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7"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8"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E30F-1322-40B5-B78B-94D9E0EF70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26BD-4780-4E41-99D3-7233A57813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1"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9376-CCF1-4240-8228-B09C2B8FA8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4"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5F08-4E04-47C5-9D39-F24B331370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7" name="Picture 4" descr=""/>
          <p:cNvPicPr/>
          <p:nvPr/>
        </p:nvPicPr>
        <p:blipFill>
          <a:blip r:embed="rId1"/>
          <a:stretch/>
        </p:blipFill>
        <p:spPr>
          <a:xfrm>
            <a:off x="1311120" y="4297320"/>
            <a:ext cx="2629080" cy="1836720"/>
          </a:xfrm>
          <a:prstGeom prst="rect">
            <a:avLst/>
          </a:prstGeom>
          <a:ln w="0">
            <a:noFill/>
          </a:ln>
        </p:spPr>
      </p:pic>
      <p:sp>
        <p:nvSpPr>
          <p:cNvPr id="228"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9"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F193-25C0-4015-AA36-731254CCE6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1"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2"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E045-1B84-4A50-A5F5-2346996B16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5"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4F4C-4712-448C-8BA0-55CEBFC95A0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8"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9"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3130-2150-42B9-A171-986DD41934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FCC3-615D-42B5-B8D3-269B51FDBA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D1F4-E68E-4EED-8445-5B59D41889F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0509-0073-4494-9C22-029C33F989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5A61-59C3-40AF-B231-4B4161AB61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6B8E-0A73-45C4-BD07-36125AAE6D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ACA1-4F57-4AEE-8A3C-9BFAA329D4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8:06Z</dcterms:modified>
  <cp:revision>141</cp:revision>
  <dc:subject>Numerical Values</dc:subject>
  <dc:title>Chapter 3</dc:title>
</cp:coreProperties>
</file>