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BBF4-D304-49FB-8D4F-37FFE2FAB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BE5B-9F31-4B84-A6AC-FD510215A80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1566-22A7-4399-9E10-8A363A7CFBF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0286-1415-44AC-AFC4-E170EBAEA18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24C4-DB28-4A28-8748-7BD56FC1A5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2141-1032-4A83-9A21-BCA15942A7B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13F5-D2A9-417C-B12F-567BA34C1C8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50AB-F0C9-400A-8698-A08A8C3FFA1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63C4-F24E-4B39-B006-EEF02E621DF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FCE3-31CB-4551-8DCF-33B9595250C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9C41-369A-4877-B06B-688A8E2065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F5ED-030A-465D-A1E0-976D40C1B7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1B26-5026-4C97-85D2-FF598CE5B0B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86EF-1396-45A8-A308-077D8D2E78C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63E2-DDEC-433F-ABC2-07348BF7FB2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A90F-4218-47A2-AE09-34F23EA866F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91B7-8EFC-4E17-9717-D72D73C829F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9487-0FFE-4F5B-AF5E-8C7E3DE66C8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5F69-81A7-4B17-A30D-E7DA715B8D9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9117-05FD-49E6-9A15-4852FE1CE4B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FD08-D745-4214-8A88-E7560A52FFA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FE68-C7D8-4987-959C-0E0DA893155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7667-59AC-43C8-B939-5D2372DB70D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CF78-32B7-4DF6-929E-E74E280128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5023-35C1-4794-A7FE-FB378CEC760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2B08-4F8E-44AF-A0E5-F2D5E120029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33BD-3948-42EB-BE52-463F3811844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A043-63E5-4DA0-BED7-8039CE206B3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ABF2-2F13-4C8B-A386-8F733FA492C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8C7A38-13E3-4648-AEBD-C8D223FD62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170A43-1584-4CF3-B0D3-3A7512E5E7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55221D-654C-4B1C-8F99-6405A6F787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11BAFE-87AB-4DF2-96D9-E9CCC1EC74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BED2DF-878E-412C-BE30-E32AD1E6B7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344483-019B-467C-A50B-B7D3F089FB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19FC65-4140-44E2-A5EA-F86D9E5A13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C43DE5-EC5A-4BCE-8696-BF34310220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66E593-4FDE-4329-AB8C-AF5FE80335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D6F2D5-9092-4950-8AC2-4214968B2A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950EA6-F567-469F-BF27-3A1442D3C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237BA-4B1D-4EC4-9A31-F1BDE31E2B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D453-28F5-4427-920B-03F8FD8650F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DB95-C7FF-402F-8665-FBFDC7B2BEE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7"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98DF-8800-4B8C-8D72-79666745913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40"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4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2"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74" dur="500"/>
                                        <p:tgtEl>
                                          <p:spTgt spid="14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79" dur="500"/>
                                        <p:tgtEl>
                                          <p:spTgt spid="140">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84" dur="500"/>
                                        <p:tgtEl>
                                          <p:spTgt spid="140">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89" dur="500"/>
                                        <p:tgtEl>
                                          <p:spTgt spid="140">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9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CEC0-13E6-4103-A3DC-30379A55BA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5"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C1C2-2E97-4FBA-A6D4-9DCCE6CEF48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9"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01" dur="500"/>
                                        <p:tgtEl>
                                          <p:spTgt spid="149">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06" dur="500"/>
                                        <p:tgtEl>
                                          <p:spTgt spid="149">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11" dur="500"/>
                                        <p:tgtEl>
                                          <p:spTgt spid="149">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1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77CC-7F8E-479E-B868-27310EDA95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3"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23" dur="500"/>
                                        <p:tgtEl>
                                          <p:spTgt spid="15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128" dur="500"/>
                                        <p:tgtEl>
                                          <p:spTgt spid="15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33" dur="500"/>
                                        <p:tgtEl>
                                          <p:spTgt spid="15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38" dur="500"/>
                                        <p:tgtEl>
                                          <p:spTgt spid="15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3">
                                            <p:txEl>
                                              <p:pRg st="7" end="7"/>
                                            </p:txEl>
                                          </p:spTgt>
                                        </p:tgtEl>
                                        <p:attrNameLst>
                                          <p:attrName>style.visibility</p:attrName>
                                        </p:attrNameLst>
                                      </p:cBhvr>
                                      <p:to>
                                        <p:strVal val="visible"/>
                                      </p:to>
                                    </p:set>
                                    <p:animEffect filter="wipe(up)" transition="in">
                                      <p:cBhvr additive="repl">
                                        <p:cTn id="143" dur="500"/>
                                        <p:tgtEl>
                                          <p:spTgt spid="15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5"/>
                                        </p:tgtEl>
                                        <p:attrNameLst>
                                          <p:attrName>style.visibility</p:attrName>
                                        </p:attrNameLst>
                                      </p:cBhvr>
                                      <p:to>
                                        <p:strVal val="visible"/>
                                      </p:to>
                                    </p:set>
                                    <p:animEffect filter="wipe(up)" transition="in">
                                      <p:cBhvr additive="repl">
                                        <p:cTn id="14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E86D-0186-417D-9183-38D5A24F1B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8"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D32F-08EB-44EF-BFC8-2A62F046456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3"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C219-3CDE-4EBD-9CB9-20843456B72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6"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7" name="Picture 5" descr=""/>
          <p:cNvPicPr/>
          <p:nvPr/>
        </p:nvPicPr>
        <p:blipFill>
          <a:blip r:embed="rId1"/>
          <a:stretch/>
        </p:blipFill>
        <p:spPr>
          <a:xfrm>
            <a:off x="689040" y="2833560"/>
            <a:ext cx="2628720" cy="1836720"/>
          </a:xfrm>
          <a:prstGeom prst="rect">
            <a:avLst/>
          </a:prstGeom>
          <a:ln w="0">
            <a:noFill/>
          </a:ln>
        </p:spPr>
      </p:pic>
      <p:pic>
        <p:nvPicPr>
          <p:cNvPr id="168"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18C1-7490-473E-8018-7D0725293C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1"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79EE-A420-43B7-AD62-15CE107FD4F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7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55" dur="500"/>
                                        <p:tgtEl>
                                          <p:spTgt spid="17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0" dur="500"/>
                                        <p:tgtEl>
                                          <p:spTgt spid="17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65" dur="500"/>
                                        <p:tgtEl>
                                          <p:spTgt spid="17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0"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4884-E712-44E4-803A-C1B09F8D859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1103-38A1-429F-92C9-D64FD6FA25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77"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35A4-8ADA-4C74-B79C-C6B6FB4236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80"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81" name="Picture 4" descr=""/>
          <p:cNvPicPr/>
          <p:nvPr/>
        </p:nvPicPr>
        <p:blipFill>
          <a:blip r:embed="rId1"/>
          <a:srcRect l="-3029" t="40728" r="0" b="0"/>
          <a:stretch/>
        </p:blipFill>
        <p:spPr>
          <a:xfrm>
            <a:off x="2244600" y="1839960"/>
            <a:ext cx="6534360" cy="698400"/>
          </a:xfrm>
          <a:prstGeom prst="rect">
            <a:avLst/>
          </a:prstGeom>
          <a:ln w="0">
            <a:noFill/>
          </a:ln>
        </p:spPr>
      </p:pic>
      <p:pic>
        <p:nvPicPr>
          <p:cNvPr id="182" name="Picture 6" descr=""/>
          <p:cNvPicPr/>
          <p:nvPr/>
        </p:nvPicPr>
        <p:blipFill>
          <a:blip r:embed="rId2"/>
          <a:stretch/>
        </p:blipFill>
        <p:spPr>
          <a:xfrm>
            <a:off x="2475000" y="3440160"/>
            <a:ext cx="5180040" cy="630360"/>
          </a:xfrm>
          <a:prstGeom prst="rect">
            <a:avLst/>
          </a:prstGeom>
          <a:ln w="0">
            <a:noFill/>
          </a:ln>
        </p:spPr>
      </p:pic>
      <p:pic>
        <p:nvPicPr>
          <p:cNvPr id="183" name="Picture 8" descr=""/>
          <p:cNvPicPr/>
          <p:nvPr/>
        </p:nvPicPr>
        <p:blipFill>
          <a:blip r:embed="rId3"/>
          <a:stretch/>
        </p:blipFill>
        <p:spPr>
          <a:xfrm>
            <a:off x="2438280" y="4772160"/>
            <a:ext cx="5335560" cy="637920"/>
          </a:xfrm>
          <a:prstGeom prst="rect">
            <a:avLst/>
          </a:prstGeom>
          <a:ln w="0">
            <a:noFill/>
          </a:ln>
        </p:spPr>
      </p:pic>
      <p:pic>
        <p:nvPicPr>
          <p:cNvPr id="184"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1"/>
                                        </p:tgtEl>
                                        <p:attrNameLst>
                                          <p:attrName>style.visibility</p:attrName>
                                        </p:attrNameLst>
                                      </p:cBhvr>
                                      <p:to>
                                        <p:strVal val="visible"/>
                                      </p:to>
                                    </p:set>
                                    <p:animEffect filter="wipe(left)" transition="in">
                                      <p:cBhvr additive="repl">
                                        <p:cTn id="177" dur="500"/>
                                        <p:tgtEl>
                                          <p:spTgt spid="18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2"/>
                                        </p:tgtEl>
                                        <p:attrNameLst>
                                          <p:attrName>style.visibility</p:attrName>
                                        </p:attrNameLst>
                                      </p:cBhvr>
                                      <p:to>
                                        <p:strVal val="visible"/>
                                      </p:to>
                                    </p:set>
                                    <p:animEffect filter="wipe(left)"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3"/>
                                        </p:tgtEl>
                                        <p:attrNameLst>
                                          <p:attrName>style.visibility</p:attrName>
                                        </p:attrNameLst>
                                      </p:cBhvr>
                                      <p:to>
                                        <p:strVal val="visible"/>
                                      </p:to>
                                    </p:set>
                                    <p:animEffect filter="wipe(left)" transition="in">
                                      <p:cBhvr additive="repl">
                                        <p:cTn id="187" dur="500"/>
                                        <p:tgtEl>
                                          <p:spTgt spid="18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84"/>
                                        </p:tgtEl>
                                        <p:attrNameLst>
                                          <p:attrName>style.visibility</p:attrName>
                                        </p:attrNameLst>
                                      </p:cBhvr>
                                      <p:to>
                                        <p:strVal val="visible"/>
                                      </p:to>
                                    </p:set>
                                    <p:animEffect filter="wipe(left)"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C1A8-AE18-492E-BFB8-0E59F274DEB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8"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8"/>
                                        </p:tgtEl>
                                        <p:attrNameLst>
                                          <p:attrName>style.visibility</p:attrName>
                                        </p:attrNameLst>
                                      </p:cBhvr>
                                      <p:to>
                                        <p:strVal val="visible"/>
                                      </p:to>
                                    </p:set>
                                    <p:animEffect filter="wipe(left)" transition="in">
                                      <p:cBhvr additive="repl">
                                        <p:cTn id="1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4BAC-73A4-4A86-852D-B5A73DA597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9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92"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A904-3C43-4F85-BF49-92067590EF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95"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96"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8FD0-2FA5-47B3-A258-6B4B7D7A626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9"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00"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4776-8EE0-43DC-AD13-33559F6191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3"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7170-8217-49BD-BF58-9F99CFE13B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6"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07"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6FD2-3E7D-4AEE-ABBA-C3943A35A1B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B9A4-202D-4D32-9089-12C37F8EE9A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287E-90CB-442C-8DA9-94255ABB454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1987-B27F-4234-8A27-E251B88B14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09B5-E155-403A-91CD-C0E003E7FEA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6927-6FE9-4653-8E93-B6C96EDFD2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A289-4DD5-4433-A661-D9D01EFD10D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29"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EC3E-5C24-4158-84CE-B6982198CB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2" name="Picture 4" descr=""/>
          <p:cNvPicPr/>
          <p:nvPr/>
        </p:nvPicPr>
        <p:blipFill>
          <a:blip r:embed="rId1"/>
          <a:stretch/>
        </p:blipFill>
        <p:spPr>
          <a:xfrm>
            <a:off x="1311120" y="4297320"/>
            <a:ext cx="2629080" cy="1836720"/>
          </a:xfrm>
          <a:prstGeom prst="rect">
            <a:avLst/>
          </a:prstGeom>
          <a:ln w="0">
            <a:noFill/>
          </a:ln>
        </p:spPr>
      </p:pic>
      <p:sp>
        <p:nvSpPr>
          <p:cNvPr id="133"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4"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1:35Z</dcterms:modified>
  <cp:revision>145</cp:revision>
  <dc:subject>Numerical Values</dc:subject>
  <dc:title>Chapter 3</dc:title>
</cp:coreProperties>
</file>