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590F1-8D5D-4B13-934D-C347FA2D8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0BAE-67D2-4479-B955-6B33D3C6D96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0DE3-B2C2-485F-9F62-74AC19E8265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F08E-68CD-4B7D-8A24-BFBE2EA299C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7278-1AE7-4ABE-B8F2-F9355AFB347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4C970-C5B9-47D5-8096-227C41F3AB2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18DFE-508A-4062-A9B6-21FD63D4392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A337D-079B-4986-A1F5-4708D77CBBC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C2D8-5656-4D12-B3E7-324E324CA07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F0BD-ADD6-4D27-9477-D2B2F1B8377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F3EDF-23F5-4350-BD2B-82E671BD26C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3FEA-2DAD-4620-A28C-4E52D77A149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7946-8C14-4FDA-8256-429AB677BA4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9BD64-7976-4D44-AB0E-674E4CEC2BE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ED94-3203-48C5-BF80-602316126CD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3A86-DEEE-4154-BC0E-DF271E0F96D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6403-F368-44E5-A457-96534545EDB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6CFF-A192-446E-B9C2-BB738328538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751A6-62E1-4BCD-9027-CF85591ECE4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91DD8-E83F-47E2-B99B-F5C878406B3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C0275-83E9-4A9C-9B6D-C790069E5B5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82DF-D009-46FD-95EF-FC3031AE78F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0594-E193-419C-B52C-1FEDD3E8E37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1873-9891-469C-B017-63F4227C1B2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5992-FB09-4F77-AB8F-CF244EBEC09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38C2-205F-451E-877B-A07BC4805EF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E2F0-5A53-46F5-9AD5-1105012720F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58AB-2FA5-4A36-899D-4BE88D383A4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3F804-7870-4C92-8518-5D688FA53CC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4C08C7-1516-4BD7-A344-5BA0F0A94B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2CED96-65F2-4082-A500-4ACCE165DD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A19C57-44CC-4BB3-9EF1-E4DE1F2370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5E04B0-21AF-47B0-B482-AD27187AF2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D57571-A9AE-4AF3-BF3A-C7B949D3C4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3A3491-AB5D-4364-93E9-312EB56FD0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BA9739-77CF-497D-AAD9-1377898371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193E7E-AA49-423A-95E1-D9F1447E1E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159AF9-7EBA-493B-B85F-8225E9EC36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180C38-02E5-4D54-8A3A-5C96E84598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69141B-B53F-4EC8-8924-A5ED650D4E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FFC25F-C4CA-4C72-9BB9-620FB27E18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CD86-5771-4604-98E5-20225B9A8C3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93A0-673B-40C1-B17C-EC3B6B573A6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6"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37"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2A00-0F05-4DB9-96C1-FA1818F541B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40"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41"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42"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74" dur="500"/>
                                        <p:tgtEl>
                                          <p:spTgt spid="14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40">
                                            <p:txEl>
                                              <p:pRg st="1" end="1"/>
                                            </p:txEl>
                                          </p:spTgt>
                                        </p:tgtEl>
                                        <p:attrNameLst>
                                          <p:attrName>style.visibility</p:attrName>
                                        </p:attrNameLst>
                                      </p:cBhvr>
                                      <p:to>
                                        <p:strVal val="visible"/>
                                      </p:to>
                                    </p:set>
                                    <p:animEffect filter="wipe(up)" transition="in">
                                      <p:cBhvr additive="repl">
                                        <p:cTn id="79" dur="500"/>
                                        <p:tgtEl>
                                          <p:spTgt spid="140">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84" dur="500"/>
                                        <p:tgtEl>
                                          <p:spTgt spid="140">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40">
                                            <p:txEl>
                                              <p:pRg st="3" end="3"/>
                                            </p:txEl>
                                          </p:spTgt>
                                        </p:tgtEl>
                                        <p:attrNameLst>
                                          <p:attrName>style.visibility</p:attrName>
                                        </p:attrNameLst>
                                      </p:cBhvr>
                                      <p:to>
                                        <p:strVal val="visible"/>
                                      </p:to>
                                    </p:set>
                                    <p:animEffect filter="wipe(up)" transition="in">
                                      <p:cBhvr additive="repl">
                                        <p:cTn id="89" dur="500"/>
                                        <p:tgtEl>
                                          <p:spTgt spid="140">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94"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2740-2F27-4357-B1FB-F02DCF1708E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45"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6882-008C-4190-A5D3-A22FE4A0780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49"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5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101" dur="500"/>
                                        <p:tgtEl>
                                          <p:spTgt spid="149">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106" dur="500"/>
                                        <p:tgtEl>
                                          <p:spTgt spid="149">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111" dur="500"/>
                                        <p:tgtEl>
                                          <p:spTgt spid="149">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9">
                                            <p:txEl>
                                              <p:pRg st="3" end="3"/>
                                            </p:txEl>
                                          </p:spTgt>
                                        </p:tgtEl>
                                        <p:attrNameLst>
                                          <p:attrName>style.visibility</p:attrName>
                                        </p:attrNameLst>
                                      </p:cBhvr>
                                      <p:to>
                                        <p:strVal val="visible"/>
                                      </p:to>
                                    </p:set>
                                    <p:animEffect filter="wipe(left)" transition="in">
                                      <p:cBhvr additive="repl">
                                        <p:cTn id="116"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EE27-5AE5-4B16-9F24-E69C978FDE0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53"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5"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123" dur="500"/>
                                        <p:tgtEl>
                                          <p:spTgt spid="15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53">
                                            <p:txEl>
                                              <p:pRg st="1" end="1"/>
                                            </p:txEl>
                                          </p:spTgt>
                                        </p:tgtEl>
                                        <p:attrNameLst>
                                          <p:attrName>style.visibility</p:attrName>
                                        </p:attrNameLst>
                                      </p:cBhvr>
                                      <p:to>
                                        <p:strVal val="visible"/>
                                      </p:to>
                                    </p:set>
                                    <p:animEffect filter="wipe(up)" transition="in">
                                      <p:cBhvr additive="repl">
                                        <p:cTn id="128" dur="500"/>
                                        <p:tgtEl>
                                          <p:spTgt spid="153">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3">
                                            <p:txEl>
                                              <p:pRg st="3" end="3"/>
                                            </p:txEl>
                                          </p:spTgt>
                                        </p:tgtEl>
                                        <p:attrNameLst>
                                          <p:attrName>style.visibility</p:attrName>
                                        </p:attrNameLst>
                                      </p:cBhvr>
                                      <p:to>
                                        <p:strVal val="visible"/>
                                      </p:to>
                                    </p:set>
                                    <p:animEffect filter="wipe(up)" transition="in">
                                      <p:cBhvr additive="repl">
                                        <p:cTn id="133" dur="500"/>
                                        <p:tgtEl>
                                          <p:spTgt spid="15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53">
                                            <p:txEl>
                                              <p:pRg st="5" end="5"/>
                                            </p:txEl>
                                          </p:spTgt>
                                        </p:tgtEl>
                                        <p:attrNameLst>
                                          <p:attrName>style.visibility</p:attrName>
                                        </p:attrNameLst>
                                      </p:cBhvr>
                                      <p:to>
                                        <p:strVal val="visible"/>
                                      </p:to>
                                    </p:set>
                                    <p:animEffect filter="wipe(up)" transition="in">
                                      <p:cBhvr additive="repl">
                                        <p:cTn id="138" dur="500"/>
                                        <p:tgtEl>
                                          <p:spTgt spid="153">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53">
                                            <p:txEl>
                                              <p:pRg st="7" end="7"/>
                                            </p:txEl>
                                          </p:spTgt>
                                        </p:tgtEl>
                                        <p:attrNameLst>
                                          <p:attrName>style.visibility</p:attrName>
                                        </p:attrNameLst>
                                      </p:cBhvr>
                                      <p:to>
                                        <p:strVal val="visible"/>
                                      </p:to>
                                    </p:set>
                                    <p:animEffect filter="wipe(up)" transition="in">
                                      <p:cBhvr additive="repl">
                                        <p:cTn id="143" dur="500"/>
                                        <p:tgtEl>
                                          <p:spTgt spid="153">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55"/>
                                        </p:tgtEl>
                                        <p:attrNameLst>
                                          <p:attrName>style.visibility</p:attrName>
                                        </p:attrNameLst>
                                      </p:cBhvr>
                                      <p:to>
                                        <p:strVal val="visible"/>
                                      </p:to>
                                    </p:set>
                                    <p:animEffect filter="wipe(up)" transition="in">
                                      <p:cBhvr additive="repl">
                                        <p:cTn id="14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B93E-565A-437A-8CF7-7BDFAD7F054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58"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0"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E8FA-894A-45C1-9161-6A9FC997E09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63"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D5DA-496A-4A20-9C4C-3732EBFE220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66"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67" name="Picture 5" descr=""/>
          <p:cNvPicPr/>
          <p:nvPr/>
        </p:nvPicPr>
        <p:blipFill>
          <a:blip r:embed="rId1"/>
          <a:stretch/>
        </p:blipFill>
        <p:spPr>
          <a:xfrm>
            <a:off x="689040" y="2833560"/>
            <a:ext cx="2628720" cy="1836720"/>
          </a:xfrm>
          <a:prstGeom prst="rect">
            <a:avLst/>
          </a:prstGeom>
          <a:ln w="0">
            <a:noFill/>
          </a:ln>
        </p:spPr>
      </p:pic>
      <p:pic>
        <p:nvPicPr>
          <p:cNvPr id="168"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8AFC-3815-4A2A-BF4D-075FC61DF8F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0"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71"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67A3-425B-4F3D-A0CC-785E3B8B889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7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55" dur="500"/>
                                        <p:tgtEl>
                                          <p:spTgt spid="17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60" dur="500"/>
                                        <p:tgtEl>
                                          <p:spTgt spid="174">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165" dur="500"/>
                                        <p:tgtEl>
                                          <p:spTgt spid="174">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170"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46FB-453A-4144-8642-3CD0F5B3156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F80A-539E-4211-AD8A-F055BE098DF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77"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54F0-8B49-4253-8757-C62FFB977C0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80"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81" name="Picture 4" descr=""/>
          <p:cNvPicPr/>
          <p:nvPr/>
        </p:nvPicPr>
        <p:blipFill>
          <a:blip r:embed="rId1"/>
          <a:srcRect l="-3029" t="40728" r="0" b="0"/>
          <a:stretch/>
        </p:blipFill>
        <p:spPr>
          <a:xfrm>
            <a:off x="2244600" y="1839960"/>
            <a:ext cx="6534360" cy="698400"/>
          </a:xfrm>
          <a:prstGeom prst="rect">
            <a:avLst/>
          </a:prstGeom>
          <a:ln w="0">
            <a:noFill/>
          </a:ln>
        </p:spPr>
      </p:pic>
      <p:pic>
        <p:nvPicPr>
          <p:cNvPr id="182" name="Picture 6" descr=""/>
          <p:cNvPicPr/>
          <p:nvPr/>
        </p:nvPicPr>
        <p:blipFill>
          <a:blip r:embed="rId2"/>
          <a:stretch/>
        </p:blipFill>
        <p:spPr>
          <a:xfrm>
            <a:off x="2475000" y="3440160"/>
            <a:ext cx="5180040" cy="630360"/>
          </a:xfrm>
          <a:prstGeom prst="rect">
            <a:avLst/>
          </a:prstGeom>
          <a:ln w="0">
            <a:noFill/>
          </a:ln>
        </p:spPr>
      </p:pic>
      <p:pic>
        <p:nvPicPr>
          <p:cNvPr id="183" name="Picture 8" descr=""/>
          <p:cNvPicPr/>
          <p:nvPr/>
        </p:nvPicPr>
        <p:blipFill>
          <a:blip r:embed="rId3"/>
          <a:stretch/>
        </p:blipFill>
        <p:spPr>
          <a:xfrm>
            <a:off x="2438280" y="4772160"/>
            <a:ext cx="5335560" cy="637920"/>
          </a:xfrm>
          <a:prstGeom prst="rect">
            <a:avLst/>
          </a:prstGeom>
          <a:ln w="0">
            <a:noFill/>
          </a:ln>
        </p:spPr>
      </p:pic>
      <p:pic>
        <p:nvPicPr>
          <p:cNvPr id="184"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81"/>
                                        </p:tgtEl>
                                        <p:attrNameLst>
                                          <p:attrName>style.visibility</p:attrName>
                                        </p:attrNameLst>
                                      </p:cBhvr>
                                      <p:to>
                                        <p:strVal val="visible"/>
                                      </p:to>
                                    </p:set>
                                    <p:animEffect filter="wipe(left)" transition="in">
                                      <p:cBhvr additive="repl">
                                        <p:cTn id="177" dur="500"/>
                                        <p:tgtEl>
                                          <p:spTgt spid="181"/>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82"/>
                                        </p:tgtEl>
                                        <p:attrNameLst>
                                          <p:attrName>style.visibility</p:attrName>
                                        </p:attrNameLst>
                                      </p:cBhvr>
                                      <p:to>
                                        <p:strVal val="visible"/>
                                      </p:to>
                                    </p:set>
                                    <p:animEffect filter="wipe(left)" transition="in">
                                      <p:cBhvr additive="repl">
                                        <p:cTn id="182" dur="500"/>
                                        <p:tgtEl>
                                          <p:spTgt spid="182"/>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83"/>
                                        </p:tgtEl>
                                        <p:attrNameLst>
                                          <p:attrName>style.visibility</p:attrName>
                                        </p:attrNameLst>
                                      </p:cBhvr>
                                      <p:to>
                                        <p:strVal val="visible"/>
                                      </p:to>
                                    </p:set>
                                    <p:animEffect filter="wipe(left)" transition="in">
                                      <p:cBhvr additive="repl">
                                        <p:cTn id="187" dur="500"/>
                                        <p:tgtEl>
                                          <p:spTgt spid="183"/>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84"/>
                                        </p:tgtEl>
                                        <p:attrNameLst>
                                          <p:attrName>style.visibility</p:attrName>
                                        </p:attrNameLst>
                                      </p:cBhvr>
                                      <p:to>
                                        <p:strVal val="visible"/>
                                      </p:to>
                                    </p:set>
                                    <p:animEffect filter="wipe(left)" transition="in">
                                      <p:cBhvr additive="repl">
                                        <p:cTn id="19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F5A0-42FF-4E44-8566-23583F2A5BA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187"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188"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Tree>
  </p:cSld>
  <p:transition>
    <p:wipe dir="r"/>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88"/>
                                        </p:tgtEl>
                                        <p:attrNameLst>
                                          <p:attrName>style.visibility</p:attrName>
                                        </p:attrNameLst>
                                      </p:cBhvr>
                                      <p:to>
                                        <p:strVal val="visible"/>
                                      </p:to>
                                    </p:set>
                                    <p:animEffect filter="wipe(left)" transition="in">
                                      <p:cBhvr additive="repl">
                                        <p:cTn id="19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7E3E-9A29-43DB-A0A5-E5E419275FF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191"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192"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9474-1215-4C27-B4B0-17D9959E633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4"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195"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196"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7F37-D2BD-4256-A799-F62D3DE9433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199"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200" name="Picture 10" descr="0328"/>
          <p:cNvPicPr/>
          <p:nvPr/>
        </p:nvPicPr>
        <p:blipFill>
          <a:blip r:embed="rId1"/>
          <a:stretch/>
        </p:blipFill>
        <p:spPr>
          <a:xfrm>
            <a:off x="3643200" y="2187720"/>
            <a:ext cx="5295960" cy="417168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C8CED-0186-4916-B60B-C49F9ABE68E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03" name="Picture 6" descr="0334"/>
          <p:cNvPicPr/>
          <p:nvPr/>
        </p:nvPicPr>
        <p:blipFill>
          <a:blip r:embed="rId1"/>
          <a:stretch/>
        </p:blipFill>
        <p:spPr>
          <a:xfrm>
            <a:off x="630360" y="2478240"/>
            <a:ext cx="8315280" cy="31431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D8762-796D-4C8E-BF58-2C738E6E175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06"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07"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9DA7-A691-4CB3-975E-DEC866C5B75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9"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E04E-E4EC-4300-8A2F-3A6A862CB96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CE2C-B0B4-4B20-920C-891C7FD3CE6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F4F0-5EB2-4F51-9AFD-DCA0B085AA1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BB51-EB71-422C-8072-2F68A72F96D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EB1C-2E6E-4139-824C-AF7D49A5527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ECA7-0543-45EE-A6A3-F3880072B8B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129"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6098-74A7-4E40-A9EC-4A3F1B000FA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2" name="Picture 4" descr=""/>
          <p:cNvPicPr/>
          <p:nvPr/>
        </p:nvPicPr>
        <p:blipFill>
          <a:blip r:embed="rId1"/>
          <a:stretch/>
        </p:blipFill>
        <p:spPr>
          <a:xfrm>
            <a:off x="1311120" y="4297320"/>
            <a:ext cx="2629080" cy="1836720"/>
          </a:xfrm>
          <a:prstGeom prst="rect">
            <a:avLst/>
          </a:prstGeom>
          <a:ln w="0">
            <a:noFill/>
          </a:ln>
        </p:spPr>
      </p:pic>
      <p:sp>
        <p:nvSpPr>
          <p:cNvPr id="133"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34"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1:35Z</dcterms:modified>
  <cp:revision>145</cp:revision>
  <dc:subject>Numerical Values</dc:subject>
  <dc:title>Chapter 3</dc:title>
</cp:coreProperties>
</file>