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DDE8-CE1F-468D-AA80-F6021F5A0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DA07-859A-4821-9128-FC80F5302D5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6316-54FD-41D4-BCEE-920AD81B875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6280-8851-4582-ABC4-F87ED103B61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1311-0660-4F4F-8D09-E131F1733B6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0046-931F-4A8B-A6F9-14A577574AA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F54F-DA0F-47C0-9EDB-B84E855AD53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428E-9222-4E26-939D-EF73A30BB43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3C68-4F51-4FD3-BE83-35BF562A79B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724C-27C6-4CE1-BAEC-0AFFBAEC405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2AE5-EDE5-4A2F-B347-D9855164F66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C62C-E914-46DB-9A17-D669622E6CC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6CAB-2A62-43AA-B469-8C335D25DA2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577B-8360-4596-9F73-A834FD9B0D9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CEE5-6A6F-4C97-AD86-B9433225B39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0FCC-AC5E-4FAF-964A-D0063123C73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B0C5-E9EC-42FF-BC89-26A43297967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1D8A-E752-47FB-9DCD-8101C8F8F50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096C-040A-4A78-8B67-7F149D919D1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1CF4-8AA1-42AA-8821-CFF65DEF5D4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C076-6364-40C5-9DF4-6DC69D1634D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F495-BE5F-41A5-8F15-49DADFF264D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43C5-343F-4A9F-984D-1F45552B6D4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E69B-632F-4BED-83C2-4B13D24F04A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039D-A0CF-4A5F-98B7-CA09088EA37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A594-7AF9-4694-A187-A96540F62A4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215D-3703-435F-BC3B-338F8A3A56D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A453-7B22-430D-A752-4FDB03595E0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F682-F162-42A8-B358-4125E45CDFC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83F2-4FF4-40DA-A843-5DA747E8704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4EEB-B42A-4C13-9A33-E77ABD202FD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08BE-FD6E-4997-95D9-A90F8A2F413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C906-3233-4CC6-839A-372C5FF6520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665A-265D-442B-9DCD-E5BBF4FE48D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6D22-0EE9-4F27-9005-ADDA8756B4E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0F61-770F-41B0-9944-750CD5A7D5F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CD65-3C7B-4A08-89A6-6C2150B301E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C1690F-0663-4387-815F-92CABF363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FBBBEE-1628-4905-B094-B34A5DE7A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EF0E55-5122-4FE8-944A-30599246BA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0BB37D-B83D-46FC-B2F0-766176BCF8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32CC96-8A04-46D3-BFF1-7F33629D0E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BC24BC-EA88-4D32-A3E0-FC6D5AB20B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256C6-62D2-4B84-8D64-EABD52D268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E84709-98F8-4CBE-95E8-F9E515E1BD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B487BB-BB35-4C5A-A385-DDD3DA1924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927363-E72A-441C-B691-850BEF4182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C0E713-E44E-41EC-A600-D4829215B7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16FA06-703A-4B84-A832-4D742D30EB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CDC2-14BE-4FC0-942E-A5A2A2D06D0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1200-47DA-4FBA-BDC7-4A11F2F580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4CE1-A276-4970-8D86-37CF43CEC3E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A643-D292-4838-A50C-8B3AECA9E2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5E8A-3A8C-45B3-B5D7-C522F006F5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E004-5FF8-45F1-9A9C-E02FBFEB81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E62D-F6DB-44C5-B92F-F22A39EDBF0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585C-8582-4627-8CB6-3319C3A727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DA90-75A1-42A8-B0CB-0146E69516A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C7B8-B42B-417C-A40C-768D72DED4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C064-18A2-4F01-BBE7-36DA710C8CE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nodeType="afterEffect"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BF85-A15A-4126-BEF6-CA115196BF3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3D83-8EF8-4E93-BED3-831DB1F2057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A8C7-C89C-4B87-B22A-33BA736BC9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10160"/>
                <a:ext cx="6645240" cy="55872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1</m:t>
                        </m:r>
                        <m:r>
                          <m:rPr>
                            <m:lit/>
                            <m:nor/>
                          </m:rPr>
                          <m:t xml:space="preserve">.</m:t>
                        </m:r>
                        <m:r>
                          <m:t xml:space="preserve">4</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6</m:t>
                        </m:r>
                        <m:r>
                          <m:rPr>
                            <m:lit/>
                            <m:nor/>
                          </m:rPr>
                          <m:t xml:space="preserve">.</m:t>
                        </m:r>
                        <m:r>
                          <m:rPr>
                            <m:lit/>
                            <m:nor/>
                          </m:rPr>
                          <m:t xml:space="preserve">552</m:t>
                        </m:r>
                      </m:e>
                    </m:rad>
                    <m:r>
                      <m:t xml:space="preserve">=</m:t>
                    </m:r>
                    <m:r>
                      <m:t xml:space="preserve">1</m:t>
                    </m:r>
                    <m:r>
                      <m:rPr>
                        <m:lit/>
                        <m:nor/>
                      </m:rPr>
                      <m:t xml:space="preserve">.</m:t>
                    </m:r>
                    <m:r>
                      <m:rPr>
                        <m:lit/>
                        <m:nor/>
                      </m:rPr>
                      <m:t xml:space="preserve">5999</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C6C9-1D61-4F31-88A1-B996636D3FE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B7FA-12F0-4420-8826-0EA46D1201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796A-E906-4A4A-AC6B-6F43BF01879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B13A-F024-4AC8-9773-B5EC487D045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CD1F-1E5D-43D5-9AC1-1572C8B370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6B47-A374-4939-AD31-D2AB5E86BC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64A1-D67B-4D18-BB9C-3F25D66CB4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9D86-26BF-49F8-8BE4-FEA9D2BC949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217" name="PlaceHolder 1"/>
          <p:cNvSpPr>
            <a:spLocks noGrp="1"/>
          </p:cNvSpPr>
          <p:nvPr>
            <p:ph/>
          </p:nvPr>
        </p:nvSpPr>
        <p:spPr>
          <a:xfrm>
            <a:off x="838080" y="1905120"/>
            <a:ext cx="7693200" cy="167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8" name="Picture 6" descr="0329"/>
          <p:cNvPicPr/>
          <p:nvPr/>
        </p:nvPicPr>
        <p:blipFill>
          <a:blip r:embed="rId1"/>
          <a:stretch/>
        </p:blipFill>
        <p:spPr>
          <a:xfrm>
            <a:off x="1271520" y="3919680"/>
            <a:ext cx="7220160" cy="238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842B-F359-4C05-97D5-11154A253D1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409F-830A-467C-ACA6-3F407060474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221" name="Picture 6" descr="0330"/>
          <p:cNvPicPr/>
          <p:nvPr/>
        </p:nvPicPr>
        <p:blipFill>
          <a:blip r:embed="rId1"/>
          <a:stretch/>
        </p:blipFill>
        <p:spPr>
          <a:xfrm>
            <a:off x="1189080" y="1952640"/>
            <a:ext cx="6981840" cy="49053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5CA8-3855-4A71-B077-4A45D4CDCB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24"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7262-5DA5-4CFE-90EC-FC9B55B916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7" name="Picture 4" descr=""/>
          <p:cNvPicPr/>
          <p:nvPr/>
        </p:nvPicPr>
        <p:blipFill>
          <a:blip r:embed="rId1"/>
          <a:stretch/>
        </p:blipFill>
        <p:spPr>
          <a:xfrm>
            <a:off x="1311120" y="4297320"/>
            <a:ext cx="2629080" cy="1836720"/>
          </a:xfrm>
          <a:prstGeom prst="rect">
            <a:avLst/>
          </a:prstGeom>
          <a:ln w="0">
            <a:noFill/>
          </a:ln>
        </p:spPr>
      </p:pic>
      <p:sp>
        <p:nvSpPr>
          <p:cNvPr id="228"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9"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E187-14A3-4958-A637-625A7DE5D1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1"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2"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2B1E-4E65-4733-BAD8-229DC276AD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35"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703B-BC2B-496E-A093-358C0B5912D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7"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38"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39"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BBE0-D66E-4478-A8D6-22C6C5E9A6C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F882-7175-4631-9C0F-0B4A19BEBBB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EFB2-A63A-4DC6-878C-5BA9E3DDA6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2CE3-01B2-4BBA-9355-18A9A0DA094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9EAF-DBA0-4577-8672-045FD996AFC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E3BF-7F10-41D9-9D38-17DDF5A07E8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BA43-AE6C-4C94-B55B-D716EB5561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cp:lastPrinted>2013-02-12T05:03:47Z</cp:lastPrinted>
  <dcterms:modified xsi:type="dcterms:W3CDTF">2014-11-16T10:19:26Z</dcterms:modified>
  <cp:revision>144</cp:revision>
  <dc:subject>Numerical Values</dc:subject>
  <dc:title>Chapter 3</dc:title>
</cp:coreProperties>
</file>