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3954-5D2C-409B-BC98-24D1B8726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AB44-384E-4D95-8E5A-D30710502CC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2577-63A9-4D04-BDA4-4968F18BDE5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F03C-DD96-4F4E-8F40-DAF324DBF05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7A8A-76DA-4E2F-A953-83151FAC12A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AE38-3639-4B54-8BFC-E6FACA20C4B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E471-9979-4144-A8E8-961670EDA11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D043-D4DD-460C-B8E2-0F1E5B8EDDA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1509-E067-4AB5-98D6-B9CF525E8D1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0C2A-8986-49F1-AE5C-ADB7D559595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7779-ED62-4071-93AB-2DF33D08363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9AA7-F43F-4A0C-8D57-A1DC6F12C6D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B5AE-097D-4462-8660-9CC4E5639E1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F681-585D-452E-877E-DD33B24001B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406E-8084-45B1-8A0B-56B3EBEABD4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2075-28C4-43C1-855A-44C16C8E399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5AFB-C677-402C-93A0-E51F0838844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D3D1-EEC6-4CA6-B446-5712EAA4427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CB87-F2C3-4E4B-9DAF-7827350DE26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0F9B-9412-4D2F-9D8F-AAA84EFD5CE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98B0-BDB5-4D01-88A5-439BA8385E6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A812-61D7-49E9-81BC-0D8334C6531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0288-CC93-4F8A-BE02-41F66FA7842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76A7-EBE8-4772-9BD5-A06794D42FE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7710-325F-441E-9933-ECE34FA697D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1040-9A9C-4554-BD23-8B8FE67DDFA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0353-8775-42BD-8970-63417C3EEC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D6D7-4C8C-4832-9DC9-89CF089A3AD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C5D2-50F3-4443-8ABD-DC37B818702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C015-B8FF-41FD-A040-AC61BDFCA88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82B1-E723-4903-A055-79435896730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DD32-04A5-4D5F-8840-5A74A7A3461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38AC-976A-48B1-ADF4-BEF18EFC8F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DEA0-D86D-4458-9F1B-2F9062E5F94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D728-35C1-424C-9686-4C60E648756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8355-ADEB-475D-9674-2E052621A5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4A1E-296D-4074-8757-0B4ECFE9B32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775F6A-F2B4-4855-B1AB-16A3095F91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9779AA-CD60-4F7B-A18B-2C800004D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69083C-29EE-47F2-ABBE-E052BB353F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7C94A1-D130-4563-8E85-160E957F3E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8DB32-752B-4705-A300-1936451DCC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E21892-1B55-494F-A04F-370E8B7673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54EA1-C83B-42C4-A13A-0A73E1BD7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85BD6-2780-4BC5-A3F2-F920ADF5A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BB7521-57B8-4E7A-8CF8-F756226230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6545F-BF63-4149-BB2F-DCA353E7A6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A292E-11A6-461B-BD48-C2C12ECEA3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165346-506D-4105-BD1D-8B484D8335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9ED3-0242-44F4-9B40-4DD031BB84B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B248-6BA4-48F8-B9E6-309EAE5EC8D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36C3-C511-49B4-8135-182A4FD2090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8CD0-8566-4E57-93BC-42A4DBE6B3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5D1C-2B61-4EE0-86B5-92E912A258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FF91-687A-4F7A-80B4-0C5B330614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BC00-18A5-4382-89E4-9B2105F356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76BF-56A2-4959-8C26-94E5F03FE9E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B215-8D0B-4F0C-BAFA-6372B3BE63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AF7B-E109-403A-A753-273CE734603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43FF-28D4-4B72-936A-AC3D936CB7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A6F5-77D9-4D4A-BF9E-3928C5BB09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FCC8-2A88-498C-8F7A-29D2BA4795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2CEF-F326-41C8-8D9D-F4DA964D48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10160"/>
                <a:ext cx="6645240" cy="55872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1</m:t>
                        </m:r>
                        <m:r>
                          <m:rPr>
                            <m:lit/>
                            <m:nor/>
                          </m:rPr>
                          <m:t xml:space="preserve">.</m:t>
                        </m:r>
                        <m:r>
                          <m:t xml:space="preserve">4</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6</m:t>
                        </m:r>
                        <m:r>
                          <m:rPr>
                            <m:lit/>
                            <m:nor/>
                          </m:rPr>
                          <m:t xml:space="preserve">.</m:t>
                        </m:r>
                        <m:r>
                          <m:rPr>
                            <m:lit/>
                            <m:nor/>
                          </m:rPr>
                          <m:t xml:space="preserve">552</m:t>
                        </m:r>
                      </m:e>
                    </m:rad>
                    <m:r>
                      <m:t xml:space="preserve">=</m:t>
                    </m:r>
                    <m:r>
                      <m:t xml:space="preserve">1</m:t>
                    </m:r>
                    <m:r>
                      <m:rPr>
                        <m:lit/>
                        <m:nor/>
                      </m:rPr>
                      <m:t xml:space="preserve">.</m:t>
                    </m:r>
                    <m:r>
                      <m:rPr>
                        <m:lit/>
                        <m:nor/>
                      </m:rPr>
                      <m:t xml:space="preserve">5999</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3C41-9ECE-4C2C-B889-654DE63F29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BFC6-9B34-4A6D-B9EC-0096EBD6223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88B0-5830-4DCA-962E-BC82D823064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4136-488C-4672-B123-0A4FF2B9CA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6E65-4635-44E8-AC0F-2E6BD0847C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BCCF-923F-48C9-B57B-BC5A3112CA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8E78-CC7C-474A-B95D-9F0809D520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58A1-56F0-40B7-9E25-D83B239051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7"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8"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91AA-E92C-4CC9-A192-23DCC0C87E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E06E-4B8D-4CF9-AD7F-5CDD09CE96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1"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C62E-C532-474E-8B70-A91837F73F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4"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149F-62F9-418C-8559-6DE7620F8A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7" name="Picture 4" descr=""/>
          <p:cNvPicPr/>
          <p:nvPr/>
        </p:nvPicPr>
        <p:blipFill>
          <a:blip r:embed="rId1"/>
          <a:stretch/>
        </p:blipFill>
        <p:spPr>
          <a:xfrm>
            <a:off x="1311120" y="4297320"/>
            <a:ext cx="2629080" cy="1836720"/>
          </a:xfrm>
          <a:prstGeom prst="rect">
            <a:avLst/>
          </a:prstGeom>
          <a:ln w="0">
            <a:noFill/>
          </a:ln>
        </p:spPr>
      </p:pic>
      <p:sp>
        <p:nvSpPr>
          <p:cNvPr id="228"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9"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3CAD-0F47-4BA5-BF38-88A1424F71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1"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2"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6ADD-8E6A-47F1-9A88-B8C4C76D81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5"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703F-8851-449F-99A1-BD901651CA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7"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8"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9"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A2EA-E7A1-453B-B671-0D7019A4CB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579B-82AB-430E-949A-47171AB8DD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1CDE-025B-4F78-9F8A-45501A6154C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0C6D-A9D7-4EC2-9ECD-5B5FF374F0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9B1F-95B0-4B07-801B-F39F440A02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1D19-900A-48C6-A5C9-8DE63D9FB5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DCE4-9283-4E53-931A-2324E11E986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cp:lastPrinted>2013-02-12T05:03:47Z</cp:lastPrinted>
  <dcterms:modified xsi:type="dcterms:W3CDTF">2014-11-16T10:19:26Z</dcterms:modified>
  <cp:revision>144</cp:revision>
  <dc:subject>Numerical Values</dc:subject>
  <dc:title>Chapter 3</dc:title>
</cp:coreProperties>
</file>