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4F9B-CB9B-4061-937C-7A8B95A5A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9083-F455-4BC9-BB31-E751FA2019A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5EE8-09EA-442B-B6A1-3332981299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30D5-7A7F-40E1-9394-3A17B96A1E9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2E48-B1A3-41BC-9F48-3E7BF1DF92D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609C-FC8B-42F5-93E7-A150ED4BFA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D918-2C92-4E18-AFCC-420B5D90E9A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5E24-079A-4BC6-ADAF-1853530081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4376-BF0B-4320-A509-A3BAC4951EE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3E1A-866F-4476-814D-23964FBB535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728B-AAD0-4C27-99A1-5FA35E065C9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4075-697E-4EE4-BECF-61FB1721E71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0F8E-EC73-4954-B211-80A93014B5D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AD2A-F332-40F7-ACC7-81D380820C5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C43E-0A7C-4906-89EB-6286FD65B0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5E79-AD68-4458-A4E2-0DB61EBECFE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CA30-960D-4A55-9424-2DD1D56D789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3E70-96D4-42B9-BF74-D88B29D0582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B978-5145-49EB-A0BD-1B6B8A0CC37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9E3B-2F52-4974-9E40-C61CB30B691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1616-9947-4AF0-B668-8CE8886116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B7DF-32BD-49F4-BE16-17C40A7742F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B8B1-FEEC-4645-9ABE-AE2322C3D13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E24B-62FF-4128-8F8C-CCE5C231B39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136D-A0FB-4784-B535-8434C8D7CC1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1765-8B80-4DDE-A39F-7D7FF2CBBCE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89BD-93FB-47B9-B627-0C7DCCFE1D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D570-24E0-40BC-84AC-F94247AAC1D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4115-3144-40B9-AE9D-658260A896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999A34-FE83-4B44-930E-632ECA5BB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6CCF1C-4A5D-493F-B85D-E12694F0BF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98EE18-66F3-4983-8366-9BD923D861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0670F3-EF3B-4115-8BAA-4FCCF63D8E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40D370-6438-4B69-A567-79DE2F2625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FE2B0C-F9D7-4ED8-A971-90653A3B09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57E940-6C40-4ABB-B342-A22909E35E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AB001D-98C7-4923-AFBF-D90048542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698330-A5CF-4D30-93CA-5314FDF786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1912B-B513-4171-8D8B-B179CE38F6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34C84-3C21-4D60-99EC-52E19D5416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4A9532-1274-485B-922F-9FFF984AE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8ADA-62FC-4554-AEF4-1ABDE0B0105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096F-E6A6-4021-BA7B-7600FC9B3D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7"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F129-EEB2-49D1-B731-B58970913F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40"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4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2"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74" dur="500"/>
                                        <p:tgtEl>
                                          <p:spTgt spid="14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79" dur="500"/>
                                        <p:tgtEl>
                                          <p:spTgt spid="140">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84" dur="500"/>
                                        <p:tgtEl>
                                          <p:spTgt spid="140">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89" dur="500"/>
                                        <p:tgtEl>
                                          <p:spTgt spid="140">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9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303F-E587-4860-AC31-FA7DD7133B1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5"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4D41-B1CA-4226-A061-404AB9EA64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9"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01" dur="500"/>
                                        <p:tgtEl>
                                          <p:spTgt spid="149">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06" dur="500"/>
                                        <p:tgtEl>
                                          <p:spTgt spid="149">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1" dur="500"/>
                                        <p:tgtEl>
                                          <p:spTgt spid="149">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1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87AC-8C75-40F7-B237-E67868DA8A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3"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23" dur="500"/>
                                        <p:tgtEl>
                                          <p:spTgt spid="15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128" dur="500"/>
                                        <p:tgtEl>
                                          <p:spTgt spid="15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33" dur="500"/>
                                        <p:tgtEl>
                                          <p:spTgt spid="15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38" dur="500"/>
                                        <p:tgtEl>
                                          <p:spTgt spid="15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3">
                                            <p:txEl>
                                              <p:pRg st="7" end="7"/>
                                            </p:txEl>
                                          </p:spTgt>
                                        </p:tgtEl>
                                        <p:attrNameLst>
                                          <p:attrName>style.visibility</p:attrName>
                                        </p:attrNameLst>
                                      </p:cBhvr>
                                      <p:to>
                                        <p:strVal val="visible"/>
                                      </p:to>
                                    </p:set>
                                    <p:animEffect filter="wipe(up)" transition="in">
                                      <p:cBhvr additive="repl">
                                        <p:cTn id="143" dur="500"/>
                                        <p:tgtEl>
                                          <p:spTgt spid="15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5"/>
                                        </p:tgtEl>
                                        <p:attrNameLst>
                                          <p:attrName>style.visibility</p:attrName>
                                        </p:attrNameLst>
                                      </p:cBhvr>
                                      <p:to>
                                        <p:strVal val="visible"/>
                                      </p:to>
                                    </p:set>
                                    <p:animEffect filter="wipe(up)" transition="in">
                                      <p:cBhvr additive="repl">
                                        <p:cTn id="14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6CEA-7F5B-47DE-9C53-54373D0B19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8"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DA10-C56E-4B56-B9F8-ADFFE939AD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3"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5B4F-1E7D-401B-AF3A-B15A64838A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6"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7" name="Picture 5" descr=""/>
          <p:cNvPicPr/>
          <p:nvPr/>
        </p:nvPicPr>
        <p:blipFill>
          <a:blip r:embed="rId1"/>
          <a:stretch/>
        </p:blipFill>
        <p:spPr>
          <a:xfrm>
            <a:off x="689040" y="2833560"/>
            <a:ext cx="2628720" cy="1836720"/>
          </a:xfrm>
          <a:prstGeom prst="rect">
            <a:avLst/>
          </a:prstGeom>
          <a:ln w="0">
            <a:noFill/>
          </a:ln>
        </p:spPr>
      </p:pic>
      <p:pic>
        <p:nvPicPr>
          <p:cNvPr id="168"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8634-967C-40E2-A5BE-8414692A0FC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1"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21FD-7962-4E37-8839-686D30ABDB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7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55" dur="500"/>
                                        <p:tgtEl>
                                          <p:spTgt spid="17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0" dur="500"/>
                                        <p:tgtEl>
                                          <p:spTgt spid="17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65" dur="500"/>
                                        <p:tgtEl>
                                          <p:spTgt spid="17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100B-D800-41A1-AFE7-41DAFB612A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62F7-B89F-4694-997C-F2A79F79F7B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77"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F1E1-32B3-492A-B96A-F3E22F9037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80"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81" name="Picture 4" descr=""/>
          <p:cNvPicPr/>
          <p:nvPr/>
        </p:nvPicPr>
        <p:blipFill>
          <a:blip r:embed="rId1"/>
          <a:srcRect l="-3029" t="40728" r="0" b="0"/>
          <a:stretch/>
        </p:blipFill>
        <p:spPr>
          <a:xfrm>
            <a:off x="2244600" y="1839960"/>
            <a:ext cx="6534360" cy="698400"/>
          </a:xfrm>
          <a:prstGeom prst="rect">
            <a:avLst/>
          </a:prstGeom>
          <a:ln w="0">
            <a:noFill/>
          </a:ln>
        </p:spPr>
      </p:pic>
      <p:pic>
        <p:nvPicPr>
          <p:cNvPr id="182" name="Picture 6" descr=""/>
          <p:cNvPicPr/>
          <p:nvPr/>
        </p:nvPicPr>
        <p:blipFill>
          <a:blip r:embed="rId2"/>
          <a:stretch/>
        </p:blipFill>
        <p:spPr>
          <a:xfrm>
            <a:off x="2475000" y="3440160"/>
            <a:ext cx="5180040" cy="630360"/>
          </a:xfrm>
          <a:prstGeom prst="rect">
            <a:avLst/>
          </a:prstGeom>
          <a:ln w="0">
            <a:noFill/>
          </a:ln>
        </p:spPr>
      </p:pic>
      <p:pic>
        <p:nvPicPr>
          <p:cNvPr id="183" name="Picture 8" descr=""/>
          <p:cNvPicPr/>
          <p:nvPr/>
        </p:nvPicPr>
        <p:blipFill>
          <a:blip r:embed="rId3"/>
          <a:stretch/>
        </p:blipFill>
        <p:spPr>
          <a:xfrm>
            <a:off x="2438280" y="4772160"/>
            <a:ext cx="5335560" cy="637920"/>
          </a:xfrm>
          <a:prstGeom prst="rect">
            <a:avLst/>
          </a:prstGeom>
          <a:ln w="0">
            <a:noFill/>
          </a:ln>
        </p:spPr>
      </p:pic>
      <p:pic>
        <p:nvPicPr>
          <p:cNvPr id="184"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2"/>
                                        </p:tgtEl>
                                        <p:attrNameLst>
                                          <p:attrName>style.visibility</p:attrName>
                                        </p:attrNameLst>
                                      </p:cBhvr>
                                      <p:to>
                                        <p:strVal val="visible"/>
                                      </p:to>
                                    </p:set>
                                    <p:animEffect filter="wipe(left)"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3"/>
                                        </p:tgtEl>
                                        <p:attrNameLst>
                                          <p:attrName>style.visibility</p:attrName>
                                        </p:attrNameLst>
                                      </p:cBhvr>
                                      <p:to>
                                        <p:strVal val="visible"/>
                                      </p:to>
                                    </p:set>
                                    <p:animEffect filter="wipe(left)" transition="in">
                                      <p:cBhvr additive="repl">
                                        <p:cTn id="187" dur="500"/>
                                        <p:tgtEl>
                                          <p:spTgt spid="18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84"/>
                                        </p:tgtEl>
                                        <p:attrNameLst>
                                          <p:attrName>style.visibility</p:attrName>
                                        </p:attrNameLst>
                                      </p:cBhvr>
                                      <p:to>
                                        <p:strVal val="visible"/>
                                      </p:to>
                                    </p:set>
                                    <p:animEffect filter="wipe(left)"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6E59-4A18-44A8-9FA1-C192239D324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8"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8"/>
                                        </p:tgtEl>
                                        <p:attrNameLst>
                                          <p:attrName>style.visibility</p:attrName>
                                        </p:attrNameLst>
                                      </p:cBhvr>
                                      <p:to>
                                        <p:strVal val="visible"/>
                                      </p:to>
                                    </p:set>
                                    <p:animEffect filter="wipe(left)" transition="in">
                                      <p:cBhvr additive="repl">
                                        <p:cTn id="1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092F-AB43-4D62-A3F2-8BBAEF28D93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9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92"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128D-A717-4E65-A00C-43FEC6101E0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95"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96"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6E25-3B9A-42AE-B5D1-86669D3DB23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9"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00"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F699-08B7-407C-8790-65738226602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3"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13AA-4FF3-4179-BCFC-BFB0B8FE3F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6"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07"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3D3B-4610-4E5A-ABE4-D3622BEE5B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043B-6039-472D-AEAE-49C7A5E769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E5A4-297B-4336-87F0-96811F3B31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CB98-F45C-4AB2-AEC6-3D348FCB3F3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0BC0-F177-4342-B92F-A58F7569CD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A71E-52AD-4977-8592-F47496CFB8F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1BDD-54C8-4018-96C8-64F0B82FA6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29"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CFA5-925A-48CA-9B04-8F4B02573BB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2" name="Picture 4" descr=""/>
          <p:cNvPicPr/>
          <p:nvPr/>
        </p:nvPicPr>
        <p:blipFill>
          <a:blip r:embed="rId1"/>
          <a:stretch/>
        </p:blipFill>
        <p:spPr>
          <a:xfrm>
            <a:off x="1311120" y="4297320"/>
            <a:ext cx="2629080" cy="1836720"/>
          </a:xfrm>
          <a:prstGeom prst="rect">
            <a:avLst/>
          </a:prstGeom>
          <a:ln w="0">
            <a:noFill/>
          </a:ln>
        </p:spPr>
      </p:pic>
      <p:sp>
        <p:nvSpPr>
          <p:cNvPr id="133"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4"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1:35Z</dcterms:modified>
  <cp:revision>145</cp:revision>
  <dc:subject>Numerical Values</dc:subject>
  <dc:title>Chapter 3</dc:title>
</cp:coreProperties>
</file>