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60FB-86C9-47D7-872E-C5E4E46C9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48EB-A513-4B10-82F0-87D1B1CB9CC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108A-BA01-465B-90CF-152E601E913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BC10-84AF-4C5D-AA34-093AA32D441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5E08-9075-4BC0-A964-F920754585F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8E62-D8AC-43F2-B972-6952C86E46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4721-C697-4393-939F-3711B11D6B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5ADB-83B3-44DE-BCE8-05B2379EEC6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4E4D-0DBE-4E41-8021-084EF67E9F8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D254-2E47-4FB3-8100-00184055658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5A29-2BA9-4840-8CB2-E2D6A3A4D7B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F443-CD76-4EF5-BD06-77738D35C8B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18B1-C0B1-4C4F-BB6C-B08C2F9F64D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2925-87A2-440B-ACCE-5F57777A899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C55D-F123-44FF-B394-2CDF71C5CA1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6F6C-DAEE-4FBE-878D-74413DD2719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5FB3-9FF8-4E44-B711-78A2E5E4AF4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85F7-CDC5-487D-982E-E3641B5C5A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C035-EC5D-49AE-B0C7-756D1645353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4755-EC51-4D88-A931-BC29F869A3A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484E-7DE1-42AC-80BA-BCEE73388C4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813C-9AB7-4E57-B93C-45DF4BFB17B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D24E-CE24-468E-9A29-A1D528C8506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7A2C-8963-436D-A849-19DA56EB644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61A5-9B24-4928-B01F-6AB8C69298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4131-624A-4365-B4DF-9CA592051A7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D34A-79ED-4E7C-BABA-55962C97BA4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E454-7F46-4FD4-9F3D-06F8DF07D07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4278-D745-461C-9373-A666147570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C1D27F-AE84-4B5B-BD22-6421F8DB80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137EFE-08EE-42CE-9D16-2ED2AB4249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7DFC7D-E94E-4A66-84B4-F8910ECA90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BC2B8D-DD0A-46F9-BFFA-82BCE96C40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FC4089-C449-45F6-B87C-5BB9956948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AF9F74-F60A-4EB8-81AD-42BE6DF587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B10D02-221A-4C2D-8340-86C3025AEB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C9F856-C1F9-4D88-A7A8-4017681186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566F9A-BDBE-447B-A7CF-6F6C4FFD65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79CCF7-8630-454C-9DA9-AD75C66E41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FF652B-A062-479D-9FF3-819D9C4C0B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68B70F-3060-43B8-8550-40AA1EBC22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A76B-1F27-48EC-A4BC-06DA1B35B40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0CCD-3E1A-4DEA-8253-B3F3EEC78C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7"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CFCB-E0F2-4166-82EE-2185697A54C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40"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4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2"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74" dur="500"/>
                                        <p:tgtEl>
                                          <p:spTgt spid="14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79" dur="500"/>
                                        <p:tgtEl>
                                          <p:spTgt spid="140">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84" dur="500"/>
                                        <p:tgtEl>
                                          <p:spTgt spid="140">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89" dur="500"/>
                                        <p:tgtEl>
                                          <p:spTgt spid="140">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9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5DEC-A446-4244-BA4F-C81FF8370E7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5"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11B8-450A-42B5-884F-857D306F9FB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9"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01" dur="500"/>
                                        <p:tgtEl>
                                          <p:spTgt spid="149">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06" dur="500"/>
                                        <p:tgtEl>
                                          <p:spTgt spid="149">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1" dur="500"/>
                                        <p:tgtEl>
                                          <p:spTgt spid="149">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1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9E23-3F23-4D32-969D-E74D753CE7B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3"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23" dur="500"/>
                                        <p:tgtEl>
                                          <p:spTgt spid="15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128" dur="500"/>
                                        <p:tgtEl>
                                          <p:spTgt spid="15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33" dur="500"/>
                                        <p:tgtEl>
                                          <p:spTgt spid="15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38" dur="500"/>
                                        <p:tgtEl>
                                          <p:spTgt spid="15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3">
                                            <p:txEl>
                                              <p:pRg st="7" end="7"/>
                                            </p:txEl>
                                          </p:spTgt>
                                        </p:tgtEl>
                                        <p:attrNameLst>
                                          <p:attrName>style.visibility</p:attrName>
                                        </p:attrNameLst>
                                      </p:cBhvr>
                                      <p:to>
                                        <p:strVal val="visible"/>
                                      </p:to>
                                    </p:set>
                                    <p:animEffect filter="wipe(up)" transition="in">
                                      <p:cBhvr additive="repl">
                                        <p:cTn id="143" dur="500"/>
                                        <p:tgtEl>
                                          <p:spTgt spid="15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5"/>
                                        </p:tgtEl>
                                        <p:attrNameLst>
                                          <p:attrName>style.visibility</p:attrName>
                                        </p:attrNameLst>
                                      </p:cBhvr>
                                      <p:to>
                                        <p:strVal val="visible"/>
                                      </p:to>
                                    </p:set>
                                    <p:animEffect filter="wipe(up)" transition="in">
                                      <p:cBhvr additive="repl">
                                        <p:cTn id="14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C52A-73D4-4299-96D2-BF8BC02ACD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8"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CBE3-42FF-4312-B4E2-2CDC95921E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3"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1692-8016-4426-8FE6-0B2ED8B8105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6"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7" name="Picture 5" descr=""/>
          <p:cNvPicPr/>
          <p:nvPr/>
        </p:nvPicPr>
        <p:blipFill>
          <a:blip r:embed="rId1"/>
          <a:stretch/>
        </p:blipFill>
        <p:spPr>
          <a:xfrm>
            <a:off x="689040" y="2833560"/>
            <a:ext cx="2628720" cy="1836720"/>
          </a:xfrm>
          <a:prstGeom prst="rect">
            <a:avLst/>
          </a:prstGeom>
          <a:ln w="0">
            <a:noFill/>
          </a:ln>
        </p:spPr>
      </p:pic>
      <p:pic>
        <p:nvPicPr>
          <p:cNvPr id="168"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30DF-326E-4775-A221-182B142527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1"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2707-DEE5-4A1D-A59C-07E699E290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7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55" dur="500"/>
                                        <p:tgtEl>
                                          <p:spTgt spid="17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0" dur="500"/>
                                        <p:tgtEl>
                                          <p:spTgt spid="17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65" dur="500"/>
                                        <p:tgtEl>
                                          <p:spTgt spid="17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0927-05D7-4A8A-9774-7E70F7DD75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8A06-9DBF-4AC1-8DF3-94299C3940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77"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D6EE-452E-490B-B4D3-EFF3B32475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80"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81" name="Picture 4" descr=""/>
          <p:cNvPicPr/>
          <p:nvPr/>
        </p:nvPicPr>
        <p:blipFill>
          <a:blip r:embed="rId1"/>
          <a:srcRect l="-3029" t="40728" r="0" b="0"/>
          <a:stretch/>
        </p:blipFill>
        <p:spPr>
          <a:xfrm>
            <a:off x="2244600" y="1839960"/>
            <a:ext cx="6534360" cy="698400"/>
          </a:xfrm>
          <a:prstGeom prst="rect">
            <a:avLst/>
          </a:prstGeom>
          <a:ln w="0">
            <a:noFill/>
          </a:ln>
        </p:spPr>
      </p:pic>
      <p:pic>
        <p:nvPicPr>
          <p:cNvPr id="182" name="Picture 6" descr=""/>
          <p:cNvPicPr/>
          <p:nvPr/>
        </p:nvPicPr>
        <p:blipFill>
          <a:blip r:embed="rId2"/>
          <a:stretch/>
        </p:blipFill>
        <p:spPr>
          <a:xfrm>
            <a:off x="2475000" y="3440160"/>
            <a:ext cx="5180040" cy="630360"/>
          </a:xfrm>
          <a:prstGeom prst="rect">
            <a:avLst/>
          </a:prstGeom>
          <a:ln w="0">
            <a:noFill/>
          </a:ln>
        </p:spPr>
      </p:pic>
      <p:pic>
        <p:nvPicPr>
          <p:cNvPr id="183" name="Picture 8" descr=""/>
          <p:cNvPicPr/>
          <p:nvPr/>
        </p:nvPicPr>
        <p:blipFill>
          <a:blip r:embed="rId3"/>
          <a:stretch/>
        </p:blipFill>
        <p:spPr>
          <a:xfrm>
            <a:off x="2438280" y="4772160"/>
            <a:ext cx="5335560" cy="637920"/>
          </a:xfrm>
          <a:prstGeom prst="rect">
            <a:avLst/>
          </a:prstGeom>
          <a:ln w="0">
            <a:noFill/>
          </a:ln>
        </p:spPr>
      </p:pic>
      <p:pic>
        <p:nvPicPr>
          <p:cNvPr id="184"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2"/>
                                        </p:tgtEl>
                                        <p:attrNameLst>
                                          <p:attrName>style.visibility</p:attrName>
                                        </p:attrNameLst>
                                      </p:cBhvr>
                                      <p:to>
                                        <p:strVal val="visible"/>
                                      </p:to>
                                    </p:set>
                                    <p:animEffect filter="wipe(left)"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3"/>
                                        </p:tgtEl>
                                        <p:attrNameLst>
                                          <p:attrName>style.visibility</p:attrName>
                                        </p:attrNameLst>
                                      </p:cBhvr>
                                      <p:to>
                                        <p:strVal val="visible"/>
                                      </p:to>
                                    </p:set>
                                    <p:animEffect filter="wipe(left)" transition="in">
                                      <p:cBhvr additive="repl">
                                        <p:cTn id="187" dur="500"/>
                                        <p:tgtEl>
                                          <p:spTgt spid="18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84"/>
                                        </p:tgtEl>
                                        <p:attrNameLst>
                                          <p:attrName>style.visibility</p:attrName>
                                        </p:attrNameLst>
                                      </p:cBhvr>
                                      <p:to>
                                        <p:strVal val="visible"/>
                                      </p:to>
                                    </p:set>
                                    <p:animEffect filter="wipe(left)"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E5DA-CDC1-4D9D-8BBA-2BAE124FE0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8"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8"/>
                                        </p:tgtEl>
                                        <p:attrNameLst>
                                          <p:attrName>style.visibility</p:attrName>
                                        </p:attrNameLst>
                                      </p:cBhvr>
                                      <p:to>
                                        <p:strVal val="visible"/>
                                      </p:to>
                                    </p:set>
                                    <p:animEffect filter="wipe(left)" transition="in">
                                      <p:cBhvr additive="repl">
                                        <p:cTn id="1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7C64-8FEF-4D1F-B220-9085D1EF1D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9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92"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5B3F-754C-4D1B-BD72-5BA85C9BC47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95"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96"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C8B4-5EB7-4CAD-A398-50AA3DC647B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9"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00"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7513-E8FB-42C8-932E-7546888B49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3"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1723-FE72-43FE-852E-9C124E359C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6"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07"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E16B-93CB-47FA-8D69-2183070957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CD7D-15E7-4451-A76B-01340165442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B16A-4441-40AA-BCB6-BB5346E2A6E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2A8A-BDCD-4F6A-8214-08B4A6EF588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8E84-84AA-485E-A618-A5DA9C55EE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B56A-8147-4F23-8099-46C8111494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FD19-987B-48A6-ADB2-72610960BB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29"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8A5B-E315-400C-B6C9-295933A83B9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2" name="Picture 4" descr=""/>
          <p:cNvPicPr/>
          <p:nvPr/>
        </p:nvPicPr>
        <p:blipFill>
          <a:blip r:embed="rId1"/>
          <a:stretch/>
        </p:blipFill>
        <p:spPr>
          <a:xfrm>
            <a:off x="1311120" y="4297320"/>
            <a:ext cx="2629080" cy="1836720"/>
          </a:xfrm>
          <a:prstGeom prst="rect">
            <a:avLst/>
          </a:prstGeom>
          <a:ln w="0">
            <a:noFill/>
          </a:ln>
        </p:spPr>
      </p:pic>
      <p:sp>
        <p:nvSpPr>
          <p:cNvPr id="133"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4"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1:35Z</dcterms:modified>
  <cp:revision>145</cp:revision>
  <dc:subject>Numerical Values</dc:subject>
  <dc:title>Chapter 3</dc:title>
</cp:coreProperties>
</file>