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9507-AAB5-4E02-93DD-3E729CA8A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A32C-5A6F-46BE-A172-1F78CAACFE9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1397-A3F7-4A71-87F0-EFF40C1E0DF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D776-A436-4200-B9CB-81C2AA1D49D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DD8C-5789-423B-B519-4691892F53E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84DE-8221-45F6-9AC4-C6C7CF42352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7FF6-AB81-4713-BB37-7D604DE7E8C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7079-A052-45BD-B64E-24304AC675E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1A4A-B806-4DF7-81D3-7F61862073A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605C-FDA3-4984-B260-9E05EA654B0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742C-E085-44AC-80FB-C89D372426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4313-F7C3-4B24-9D47-48F382EA205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BCC1-ADEB-459D-A0BF-9C18CFA4A93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6A98-61B1-4944-B979-4350284F36C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02DA-4657-496E-AA28-BFF825B5CBE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C6F2-8C5F-4387-94E0-C8DD5788B89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5005-C782-4077-B6AA-82135AF519B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95B1-9DA6-4FCB-8C9B-B01C004010D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BF04-9BAB-45C0-8D4D-595BC71C057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95D7-FD12-4A0C-9B11-BB3A5D0B97D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601D-33C5-4263-AE8F-81CA0629793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5E43-570E-419B-A242-8261001F801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BD9E-C5F6-43C2-A246-376B115A6C4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3A64-AD5A-4FF9-8C39-57282945E9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C34E-E9A6-4A20-A679-298D7F2D4AE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851C-DAE3-4299-80ED-787A10EB867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9DD7-477E-4699-A0F8-13343C30824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2252-B76A-4576-BF51-39A7FBC0909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7E46-2390-41CA-A2E0-42AC3A12626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38C1-7E1B-482C-875B-42FAFAB9F34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21EB-4135-4096-BE33-5E68FB6FD78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3512-184A-4914-8F06-8082691EBCF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A001-0BE2-4CFB-B36F-CB7C456B3F6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798E-C311-4A75-9289-4CF826831D9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8C29-F2BE-41CC-A152-FF4E4459974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F9E7-7FA7-404D-B647-8369E7FD27D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6306-AC9F-4B34-BA09-0C156991928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24B266-9AE0-490B-8E0D-07D6F3EE71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A0A98F-2C8E-4091-8D96-FB22B36C07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C8C91D-B708-4ABA-BE05-2A0A01187E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3A0089-76F8-474B-8775-6C3BCECF5E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EBBB00-4425-49E1-B2ED-C20DF0CF61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0E49BC-E405-4511-A307-618316CB58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67ED9D-DCCE-4482-9040-EDE863ADDA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3B034E-1E70-4C29-9B15-29CE291EAA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7E9EBE-1556-47E5-BAFE-1A872456ED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1D764D-341F-4758-89B4-C0233C82DE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F6B83-AF1A-44BA-ABBD-DCC323FCD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06FA1-E411-4BC3-BAD8-7B2AF251BC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5AD0-950F-47DF-A140-FA5AC6F383F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C6E2-83BE-4CBB-A227-9AE2BD6762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CFC2-32DD-40FF-9DA2-F8B7DBB6C2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C35E-C8FA-486A-9C1E-4D543EDF67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C9A0-41F1-40F5-B4DB-068CEBF2569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4D59-34FC-4273-9B19-5240094950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0DC8-627F-42F8-9F79-0CF2AD0FEA7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A507-7EB4-4C48-A9CB-D3422536CC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5E30-0746-4BBF-BD9F-416EFB21FB9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A079-F228-4F98-AFDB-A3969CC1C5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1D01-0A88-4529-9851-71F7E10648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nodeType="afterEffect"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C429-2E22-4C5F-9BEC-AA4D0CDDBF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4C06-5C97-448B-B864-38A6642CEF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DBBE-5F09-4F38-B41C-84E486C0D46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10160"/>
                <a:ext cx="6645240" cy="55872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1</m:t>
                        </m:r>
                        <m:r>
                          <m:rPr>
                            <m:lit/>
                            <m:nor/>
                          </m:rPr>
                          <m:t xml:space="preserve">.</m:t>
                        </m:r>
                        <m:r>
                          <m:t xml:space="preserve">4</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6</m:t>
                        </m:r>
                        <m:r>
                          <m:rPr>
                            <m:lit/>
                            <m:nor/>
                          </m:rPr>
                          <m:t xml:space="preserve">.</m:t>
                        </m:r>
                        <m:r>
                          <m:rPr>
                            <m:lit/>
                            <m:nor/>
                          </m:rPr>
                          <m:t xml:space="preserve">552</m:t>
                        </m:r>
                      </m:e>
                    </m:rad>
                    <m:r>
                      <m:t xml:space="preserve">=</m:t>
                    </m:r>
                    <m:r>
                      <m:t xml:space="preserve">1</m:t>
                    </m:r>
                    <m:r>
                      <m:rPr>
                        <m:lit/>
                        <m:nor/>
                      </m:rPr>
                      <m:t xml:space="preserve">.</m:t>
                    </m:r>
                    <m:r>
                      <m:rPr>
                        <m:lit/>
                        <m:nor/>
                      </m:rPr>
                      <m:t xml:space="preserve">5999</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2A5F-143E-4530-A0FC-DC3B9CDA26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86AF-C79C-42EE-84AA-A852A09B333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9B37-81A9-474D-ABB0-6A92112A05F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B515-7666-40D3-B609-B2FE9ADFD79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933A-206D-4653-B723-0A3269CBDC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0DBB-DF0B-4598-9E01-BC2D164161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DC88-15BF-4720-902D-D28AD982E46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814E-4EF0-462E-AE4F-0EF019B9B64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217" name="PlaceHolder 1"/>
          <p:cNvSpPr>
            <a:spLocks noGrp="1"/>
          </p:cNvSpPr>
          <p:nvPr>
            <p:ph/>
          </p:nvPr>
        </p:nvSpPr>
        <p:spPr>
          <a:xfrm>
            <a:off x="838080" y="1905120"/>
            <a:ext cx="7693200" cy="167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8" name="Picture 6" descr="0329"/>
          <p:cNvPicPr/>
          <p:nvPr/>
        </p:nvPicPr>
        <p:blipFill>
          <a:blip r:embed="rId1"/>
          <a:stretch/>
        </p:blipFill>
        <p:spPr>
          <a:xfrm>
            <a:off x="1271520" y="3919680"/>
            <a:ext cx="7220160" cy="238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4E7C-C82E-44AA-A57E-AD8729655E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6B7D-5A02-4345-A6B6-B7873151D5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221" name="Picture 6" descr="0330"/>
          <p:cNvPicPr/>
          <p:nvPr/>
        </p:nvPicPr>
        <p:blipFill>
          <a:blip r:embed="rId1"/>
          <a:stretch/>
        </p:blipFill>
        <p:spPr>
          <a:xfrm>
            <a:off x="1189080" y="1952640"/>
            <a:ext cx="6981840" cy="49053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1591-323F-49CC-8FE0-34B3D25674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24"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1080-4317-4056-B749-DEC2B11C2A3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7" name="Picture 4" descr=""/>
          <p:cNvPicPr/>
          <p:nvPr/>
        </p:nvPicPr>
        <p:blipFill>
          <a:blip r:embed="rId1"/>
          <a:stretch/>
        </p:blipFill>
        <p:spPr>
          <a:xfrm>
            <a:off x="1311120" y="4297320"/>
            <a:ext cx="2629080" cy="1836720"/>
          </a:xfrm>
          <a:prstGeom prst="rect">
            <a:avLst/>
          </a:prstGeom>
          <a:ln w="0">
            <a:noFill/>
          </a:ln>
        </p:spPr>
      </p:pic>
      <p:sp>
        <p:nvSpPr>
          <p:cNvPr id="228"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9"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A253-71B3-4AE5-A2B9-208CAA5357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1"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2"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AA72-4243-4E4E-AFDE-FD05DB1A60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35"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9DF6-AD57-42DC-BCE1-6DF51E3285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7"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38"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39"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DD6D-CF89-41AC-A6FA-514FF4F00E5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EC0E-E7DC-4B20-90E1-E93505DA41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242D-2843-4059-818F-627ECDEF0F9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EBBF-276B-4527-B108-C408A2A280C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1D31-8060-444C-9D84-3150961B4B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8DB1-C458-48F4-A80D-04F176BC06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83BD-FC08-4DB9-86F1-CBDAD9F45E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cp:lastPrinted>2013-02-12T05:03:47Z</cp:lastPrinted>
  <dcterms:modified xsi:type="dcterms:W3CDTF">2014-11-16T10:19:26Z</dcterms:modified>
  <cp:revision>144</cp:revision>
  <dc:subject>Numerical Values</dc:subject>
  <dc:title>Chapter 3</dc:title>
</cp:coreProperties>
</file>