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5A39-3BD6-461D-9920-A1220BF32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CC77-56FC-4460-971A-75317688113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1FD6-37AD-48F5-B854-0F5C38590D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2846-064B-4E5E-B3E3-604A4B40806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7B40-89FA-4427-9F1D-D8F26BAC421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B4AF-DC1B-4236-B1B9-374E1ABBFCD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1A76-D420-43DE-A50F-6B820EDBC7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1E02-E2DE-47A3-8A23-7F7FE0D6EB9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B3B8-CC64-4A4B-B5AB-5281B2C5371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667A-699C-4DFA-BCCB-2ECB14FB3A8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8BC1-5E60-48DC-96D0-6281CA6CD8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F5E4-8617-4E45-9A3D-DC475A9E200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A49E-B663-4069-AD26-620FC144736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9D4D-5866-411A-8A94-BD4E6BEF32D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2A48-875E-44D4-A063-5FB7581D270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1187-49FA-40CF-8674-967350925AB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55FD-E91F-45BE-B1CA-E7559409E14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8357-FC62-4862-A49C-BD72A9F3F6C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EDF0-99ED-4552-BFF7-52A4CAE503C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14CE-FDD7-4915-BC9E-54C59D5827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B7D2-4F27-4580-AF59-D534D39AEC7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7C70-6C16-4E88-8733-E12D02304BA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1579-35DF-4299-9128-EE5AFDA5D4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8B00-47B2-43D2-9C64-DF2BDB63EEB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00C6-9F06-4782-AE6F-FB4E437319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5AF6-3B1B-4EB4-A081-4407444F1A0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C654-FDB8-403B-86AA-190AE674CE1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A964-ED80-4488-8BB2-B78FC9CAC3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0B9E-CA35-4F81-B969-52B0B933B4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8ACCC-1719-4BFA-8C92-8DD6C4C0A9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DFCCD0-7292-40BD-AE8A-32263BDBE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442CDF-8ADF-41A7-B8FA-461341A588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3055DD-9152-4866-9485-BA12CD0B4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2CC01B-EA7A-4E96-9163-21C77D7B03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0A6674-845A-41F3-83FA-78BA45AA06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F92366-AA93-44E9-A5A0-8D14916DC7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350802-7FA9-47D3-83AB-A59CA7110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80E167-D703-4666-86A4-D4E17F1EA2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676E4-3320-4A9A-A4A7-510FBA793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2D32F-E2CB-4F0F-8B19-3EF1071E3D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4BBEE8-BB25-4823-8D35-C8E1A5FC79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6D48-C2C8-4D6E-B449-25438EBCA17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C0C5-EC9A-461B-B15A-FB38879ED3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7"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1196-089F-4022-B414-A75AD6B48C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40"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4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2"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74" dur="500"/>
                                        <p:tgtEl>
                                          <p:spTgt spid="14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79" dur="500"/>
                                        <p:tgtEl>
                                          <p:spTgt spid="140">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84" dur="500"/>
                                        <p:tgtEl>
                                          <p:spTgt spid="140">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89" dur="500"/>
                                        <p:tgtEl>
                                          <p:spTgt spid="140">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9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63AE-929A-460B-B46B-27ACF8D487D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5"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3738-286E-4B88-B4FB-314CA458FC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9"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01" dur="500"/>
                                        <p:tgtEl>
                                          <p:spTgt spid="149">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06" dur="500"/>
                                        <p:tgtEl>
                                          <p:spTgt spid="149">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11" dur="500"/>
                                        <p:tgtEl>
                                          <p:spTgt spid="149">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1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3221-3631-4BA8-B4BE-9E633FC807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3"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23" dur="500"/>
                                        <p:tgtEl>
                                          <p:spTgt spid="153">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128" dur="500"/>
                                        <p:tgtEl>
                                          <p:spTgt spid="153">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33" dur="500"/>
                                        <p:tgtEl>
                                          <p:spTgt spid="153">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38" dur="500"/>
                                        <p:tgtEl>
                                          <p:spTgt spid="153">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3">
                                            <p:txEl>
                                              <p:pRg st="7" end="7"/>
                                            </p:txEl>
                                          </p:spTgt>
                                        </p:tgtEl>
                                        <p:attrNameLst>
                                          <p:attrName>style.visibility</p:attrName>
                                        </p:attrNameLst>
                                      </p:cBhvr>
                                      <p:to>
                                        <p:strVal val="visible"/>
                                      </p:to>
                                    </p:set>
                                    <p:animEffect filter="wipe(up)" transition="in">
                                      <p:cBhvr additive="repl">
                                        <p:cTn id="143" dur="500"/>
                                        <p:tgtEl>
                                          <p:spTgt spid="153">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5"/>
                                        </p:tgtEl>
                                        <p:attrNameLst>
                                          <p:attrName>style.visibility</p:attrName>
                                        </p:attrNameLst>
                                      </p:cBhvr>
                                      <p:to>
                                        <p:strVal val="visible"/>
                                      </p:to>
                                    </p:set>
                                    <p:animEffect filter="wipe(up)" transition="in">
                                      <p:cBhvr additive="repl">
                                        <p:cTn id="14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BA30-316E-4005-BDF1-61EB6EC1C50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8"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B80A-6D92-42B8-8630-A577D9BC6B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3"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3641-83A2-4BE1-9AA0-DD78B794F6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6"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7" name="Picture 5" descr=""/>
          <p:cNvPicPr/>
          <p:nvPr/>
        </p:nvPicPr>
        <p:blipFill>
          <a:blip r:embed="rId1"/>
          <a:stretch/>
        </p:blipFill>
        <p:spPr>
          <a:xfrm>
            <a:off x="689040" y="2833560"/>
            <a:ext cx="2628720" cy="1836720"/>
          </a:xfrm>
          <a:prstGeom prst="rect">
            <a:avLst/>
          </a:prstGeom>
          <a:ln w="0">
            <a:noFill/>
          </a:ln>
        </p:spPr>
      </p:pic>
      <p:pic>
        <p:nvPicPr>
          <p:cNvPr id="168"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5D92-B860-4C0B-8D87-BC6D31CCB6A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0"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1"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14FE-1816-4C01-A4D4-6D59D5A135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7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55" dur="500"/>
                                        <p:tgtEl>
                                          <p:spTgt spid="17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0" dur="500"/>
                                        <p:tgtEl>
                                          <p:spTgt spid="17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65" dur="500"/>
                                        <p:tgtEl>
                                          <p:spTgt spid="17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7A40-C6FD-4618-A69E-D34474E3A07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C2FD-760A-415B-A54F-FD403A9616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77"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10CD-CD30-4B91-A3B8-F506DC3B7F7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80"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81" name="Picture 4" descr=""/>
          <p:cNvPicPr/>
          <p:nvPr/>
        </p:nvPicPr>
        <p:blipFill>
          <a:blip r:embed="rId1"/>
          <a:srcRect l="-3029" t="40728" r="0" b="0"/>
          <a:stretch/>
        </p:blipFill>
        <p:spPr>
          <a:xfrm>
            <a:off x="2244600" y="1839960"/>
            <a:ext cx="6534360" cy="698400"/>
          </a:xfrm>
          <a:prstGeom prst="rect">
            <a:avLst/>
          </a:prstGeom>
          <a:ln w="0">
            <a:noFill/>
          </a:ln>
        </p:spPr>
      </p:pic>
      <p:pic>
        <p:nvPicPr>
          <p:cNvPr id="182" name="Picture 6" descr=""/>
          <p:cNvPicPr/>
          <p:nvPr/>
        </p:nvPicPr>
        <p:blipFill>
          <a:blip r:embed="rId2"/>
          <a:stretch/>
        </p:blipFill>
        <p:spPr>
          <a:xfrm>
            <a:off x="2475000" y="3440160"/>
            <a:ext cx="5180040" cy="630360"/>
          </a:xfrm>
          <a:prstGeom prst="rect">
            <a:avLst/>
          </a:prstGeom>
          <a:ln w="0">
            <a:noFill/>
          </a:ln>
        </p:spPr>
      </p:pic>
      <p:pic>
        <p:nvPicPr>
          <p:cNvPr id="183" name="Picture 8" descr=""/>
          <p:cNvPicPr/>
          <p:nvPr/>
        </p:nvPicPr>
        <p:blipFill>
          <a:blip r:embed="rId3"/>
          <a:stretch/>
        </p:blipFill>
        <p:spPr>
          <a:xfrm>
            <a:off x="2438280" y="4772160"/>
            <a:ext cx="5335560" cy="637920"/>
          </a:xfrm>
          <a:prstGeom prst="rect">
            <a:avLst/>
          </a:prstGeom>
          <a:ln w="0">
            <a:noFill/>
          </a:ln>
        </p:spPr>
      </p:pic>
      <p:pic>
        <p:nvPicPr>
          <p:cNvPr id="184"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1"/>
                                        </p:tgtEl>
                                        <p:attrNameLst>
                                          <p:attrName>style.visibility</p:attrName>
                                        </p:attrNameLst>
                                      </p:cBhvr>
                                      <p:to>
                                        <p:strVal val="visible"/>
                                      </p:to>
                                    </p:set>
                                    <p:animEffect filter="wipe(left)" transition="in">
                                      <p:cBhvr additive="repl">
                                        <p:cTn id="177" dur="500"/>
                                        <p:tgtEl>
                                          <p:spTgt spid="18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2"/>
                                        </p:tgtEl>
                                        <p:attrNameLst>
                                          <p:attrName>style.visibility</p:attrName>
                                        </p:attrNameLst>
                                      </p:cBhvr>
                                      <p:to>
                                        <p:strVal val="visible"/>
                                      </p:to>
                                    </p:set>
                                    <p:animEffect filter="wipe(left)" transition="in">
                                      <p:cBhvr additive="repl">
                                        <p:cTn id="182" dur="500"/>
                                        <p:tgtEl>
                                          <p:spTgt spid="18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3"/>
                                        </p:tgtEl>
                                        <p:attrNameLst>
                                          <p:attrName>style.visibility</p:attrName>
                                        </p:attrNameLst>
                                      </p:cBhvr>
                                      <p:to>
                                        <p:strVal val="visible"/>
                                      </p:to>
                                    </p:set>
                                    <p:animEffect filter="wipe(left)" transition="in">
                                      <p:cBhvr additive="repl">
                                        <p:cTn id="187" dur="500"/>
                                        <p:tgtEl>
                                          <p:spTgt spid="183"/>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84"/>
                                        </p:tgtEl>
                                        <p:attrNameLst>
                                          <p:attrName>style.visibility</p:attrName>
                                        </p:attrNameLst>
                                      </p:cBhvr>
                                      <p:to>
                                        <p:strVal val="visible"/>
                                      </p:to>
                                    </p:set>
                                    <p:animEffect filter="wipe(left)"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0EE0-FCC9-40CC-AE13-43CE26A84C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8"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8"/>
                                        </p:tgtEl>
                                        <p:attrNameLst>
                                          <p:attrName>style.visibility</p:attrName>
                                        </p:attrNameLst>
                                      </p:cBhvr>
                                      <p:to>
                                        <p:strVal val="visible"/>
                                      </p:to>
                                    </p:set>
                                    <p:animEffect filter="wipe(left)" transition="in">
                                      <p:cBhvr additive="repl">
                                        <p:cTn id="19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7D29-1DBF-42A5-BA07-3C3D03C5E4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9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92"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5B26-7921-4396-918D-5A6F3B8550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95"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96"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1862-04C1-442D-8D36-443AF7B823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9"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00"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6C32-4B7A-4850-9D9C-5EF4B44787D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3"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C6BD-9E1A-46D6-B14A-76E12008B9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6"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07"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C20B-BF3F-47A3-B9D3-79B47B163AF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1030-1663-47AB-8826-8FE55B52CA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E478-E20D-4036-816D-3D31045AD9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AB54-01DE-4654-942D-26F7C4F63F9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32A9-AFDB-4AC7-BE3E-8DDAE7BD64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C3B9-F1B7-4152-853C-D4DF9AA511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DE1F-FEE5-4394-8A85-146BA8EEF9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29"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E165-A309-4DD3-8400-255482AAA1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2" name="Picture 4" descr=""/>
          <p:cNvPicPr/>
          <p:nvPr/>
        </p:nvPicPr>
        <p:blipFill>
          <a:blip r:embed="rId1"/>
          <a:stretch/>
        </p:blipFill>
        <p:spPr>
          <a:xfrm>
            <a:off x="1311120" y="4297320"/>
            <a:ext cx="2629080" cy="1836720"/>
          </a:xfrm>
          <a:prstGeom prst="rect">
            <a:avLst/>
          </a:prstGeom>
          <a:ln w="0">
            <a:noFill/>
          </a:ln>
        </p:spPr>
      </p:pic>
      <p:sp>
        <p:nvSpPr>
          <p:cNvPr id="133"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34"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cp:lastModifiedBy>
  <dcterms:modified xsi:type="dcterms:W3CDTF">2017-09-19T08:29:55Z</dcterms:modified>
  <cp:revision>145</cp:revision>
  <dc:subject>Numerical Values</dc:subject>
  <dc:title>Chapter 3</dc:title>
</cp:coreProperties>
</file>