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217C-3867-4A3E-BF21-290C42F58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22D6-05A3-4B34-ABBB-221DBE63834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8066-3DB4-4567-B741-9515C45A39E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CA88-2EF8-48C5-9278-E420A54DDED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6A2C-6A3C-4F69-8B05-8D280A90ED1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B742-6C6F-4553-8635-317570D7C12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2419-B019-401C-908C-A7B521C0CFC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6366-7266-41B2-9AB5-98E690AEB5A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CF14-D0C6-4DA1-935B-C85B5F3AF4E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2E9D-AF35-422B-AD9D-26773978568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A653-3E08-48FD-9FA3-07034AD3DF3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E021-19A5-49B5-BC73-5AF18443490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7175-3601-4FA7-A7E8-A5F8C6E0E89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95B3-EBCF-41F2-A5B7-5F5B4C4C755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90CA-2312-4EB2-82E2-135742A6460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E590-CB47-4BB2-AFE2-7634767368A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49F2-3698-46D8-9E44-A945750CCE7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F7AE-509B-4444-9965-B17D1F54028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8F8F-151A-4A08-9739-3A3A480AACB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C521-3940-4F91-A83E-C23638F8B39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65B8-393A-4ABF-B42B-71B2D0207F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E242-4B79-4F3D-A168-3919AF05ECF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C6A8-FB0F-43EE-B218-81EFE3F78B2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D63C-9180-4B4B-AE8E-5E97CB14326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63F4-1353-4E06-B51A-2782B8C36BC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86D4-B227-4C67-BD49-EE33B4A585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3F35-6709-4FC6-99F4-3FDD741E369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CDB5-9B7D-46CD-881E-E72EDAA011E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DDEA-2BCE-4B38-B7FC-1907BAF10F0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F2B23A-C5AC-4C23-A305-9990422E98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405D27-2498-4810-B64A-94094448C4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98E728-5D02-417F-A363-29B45E1758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46D213-1E06-43E2-A730-59A0F21FE8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AAB995-FAA4-43A1-A1D8-DE3A70F3E2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CC8D43-C919-4ED7-BEEA-B67722EF40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C573FA-AD95-4A54-93E8-656F6A68B0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DA0930-B735-4B11-B746-A4C1426FD5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1D7D2A-41D4-4375-8035-A9BD8AC5CC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B49F2A-0634-484A-ABFC-20C391AD78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3547A6-3AEC-4BA0-B3AA-8F8F202219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D87A09-E15A-44E3-81D2-7F10564F68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B686-2C59-425C-A426-22F72B3D727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8A40-5EE1-4DBA-8265-E52966F0AE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7"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D837-D051-431F-AF29-BB62A25CBC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40"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4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2"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74" dur="500"/>
                                        <p:tgtEl>
                                          <p:spTgt spid="14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79" dur="500"/>
                                        <p:tgtEl>
                                          <p:spTgt spid="140">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84" dur="500"/>
                                        <p:tgtEl>
                                          <p:spTgt spid="140">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89" dur="500"/>
                                        <p:tgtEl>
                                          <p:spTgt spid="140">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9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5325-4991-48D9-963D-422EF45D27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5"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FD07-7F74-46D9-800E-E9BE0B956E0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9"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01" dur="500"/>
                                        <p:tgtEl>
                                          <p:spTgt spid="149">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06" dur="500"/>
                                        <p:tgtEl>
                                          <p:spTgt spid="149">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11" dur="500"/>
                                        <p:tgtEl>
                                          <p:spTgt spid="149">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1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2C17-7420-4D14-9927-E2AEDD7E161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3"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23" dur="500"/>
                                        <p:tgtEl>
                                          <p:spTgt spid="15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128" dur="500"/>
                                        <p:tgtEl>
                                          <p:spTgt spid="15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33" dur="500"/>
                                        <p:tgtEl>
                                          <p:spTgt spid="15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38" dur="500"/>
                                        <p:tgtEl>
                                          <p:spTgt spid="15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3">
                                            <p:txEl>
                                              <p:pRg st="7" end="7"/>
                                            </p:txEl>
                                          </p:spTgt>
                                        </p:tgtEl>
                                        <p:attrNameLst>
                                          <p:attrName>style.visibility</p:attrName>
                                        </p:attrNameLst>
                                      </p:cBhvr>
                                      <p:to>
                                        <p:strVal val="visible"/>
                                      </p:to>
                                    </p:set>
                                    <p:animEffect filter="wipe(up)" transition="in">
                                      <p:cBhvr additive="repl">
                                        <p:cTn id="143" dur="500"/>
                                        <p:tgtEl>
                                          <p:spTgt spid="15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5"/>
                                        </p:tgtEl>
                                        <p:attrNameLst>
                                          <p:attrName>style.visibility</p:attrName>
                                        </p:attrNameLst>
                                      </p:cBhvr>
                                      <p:to>
                                        <p:strVal val="visible"/>
                                      </p:to>
                                    </p:set>
                                    <p:animEffect filter="wipe(up)" transition="in">
                                      <p:cBhvr additive="repl">
                                        <p:cTn id="14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221F-FB23-4B41-AC3B-5EC08A89504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8"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0688-A0DC-4E67-A3A3-AB338AB5EBE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3"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A23F-1D65-4EDF-8839-346C1E5EBE6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6"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7" name="Picture 5" descr=""/>
          <p:cNvPicPr/>
          <p:nvPr/>
        </p:nvPicPr>
        <p:blipFill>
          <a:blip r:embed="rId1"/>
          <a:stretch/>
        </p:blipFill>
        <p:spPr>
          <a:xfrm>
            <a:off x="689040" y="2833560"/>
            <a:ext cx="2628720" cy="1836720"/>
          </a:xfrm>
          <a:prstGeom prst="rect">
            <a:avLst/>
          </a:prstGeom>
          <a:ln w="0">
            <a:noFill/>
          </a:ln>
        </p:spPr>
      </p:pic>
      <p:pic>
        <p:nvPicPr>
          <p:cNvPr id="168"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79AF-3E84-4727-BB9C-022950B394E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1"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FE72-177E-4617-AC5C-FF1EFE46B85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7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55" dur="500"/>
                                        <p:tgtEl>
                                          <p:spTgt spid="17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0" dur="500"/>
                                        <p:tgtEl>
                                          <p:spTgt spid="17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65" dur="500"/>
                                        <p:tgtEl>
                                          <p:spTgt spid="17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0"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C9F0-0003-41E6-83BE-BF31FB3A4C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6290-E906-4866-80EB-F73D48924C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77"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E018-7884-4B77-9AF7-385B2761A8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80"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81" name="Picture 4" descr=""/>
          <p:cNvPicPr/>
          <p:nvPr/>
        </p:nvPicPr>
        <p:blipFill>
          <a:blip r:embed="rId1"/>
          <a:srcRect l="-3029" t="40728" r="0" b="0"/>
          <a:stretch/>
        </p:blipFill>
        <p:spPr>
          <a:xfrm>
            <a:off x="2244600" y="1839960"/>
            <a:ext cx="6534360" cy="698400"/>
          </a:xfrm>
          <a:prstGeom prst="rect">
            <a:avLst/>
          </a:prstGeom>
          <a:ln w="0">
            <a:noFill/>
          </a:ln>
        </p:spPr>
      </p:pic>
      <p:pic>
        <p:nvPicPr>
          <p:cNvPr id="182" name="Picture 6" descr=""/>
          <p:cNvPicPr/>
          <p:nvPr/>
        </p:nvPicPr>
        <p:blipFill>
          <a:blip r:embed="rId2"/>
          <a:stretch/>
        </p:blipFill>
        <p:spPr>
          <a:xfrm>
            <a:off x="2475000" y="3440160"/>
            <a:ext cx="5180040" cy="630360"/>
          </a:xfrm>
          <a:prstGeom prst="rect">
            <a:avLst/>
          </a:prstGeom>
          <a:ln w="0">
            <a:noFill/>
          </a:ln>
        </p:spPr>
      </p:pic>
      <p:pic>
        <p:nvPicPr>
          <p:cNvPr id="183" name="Picture 8" descr=""/>
          <p:cNvPicPr/>
          <p:nvPr/>
        </p:nvPicPr>
        <p:blipFill>
          <a:blip r:embed="rId3"/>
          <a:stretch/>
        </p:blipFill>
        <p:spPr>
          <a:xfrm>
            <a:off x="2438280" y="4772160"/>
            <a:ext cx="5335560" cy="637920"/>
          </a:xfrm>
          <a:prstGeom prst="rect">
            <a:avLst/>
          </a:prstGeom>
          <a:ln w="0">
            <a:noFill/>
          </a:ln>
        </p:spPr>
      </p:pic>
      <p:pic>
        <p:nvPicPr>
          <p:cNvPr id="184"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1"/>
                                        </p:tgtEl>
                                        <p:attrNameLst>
                                          <p:attrName>style.visibility</p:attrName>
                                        </p:attrNameLst>
                                      </p:cBhvr>
                                      <p:to>
                                        <p:strVal val="visible"/>
                                      </p:to>
                                    </p:set>
                                    <p:animEffect filter="wipe(left)" transition="in">
                                      <p:cBhvr additive="repl">
                                        <p:cTn id="177" dur="500"/>
                                        <p:tgtEl>
                                          <p:spTgt spid="18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2"/>
                                        </p:tgtEl>
                                        <p:attrNameLst>
                                          <p:attrName>style.visibility</p:attrName>
                                        </p:attrNameLst>
                                      </p:cBhvr>
                                      <p:to>
                                        <p:strVal val="visible"/>
                                      </p:to>
                                    </p:set>
                                    <p:animEffect filter="wipe(left)"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3"/>
                                        </p:tgtEl>
                                        <p:attrNameLst>
                                          <p:attrName>style.visibility</p:attrName>
                                        </p:attrNameLst>
                                      </p:cBhvr>
                                      <p:to>
                                        <p:strVal val="visible"/>
                                      </p:to>
                                    </p:set>
                                    <p:animEffect filter="wipe(left)" transition="in">
                                      <p:cBhvr additive="repl">
                                        <p:cTn id="187" dur="500"/>
                                        <p:tgtEl>
                                          <p:spTgt spid="18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84"/>
                                        </p:tgtEl>
                                        <p:attrNameLst>
                                          <p:attrName>style.visibility</p:attrName>
                                        </p:attrNameLst>
                                      </p:cBhvr>
                                      <p:to>
                                        <p:strVal val="visible"/>
                                      </p:to>
                                    </p:set>
                                    <p:animEffect filter="wipe(left)"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661B-57CD-45EE-9507-394A9B5120D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8"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8"/>
                                        </p:tgtEl>
                                        <p:attrNameLst>
                                          <p:attrName>style.visibility</p:attrName>
                                        </p:attrNameLst>
                                      </p:cBhvr>
                                      <p:to>
                                        <p:strVal val="visible"/>
                                      </p:to>
                                    </p:set>
                                    <p:animEffect filter="wipe(left)" transition="in">
                                      <p:cBhvr additive="repl">
                                        <p:cTn id="1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640A-AF4F-48E2-BAC3-F67F2895FC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9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92"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6DEC-265F-4E2A-80D8-703B46D90B7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95"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96"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EA5A-B1CB-4E58-81C8-6F09847A234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9"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00"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BBEF-5C07-4AE8-8BBF-97DC26BC1BE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3"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99CA-A9B9-4E30-9E68-DB7D9B3306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6"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07"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71AB-57F9-4B76-8217-67D1ECEEB34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1756-4630-493F-8862-37B4B1B765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1F62-B249-4C0C-A067-2D814F1C71F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20E0-DE31-45EA-84C6-F70497403F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9BCF-D37F-4B8C-8160-A3DBB7D1DAD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AEC7-6628-4913-A6DE-FE488C3A1D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5D74-E289-42DB-A440-03CF9191CB7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29"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1A0D-4A3E-496B-9B6F-51DC64198A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2" name="Picture 4" descr=""/>
          <p:cNvPicPr/>
          <p:nvPr/>
        </p:nvPicPr>
        <p:blipFill>
          <a:blip r:embed="rId1"/>
          <a:stretch/>
        </p:blipFill>
        <p:spPr>
          <a:xfrm>
            <a:off x="1311120" y="4297320"/>
            <a:ext cx="2629080" cy="1836720"/>
          </a:xfrm>
          <a:prstGeom prst="rect">
            <a:avLst/>
          </a:prstGeom>
          <a:ln w="0">
            <a:noFill/>
          </a:ln>
        </p:spPr>
      </p:pic>
      <p:sp>
        <p:nvSpPr>
          <p:cNvPr id="133"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4"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1:35Z</dcterms:modified>
  <cp:revision>145</cp:revision>
  <dc:subject>Numerical Values</dc:subject>
  <dc:title>Chapter 3</dc:title>
</cp:coreProperties>
</file>