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6012-9C35-444E-B62A-34CC6052A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469A-990D-4AA9-9692-EB2FDE337BC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01F2-4C74-4AC1-891E-67CF2056DCD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55DC-019A-4454-B7B3-C26FE75263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67B9-1190-4AC2-B1D9-6417EF4EFED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7FE0-7A54-4289-BA43-68E4CFB5E5C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7BB5-9881-4B91-BC79-F63AAC082E4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8DF2-28AB-4814-9708-BAE65FC98D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06D7-4CF8-43BB-A6C3-D23A0545831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4E27-14FF-4D81-842E-86C10421778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297D-3ACA-4B0F-96AD-9A80E241012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353D-2070-46D8-AEC2-F662DAD4A51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0E3D-B907-4C1F-950B-82BA11CAA9C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1A49-6175-45F4-A3DF-C6CB2DF671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AA51-40EE-49EF-AE78-8B51ECE7C0F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9C94-2132-44EA-BBEA-120708FC93E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35FC-7CCA-467F-8D92-B4B51084F67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8386-1256-4E3C-816A-C6CC36636DA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DDC2-EF66-4C20-A9AE-72A6F861F43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C8D2-104A-433E-A189-321538F7516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1B4A-BD90-4FB4-8933-571B9851CFF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71CE-1944-4092-99A0-2810CC524A2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7078-0CF9-4AE3-8811-CD9C65FF108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FE85-4FAF-48DA-AA56-E6FF4FB0B3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2C63-A3B1-4386-A272-6C3BC33A751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5FF2-4B2C-446D-8BE9-4084C5CD74A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27C5-9ED2-4643-9986-A697DC050D0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7E18-10A3-4B34-96C2-7230AD4DF46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A7DF-7162-4815-A9D4-16DB09B9431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7C0D-281F-41B5-920A-7E06BF76923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55EC-C3ED-4B5A-AB51-4E302C5EE77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A54F-5B32-4758-91FC-F3AFE824EE4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F6E4-EA50-413B-A8E0-11337732ECF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2AC-863C-438A-BC68-D66D8945952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5B57-0055-4933-AD28-B8A874AC236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A141-E8CE-4A82-8F7A-ABE728544A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A4E4-3623-4628-A15D-C521E75F90A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9D6143-7EBE-403E-910B-EC2D3330C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900AD4-C5BF-4DC8-AAFB-8974B282C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E5058A-274C-44FD-B847-B17EBA6DE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54EBA7-0EB6-4999-A7EA-822DC6453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C4355-FC4C-432F-9B8C-65C27DC2C7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1B7569-7C42-4869-A679-8F6696693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F24FE2-576C-4D16-AAFE-D90E3B8E0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D2946A-EBCB-44BC-98DF-2E80BD60D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B73ACD-A5C4-4E9E-9D00-96B0B88DC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39A02-BA6B-4617-B3A9-C517CA0C1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C3D1C-7A6C-4C3C-B4D5-D4CBA1882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CB18FB-889B-46E6-9591-08A753820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3DC6-C7F0-4584-BD37-66514DC5642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8C86-DF36-47C4-9D16-E33BE8D6C22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E4D9-7DD5-429D-9BDF-17DB2FE2B90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FA2F-ABF6-4F52-82C9-3B7D7FD1B55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4119-9E8E-486C-BD22-C65FD417EA1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33cccc"/>
                </a:solidFill>
                <a:latin typeface="Arial"/>
                <a:ea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33cccc"/>
                </a:solidFill>
                <a:latin typeface="Arial"/>
                <a:ea typeface="Arial"/>
              </a:rPr>
              <a:t>73, 75, 76, 80</a:t>
            </a:r>
            <a:r>
              <a:rPr b="0" lang="en-US" sz="2400" spc="-1" strike="noStrike">
                <a:solidFill>
                  <a:srgbClr val="003366"/>
                </a:solidFill>
                <a:latin typeface="Arial"/>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1DC9-F9B6-4D99-A1C4-7CC13F5451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0F32-D095-430E-889E-6695D5936C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846B-16C6-4B6F-8CF9-E578BF9680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36DE-934E-41AC-BE26-54118AC3E6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5839-869A-49D5-85F8-97BB9241530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D90F-C7B9-4871-9BA4-442F1AB629E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nodeType="afterEffect"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B546-5A3D-4D2B-B4DD-E9D139AC589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400" spc="-1" strike="noStrike">
                <a:solidFill>
                  <a:srgbClr val="003366"/>
                </a:solidFill>
                <a:latin typeface="Arial"/>
                <a:ea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B8EF-D520-4990-9ABA-0D18684174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D57C-FDE0-44AB-B27A-D5163C40BAB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10160"/>
                <a:ext cx="6645240" cy="55872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1</m:t>
                        </m:r>
                        <m:r>
                          <m:rPr>
                            <m:lit/>
                            <m:nor/>
                          </m:rPr>
                          <m:t xml:space="preserve">.</m:t>
                        </m:r>
                        <m:r>
                          <m:t xml:space="preserve">4</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6</m:t>
                        </m:r>
                        <m:r>
                          <m:rPr>
                            <m:lit/>
                            <m:nor/>
                          </m:rPr>
                          <m:t xml:space="preserve">.</m:t>
                        </m:r>
                        <m:r>
                          <m:rPr>
                            <m:lit/>
                            <m:nor/>
                          </m:rPr>
                          <m:t xml:space="preserve">552</m:t>
                        </m:r>
                      </m:e>
                    </m:rad>
                    <m:r>
                      <m:t xml:space="preserve">=</m:t>
                    </m:r>
                    <m:r>
                      <m:t xml:space="preserve">1</m:t>
                    </m:r>
                    <m:r>
                      <m:rPr>
                        <m:lit/>
                        <m:nor/>
                      </m:rPr>
                      <m:t xml:space="preserve">.</m:t>
                    </m:r>
                    <m:r>
                      <m:rPr>
                        <m:lit/>
                        <m:nor/>
                      </m:rPr>
                      <m:t xml:space="preserve">5999</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E5DD-1F0A-4AB5-AAB6-F3403AD4B54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92F2-5A89-4422-BA2F-623295F443A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512B-BB1C-4B23-AB52-EB2E28E78EF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DEB9-597B-4F0F-8E9F-52B1BD47617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Arial"/>
              </a:rPr>
              <a:t>Range = Largest – Smallest valu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Arial"/>
              </a:rPr>
              <a:t>           </a:t>
            </a:r>
            <a:r>
              <a:rPr b="0" lang="en-US" sz="2400" spc="-1" strike="noStrike">
                <a:solidFill>
                  <a:srgbClr val="003366"/>
                </a:solidFill>
                <a:latin typeface="Times New Roman"/>
                <a:ea typeface="Arial"/>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7D48-46FD-42A6-9D44-290C685B9A3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B910-400E-4037-9B48-2843D366349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95B6-A703-4854-987C-A435B67C65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pic>
        <p:nvPicPr>
          <p:cNvPr id="215" name="مربع نص 1" descr=""/>
          <p:cNvPicPr/>
          <p:nvPr/>
        </p:nvPicPr>
        <p:blipFill>
          <a:blip r:embed="rId2"/>
          <a:stretch/>
        </p:blipFill>
        <p:spPr>
          <a:xfrm>
            <a:off x="1560600" y="4730760"/>
            <a:ext cx="1815840" cy="646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7B54-7040-4E56-AB3C-1E453C2150A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218" name="PlaceHolder 1"/>
          <p:cNvSpPr>
            <a:spLocks noGrp="1"/>
          </p:cNvSpPr>
          <p:nvPr>
            <p:ph/>
          </p:nvPr>
        </p:nvSpPr>
        <p:spPr>
          <a:xfrm>
            <a:off x="838080" y="1905120"/>
            <a:ext cx="7693200" cy="167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19" name="Picture 6" descr="0329"/>
          <p:cNvPicPr/>
          <p:nvPr/>
        </p:nvPicPr>
        <p:blipFill>
          <a:blip r:embed="rId1"/>
          <a:stretch/>
        </p:blipFill>
        <p:spPr>
          <a:xfrm>
            <a:off x="1271520" y="3919680"/>
            <a:ext cx="7220160" cy="238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48D8-29E1-43DA-8DF1-AF97302CE7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F965-34CF-4E69-8D3D-6F21E35376E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222" name="Picture 6" descr="0330"/>
          <p:cNvPicPr/>
          <p:nvPr/>
        </p:nvPicPr>
        <p:blipFill>
          <a:blip r:embed="rId1"/>
          <a:stretch/>
        </p:blipFill>
        <p:spPr>
          <a:xfrm>
            <a:off x="1189080" y="1952640"/>
            <a:ext cx="6981840" cy="490536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A1B7-0F1E-4320-8B82-13BB79AB60D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4"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25"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2428-60D9-4E98-B4F9-A3661DFB346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7"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8" name="Picture 4" descr=""/>
          <p:cNvPicPr/>
          <p:nvPr/>
        </p:nvPicPr>
        <p:blipFill>
          <a:blip r:embed="rId1"/>
          <a:stretch/>
        </p:blipFill>
        <p:spPr>
          <a:xfrm>
            <a:off x="1311120" y="4297320"/>
            <a:ext cx="2629080" cy="1836720"/>
          </a:xfrm>
          <a:prstGeom prst="rect">
            <a:avLst/>
          </a:prstGeom>
          <a:ln w="0">
            <a:noFill/>
          </a:ln>
        </p:spPr>
      </p:pic>
      <p:sp>
        <p:nvSpPr>
          <p:cNvPr id="229"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0"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F3BA-73D9-49F7-AA80-26C802C320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33"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7531-2565-486E-9446-1E9F2147A9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36" name="Picture 6" descr="0334"/>
          <p:cNvPicPr/>
          <p:nvPr/>
        </p:nvPicPr>
        <p:blipFill>
          <a:blip r:embed="rId1"/>
          <a:stretch/>
        </p:blipFill>
        <p:spPr>
          <a:xfrm>
            <a:off x="630360" y="2478240"/>
            <a:ext cx="8315280" cy="3143160"/>
          </a:xfrm>
          <a:prstGeom prst="rect">
            <a:avLst/>
          </a:prstGeom>
          <a:ln w="0">
            <a:noFill/>
          </a:ln>
        </p:spPr>
      </p:pic>
      <p:pic>
        <p:nvPicPr>
          <p:cNvPr id="237" name="مربع نص 1" descr=""/>
          <p:cNvPicPr/>
          <p:nvPr/>
        </p:nvPicPr>
        <p:blipFill>
          <a:blip r:embed="rId2"/>
          <a:stretch/>
        </p:blipFill>
        <p:spPr>
          <a:xfrm>
            <a:off x="5248440" y="5450040"/>
            <a:ext cx="3419280" cy="11887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B8DE-B6E3-434F-8F60-23A2B85DF6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9"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40"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41"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3E1D-30B2-4E16-A3BE-B53D3C156D2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00C9-5928-4BA1-9576-DF26715347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A18B-CD0F-4012-9BF0-E6827D20E61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DD5E-5900-4F80-B96A-DB48ACA4F58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B83A-E653-4AB8-914B-0E4A8A3234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985B-E408-4696-B826-AF69097CFB1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0F66-9800-4772-BEDE-7870B3AD705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Fuad Abdullah Awwad</cp:lastModifiedBy>
  <cp:lastPrinted>2013-02-12T05:03:47Z</cp:lastPrinted>
  <dcterms:modified xsi:type="dcterms:W3CDTF">2016-02-21T19:02:49Z</dcterms:modified>
  <cp:revision>146</cp:revision>
  <dc:subject>Numerical Values</dc:subject>
  <dc:title>Chapter 3</dc:title>
</cp:coreProperties>
</file>