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1818-A15C-440C-A2DD-444A02FA0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433B-55F6-4CEB-AD47-3AB2CE88571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15EF-0741-4CFE-A557-6F9CEA4F4FD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F373-B480-4104-9E6C-790760978FA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9742-1218-400A-BEBA-9BFA7B76D6E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C1C7-0317-466D-8A70-F42F6273449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D4B4-5878-48DD-AC80-4799A748A28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8EF9-A145-4FE2-8BE0-3885917AE68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3F2D-6FD4-4CC5-BC83-C13A17FF891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9FB9-A3C7-480A-A9A9-CF1727864FC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B005-2B3F-49F0-915A-CE166510052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3061-D9B4-4988-B14F-998E36C819B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C9CE-F504-43F6-9766-975916C4C86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E130-1431-49C1-AA8F-92BE16DBCAD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4840-3A1C-40F0-B135-8DFBCFD4542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C963-FAC7-4974-8E23-E011E9CDAA7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9261-8C56-462B-A3D0-A5E3DDAB43C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14FF-13DE-420F-8369-54F915974FB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CDF6-B823-478A-9EFC-4A23D4387D6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8F5F-0B80-41BA-B56F-DB76D64A29A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9CF2-27AE-4287-B825-C30D2F2B25A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FC14-1460-495C-B500-02CDCE49AD8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D2CB-7BF6-4E43-B819-8CB6770FC30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9227-23A4-43B2-8FB3-8D367436677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E286-2AA7-4555-A016-1876D2DA0B9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633C-5B4E-46EB-80DC-278B085E565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DABF-FB5B-4A87-8563-5256A154ADB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BD0E-CCC0-4CC9-B57A-D2A347C451C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D7CC-E97C-48EF-9F1F-60CC83EB9CD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F2D3-6E3B-492B-9B89-E21476B7C82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8A22-BB22-438D-9F8C-FAD08396A98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681B-3EB2-4CE0-91CA-A4D67AC05E2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8482-221A-4672-ABFF-8B86BDEE21E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E858-1D6A-457C-B84A-8CED4496668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BFBD-B537-4B17-9803-1948DA17851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DD7E-6474-4E8F-9420-8F054DADB8E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3A6D-27B0-48FC-84D4-32A5D71B9B6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A618C8-01B2-461C-85C4-E973D1568B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ACEFFF-67C8-4767-A04B-06272D597B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876FD5-1658-4888-AFC8-059FF5C24A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413681-5B16-4AB0-A059-D7D32BACA2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526065-128F-4F9D-983C-1D32083F19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A40BF4-E572-419D-8CB4-C45348AA47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29A6BB-F83C-44FB-8FF7-30DBFEE034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994429-5FA3-4E7A-99BE-509A94164F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1CB10C-68CC-4879-8B4E-364303271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E780F2-C0BA-4685-BE2E-D89344233E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B1CE39-72F0-4921-8791-41F75A2ED2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AEB390-4CE4-4DBC-96E6-DD663A3380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492C-AF5A-476C-B63B-8CF64841955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E2AE-A0B8-49CD-9234-32D8C1CD8E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95C7-44D7-4B91-AA3B-91F75488CF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9C06-CE75-4537-85E7-D8079540E2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EE98-A307-4A9D-92C8-371759F0895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33cccc"/>
                </a:solidFill>
                <a:latin typeface="Arial"/>
                <a:ea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33cccc"/>
                </a:solidFill>
                <a:latin typeface="Arial"/>
                <a:ea typeface="Arial"/>
              </a:rPr>
              <a:t>73, 75, 76, 80</a:t>
            </a:r>
            <a:r>
              <a:rPr b="0" lang="en-US" sz="2400" spc="-1" strike="noStrike">
                <a:solidFill>
                  <a:srgbClr val="003366"/>
                </a:solidFill>
                <a:latin typeface="Arial"/>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EEF3-D471-4215-9D70-96A95A9C5E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50DD-8EA5-428B-84E6-2E416A26D7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F051-6C52-4F50-B28D-BCE2A653FE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6B84-09BF-4989-9FAF-3D0A6AB81B8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2C41-B6E0-4752-A5F4-9AAAF9BE43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6548-1859-45A0-B2E9-0C9D39E18B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nodeType="afterEffect"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1469-E647-4E78-ACA4-108418F1C24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845A-C3EC-4BA7-8018-474EC455E62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19E0-6667-4359-A4F9-7E5E87126F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10160"/>
                <a:ext cx="6645240" cy="55872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1</m:t>
                        </m:r>
                        <m:r>
                          <m:rPr>
                            <m:lit/>
                            <m:nor/>
                          </m:rPr>
                          <m:t xml:space="preserve">.</m:t>
                        </m:r>
                        <m:r>
                          <m:t xml:space="preserve">4</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6</m:t>
                        </m:r>
                        <m:r>
                          <m:rPr>
                            <m:lit/>
                            <m:nor/>
                          </m:rPr>
                          <m:t xml:space="preserve">.</m:t>
                        </m:r>
                        <m:r>
                          <m:rPr>
                            <m:lit/>
                            <m:nor/>
                          </m:rPr>
                          <m:t xml:space="preserve">552</m:t>
                        </m:r>
                      </m:e>
                    </m:rad>
                    <m:r>
                      <m:t xml:space="preserve">=</m:t>
                    </m:r>
                    <m:r>
                      <m:t xml:space="preserve">1</m:t>
                    </m:r>
                    <m:r>
                      <m:rPr>
                        <m:lit/>
                        <m:nor/>
                      </m:rPr>
                      <m:t xml:space="preserve">.</m:t>
                    </m:r>
                    <m:r>
                      <m:rPr>
                        <m:lit/>
                        <m:nor/>
                      </m:rPr>
                      <m:t xml:space="preserve">5999</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F61E-D0BE-4E9E-BE13-FE622021AC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12AB-DE91-4925-8B02-5F8005A32FE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55B7-02E4-429C-8469-870D4998D6A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6BBF-356E-499C-9BCB-453AB30133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Arial"/>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Arial"/>
              </a:rPr>
              <a:t>           </a:t>
            </a:r>
            <a:r>
              <a:rPr b="0" lang="en-US" sz="2400" spc="-1" strike="noStrike">
                <a:solidFill>
                  <a:srgbClr val="003366"/>
                </a:solidFill>
                <a:latin typeface="Times New Roman"/>
                <a:ea typeface="Arial"/>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B3E8-8212-464A-9501-28D50A659D8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585B-EC11-40E8-A744-35F871B65B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3A18-DDE0-4EBD-9C48-733A46D0C6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pic>
        <p:nvPicPr>
          <p:cNvPr id="215" name="مربع نص 1" descr=""/>
          <p:cNvPicPr/>
          <p:nvPr/>
        </p:nvPicPr>
        <p:blipFill>
          <a:blip r:embed="rId2"/>
          <a:stretch/>
        </p:blipFill>
        <p:spPr>
          <a:xfrm>
            <a:off x="1560600" y="4730760"/>
            <a:ext cx="1815840" cy="6462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C43B-6E92-4C2A-9FD6-F1027B3374E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218" name="PlaceHolder 1"/>
          <p:cNvSpPr>
            <a:spLocks noGrp="1"/>
          </p:cNvSpPr>
          <p:nvPr>
            <p:ph/>
          </p:nvPr>
        </p:nvSpPr>
        <p:spPr>
          <a:xfrm>
            <a:off x="838080" y="1905120"/>
            <a:ext cx="7693200" cy="167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9" name="Picture 6" descr="0329"/>
          <p:cNvPicPr/>
          <p:nvPr/>
        </p:nvPicPr>
        <p:blipFill>
          <a:blip r:embed="rId1"/>
          <a:stretch/>
        </p:blipFill>
        <p:spPr>
          <a:xfrm>
            <a:off x="1271520" y="3919680"/>
            <a:ext cx="7220160" cy="238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E74D-9539-4ABC-9BD3-A5E1D00F7BA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0158-0261-4944-AD50-97605B93D2F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222" name="Picture 6" descr="0330"/>
          <p:cNvPicPr/>
          <p:nvPr/>
        </p:nvPicPr>
        <p:blipFill>
          <a:blip r:embed="rId1"/>
          <a:stretch/>
        </p:blipFill>
        <p:spPr>
          <a:xfrm>
            <a:off x="1189080" y="1952640"/>
            <a:ext cx="6981840" cy="49053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317B6-99DF-450C-8EA8-B25C4AF894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4"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25"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7FE8-9335-4A2A-9852-BC91C51EA7D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7"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8" name="Picture 4" descr=""/>
          <p:cNvPicPr/>
          <p:nvPr/>
        </p:nvPicPr>
        <p:blipFill>
          <a:blip r:embed="rId1"/>
          <a:stretch/>
        </p:blipFill>
        <p:spPr>
          <a:xfrm>
            <a:off x="1311120" y="4297320"/>
            <a:ext cx="2629080" cy="1836720"/>
          </a:xfrm>
          <a:prstGeom prst="rect">
            <a:avLst/>
          </a:prstGeom>
          <a:ln w="0">
            <a:noFill/>
          </a:ln>
        </p:spPr>
      </p:pic>
      <p:sp>
        <p:nvSpPr>
          <p:cNvPr id="229"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0"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22D8-CD59-4C7B-83A0-CB121B450AA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3"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775E-B779-41C4-A4F6-0BF21FCC28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36" name="Picture 6" descr="0334"/>
          <p:cNvPicPr/>
          <p:nvPr/>
        </p:nvPicPr>
        <p:blipFill>
          <a:blip r:embed="rId1"/>
          <a:stretch/>
        </p:blipFill>
        <p:spPr>
          <a:xfrm>
            <a:off x="630360" y="2478240"/>
            <a:ext cx="8315280" cy="3143160"/>
          </a:xfrm>
          <a:prstGeom prst="rect">
            <a:avLst/>
          </a:prstGeom>
          <a:ln w="0">
            <a:noFill/>
          </a:ln>
        </p:spPr>
      </p:pic>
      <p:pic>
        <p:nvPicPr>
          <p:cNvPr id="237" name="مربع نص 1" descr=""/>
          <p:cNvPicPr/>
          <p:nvPr/>
        </p:nvPicPr>
        <p:blipFill>
          <a:blip r:embed="rId2"/>
          <a:stretch/>
        </p:blipFill>
        <p:spPr>
          <a:xfrm>
            <a:off x="5248440" y="5450040"/>
            <a:ext cx="3419280" cy="11887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B055-B7C3-4B39-9993-16DD40F5F8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9"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40"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41"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268D-BFA4-445D-AD5A-B74DF469B3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3"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EA59-D6BA-4312-BC7D-C082A50D65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4B1C-0F75-4349-A216-79FFDBD28AF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4DBB-550D-4501-8E57-69BA9F82FFE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EA0F-8C83-4187-A085-C2AE2685B21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572D-75E8-44D3-ACAF-F660D562C98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DB47-36FA-4BD6-B8FB-B2AAC61D00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cp:lastPrinted>2013-02-12T05:03:47Z</cp:lastPrinted>
  <dcterms:modified xsi:type="dcterms:W3CDTF">2016-02-21T19:02:49Z</dcterms:modified>
  <cp:revision>146</cp:revision>
  <dc:subject>Numerical Values</dc:subject>
  <dc:title>Chapter 3</dc:title>
</cp:coreProperties>
</file>