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BB86-D268-48DA-8BAC-9550C729D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F9B3-27D5-463F-A296-5F603ADA78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D0F6-6497-4D0D-B8F0-366A5D19A0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AAAC-E9C9-4EDD-8826-9127035EFC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AB63-8CA9-44D5-BCA4-E4A2BFCECE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B90F-82F6-462A-BEE0-2536D83C4C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2AD4-AF43-40D0-8E64-D36D53A536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AFCF-EA50-4848-9E00-B4674DD8BCA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8337-808D-4DC0-A319-93EE9EAE08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9F43-FFF5-4858-8542-FBE6B589E0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5370-D0D6-4DC5-99C7-1742BE101A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BC13-E007-48F8-9CAE-70FFDFB4BC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F1B4-9F18-43E9-80F2-FD5B8EAD744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DB08-94D8-416D-918D-0DADAC17CB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85D2-C025-4625-9447-4115A103A39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03BF-D9FC-4FF6-B55E-BFD965C92E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D57A-472E-4064-AF40-9FCE732CC5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E09F-5303-41BC-8335-D320908323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5770-232D-42E8-A5C6-D534159979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E0A2-D181-470A-8029-2AB3F891A28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09DA-2617-43D5-96B7-D614F4D1DC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0B38-1370-4D61-B548-B50BDAE4141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5314CA-2677-4A7B-8710-1FE75D7E4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F10BE2-298D-4718-90E7-258DF2E07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CC73E3-ED1C-48BE-B49D-E16FDA6602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2965C-E3EE-41FB-A0CF-653F6FF7D1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E89D2B-1381-462A-952C-4C131DAEC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3A3D9-8CA8-4A6B-B536-9C01B9DD3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39C49-B01D-487E-B170-EB81E4BB3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33710B-0E86-44D6-A816-5CB1290AA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44C9D7-938E-4AD1-86A1-313ADB70C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26E13-5DC1-4ED3-941F-CEF5BE9A72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23F8B-F406-4DF0-9B6E-EFA058C45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E5C30-D8A4-404A-A6DC-D60D8EB3E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02A3-0CD9-4CF0-9E28-B9B6CE1394F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0CF1-5C87-4C42-A831-206CF1D0A8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F22C-0F21-476C-95BD-15D9B04D41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8867-8D22-4B9D-901F-A6A85DC4FE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1F31-3A7B-4687-A41E-FF05ED0D6A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E16B-1AFE-43F9-8FE9-79FBDA82A8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7F20-ABCA-4D07-A669-C85C69C627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A607-AAC5-4EEC-BB64-0CD9089913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764B-A593-4452-AEA3-CE5255C022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6555-DE1E-4A71-849C-771F717930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3EF6-D372-4307-B51E-E41A7E3A9B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7D9-D277-441B-943A-A6A53317E5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BC7-83A2-465A-8B68-93C2F7899F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98FE-5018-457F-AC52-CBE7EECCA4B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BEBB-8580-44A9-A88C-986CE97567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7F6C-4685-48C3-9FD2-8C53BB4FDA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61D1-AE93-4169-BAA3-428DE7C8D7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CB36-52A7-4808-BFA0-9E88F88A1D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3A4E-3E05-4CEB-85E0-FB9979D613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A76E-FF1A-4F82-8F4D-F33F225ACC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AB2F-A0BF-4E17-B3C4-220337EE68A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ALMUZAHMIYA</cp:lastModifiedBy>
  <cp:lastPrinted>2017-10-22T10:25:09Z</cp:lastPrinted>
  <dcterms:modified xsi:type="dcterms:W3CDTF">2017-10-22T10:28:00Z</dcterms:modified>
  <cp:revision>153</cp:revision>
  <dc:subject>Displaying and Exploring Data</dc:subject>
  <dc:title>Chapter 4</dc:title>
</cp:coreProperties>
</file>