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BD78-E692-4C4F-B909-F190EB6D5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C0DA-953D-439F-8DB8-D676CFC1B02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DCEA-F478-4610-BB47-5B85F0AEE3C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6AD7-97A6-4BDC-B7BA-806F2D38A9E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2D7D-D283-43D3-A8AC-44321FFD00D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1C2C-99F1-48F7-B935-D3D0FAC2F06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27D3-C915-4276-95CC-0C08C592139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65F0-5B2D-487D-8225-FF9C44955E5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AAD6-0474-4087-9E41-532DBB42C9A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AD0F-4D4C-4C01-AB63-0486C6C8BB0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D6A2-AD21-428C-A11F-0043DE26EAE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B6DD-B56C-425A-83A9-02E21360A93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0DBA-4CA4-442F-BCAA-10AF66B4139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683D-D40D-41DE-821E-1DE43B98ACB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E28D-8314-4C07-94CF-26C8BFDF6DA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17A2-E397-4C62-965E-C1CB5B91DEE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59AC-D158-4D34-80F0-24011726716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3509-4A19-45A7-82F8-61566C541CA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D2DF-2EE0-4881-B9A6-12BFA01333E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148C-F047-40B9-9A59-506D7A28576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1BC6-264A-451A-956B-2324C6AA33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623E-9751-4037-AA8E-5F52D5CFF73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D9D6-D67F-4640-843E-ACC2AAE40A7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5C88-5F81-431D-8D50-13CD2EFF441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AAEB-4C7A-4038-A88B-54A21098256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3406-F3BE-4B98-914F-3515BC0EF01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FC0C-9F32-4098-A6D4-5DA576826C4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4915-EB57-4DC3-8DA7-09955C4B832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BE8C-F70C-4EE7-A144-394EC785E41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94E3-2C15-4C94-99FF-F2ECF284148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52DE-D1F1-4CCA-9569-8383FD3036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CADC-86B1-499B-97BB-ABE55F11F82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A323-9B9E-43F1-B311-1D3F6EACB4D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414B-13C6-4DC0-B726-7FA2B2DC2B7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0777C5-48EE-4695-B883-67D1A899FF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444208-ABB1-47F1-A033-D13BC546EE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965938-38D6-4DD0-886A-2296AEDBA0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0B1AD1-2DF0-4B9C-86E0-B139B68827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149240-A5B7-4115-8756-8300379EB4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8A1576-5488-449A-AAE8-6BFBE8EDA7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E8333E-12FC-4CBD-B75D-B80051ADB8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BF7134-4C0C-4386-8FF9-8EB3830814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F5EF5B-CA87-459A-96EE-5F11C07932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97ACED-286B-4D3C-A9A5-1EE0F4708D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C2E274-1A0E-4DB7-9422-43D097FDA1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2DAAC0-13C9-45DE-A759-236927D9D3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7804-3869-4A95-A396-7175882A474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A644-7E01-4ABB-829C-C33EFFE000C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DF92-F27C-47A9-B720-5D319C76DAA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82A5-C013-461B-A25C-25FEF0542C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15AC-3E89-4A71-BE41-58F5F3340F7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019E-5106-4DA5-992C-A15BA0D7C6C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78A0-29B3-4999-9B33-D4A4F7AADC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093A-B9AE-4CC7-B689-FCCF57112C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8034-6632-4A87-A6CA-1E409043B22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6EE4-B6D8-4ACE-A0D5-853425A2572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5841-B2B8-41EC-B9F5-4DEF553A7C5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6009-FC00-44F5-848E-80F8587DDDB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0F4D-0A60-4AC7-914F-408498A8EE5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C5AF-D970-4CC8-BBA6-775F8C0E75C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EA0A-2AB9-490C-9F2D-C87D126135E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73" name="Picture 6" descr=""/>
          <p:cNvPicPr/>
          <p:nvPr/>
        </p:nvPicPr>
        <p:blipFill>
          <a:blip r:embed="rId1"/>
          <a:stretch/>
        </p:blipFill>
        <p:spPr>
          <a:xfrm>
            <a:off x="795240" y="4056120"/>
            <a:ext cx="7578720" cy="757080"/>
          </a:xfrm>
          <a:prstGeom prst="rect">
            <a:avLst/>
          </a:prstGeom>
          <a:ln w="0">
            <a:noFill/>
          </a:ln>
        </p:spPr>
      </p:pic>
      <p:pic>
        <p:nvPicPr>
          <p:cNvPr id="174" name="Picture 7" descr=""/>
          <p:cNvPicPr/>
          <p:nvPr/>
        </p:nvPicPr>
        <p:blipFill>
          <a:blip r:embed="rId2"/>
          <a:stretch/>
        </p:blipFill>
        <p:spPr>
          <a:xfrm>
            <a:off x="558720" y="5189400"/>
            <a:ext cx="8407440" cy="793800"/>
          </a:xfrm>
          <a:prstGeom prst="rect">
            <a:avLst/>
          </a:prstGeom>
          <a:ln w="0">
            <a:noFill/>
          </a:ln>
        </p:spPr>
      </p:pic>
      <p:sp>
        <p:nvSpPr>
          <p:cNvPr id="175" name="PlaceHolder 1"/>
          <p:cNvSpPr>
            <a:spLocks noGrp="1"/>
          </p:cNvSpPr>
          <p:nvPr>
            <p:ph/>
          </p:nvPr>
        </p:nvSpPr>
        <p:spPr>
          <a:xfrm>
            <a:off x="711000" y="1828800"/>
            <a:ext cx="7692840" cy="1819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0794-E9E3-4D9A-AD39-0DAC81E99BA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78" name="Picture 7" descr="0423"/>
          <p:cNvPicPr/>
          <p:nvPr/>
        </p:nvPicPr>
        <p:blipFill>
          <a:blip r:embed="rId1"/>
          <a:stretch/>
        </p:blipFill>
        <p:spPr>
          <a:xfrm>
            <a:off x="762120" y="2629080"/>
            <a:ext cx="7829280" cy="31050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C2BE-920A-4803-ACDE-A4AB10F35E7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81" name="PlaceHolder 1"/>
          <p:cNvSpPr>
            <a:spLocks noGrp="1"/>
          </p:cNvSpPr>
          <p:nvPr>
            <p:ph/>
          </p:nvPr>
        </p:nvSpPr>
        <p:spPr>
          <a:xfrm>
            <a:off x="837720" y="1904760"/>
            <a:ext cx="7845480" cy="42066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2" name="Picture 5" descr=""/>
          <p:cNvPicPr/>
          <p:nvPr/>
        </p:nvPicPr>
        <p:blipFill>
          <a:blip r:embed="rId1"/>
          <a:stretch/>
        </p:blipFill>
        <p:spPr>
          <a:xfrm>
            <a:off x="1239840" y="3386160"/>
            <a:ext cx="6715080" cy="7714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01F4-77D3-4C36-B112-5D88BAE911D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4" name=""/>
          <p:cNvSpPr txBox="1"/>
          <p:nvPr/>
        </p:nvSpPr>
        <p:spPr>
          <a:xfrm>
            <a:off x="540360" y="55332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85" name="Object 6"/>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Tree>
  </p:cSld>
  <p:transition>
    <p:wipe dir="r"/>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85"/>
                                        </p:tgtEl>
                                        <p:attrNameLst>
                                          <p:attrName>style.visibility</p:attrName>
                                        </p:attrNameLst>
                                      </p:cBhvr>
                                      <p:to>
                                        <p:strVal val="visible"/>
                                      </p:to>
                                    </p:set>
                                    <p:anim calcmode="lin" valueType="num">
                                      <p:cBhvr additive="base">
                                        <p:cTn id="91" dur="500" fill="hold"/>
                                        <p:tgtEl>
                                          <p:spTgt spid="185"/>
                                        </p:tgtEl>
                                        <p:attrNameLst>
                                          <p:attrName>ppt_x</p:attrName>
                                        </p:attrNameLst>
                                      </p:cBhvr>
                                      <p:tavLst>
                                        <p:tav tm="0">
                                          <p:val>
                                            <p:strVal val="#ppt_x"/>
                                          </p:val>
                                        </p:tav>
                                        <p:tav tm="100000">
                                          <p:val>
                                            <p:strVal val="#ppt_x"/>
                                          </p:val>
                                        </p:tav>
                                      </p:tavLst>
                                    </p:anim>
                                    <p:anim calcmode="lin" valueType="num">
                                      <p:cBhvr additive="base">
                                        <p:cTn id="9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1724-1A92-4516-A01E-09327977965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88" name="AutoShape 5"/>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9" name="Picture 7" descr="0426"/>
          <p:cNvPicPr/>
          <p:nvPr/>
        </p:nvPicPr>
        <p:blipFill>
          <a:blip r:embed="rId1"/>
          <a:stretch/>
        </p:blipFill>
        <p:spPr>
          <a:xfrm>
            <a:off x="1371600" y="1879560"/>
            <a:ext cx="6276960" cy="47149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2112-3996-4E56-9141-05C764F44C8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1" name=""/>
          <p:cNvSpPr txBox="1"/>
          <p:nvPr/>
        </p:nvSpPr>
        <p:spPr>
          <a:xfrm>
            <a:off x="565560" y="6674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92" name="AutoShape 4"/>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3" name="PlaceHolder 1"/>
          <p:cNvSpPr>
            <a:spLocks noGrp="1"/>
          </p:cNvSpPr>
          <p:nvPr>
            <p:ph/>
          </p:nvPr>
        </p:nvSpPr>
        <p:spPr>
          <a:xfrm>
            <a:off x="3809880" y="1942920"/>
            <a:ext cx="4594320" cy="4181400"/>
          </a:xfrm>
          <a:prstGeom prst="rect">
            <a:avLst/>
          </a:prstGeom>
          <a:noFill/>
          <a:ln w="0">
            <a:noFill/>
          </a:ln>
        </p:spPr>
        <p:txBody>
          <a:bodyPr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4" name="Picture 9" descr="0427"/>
          <p:cNvPicPr/>
          <p:nvPr/>
        </p:nvPicPr>
        <p:blipFill>
          <a:blip r:embed="rId1"/>
          <a:stretch/>
        </p:blipFill>
        <p:spPr>
          <a:xfrm>
            <a:off x="774720" y="2108160"/>
            <a:ext cx="2847960" cy="41720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F9B1-1CEB-44BB-B50E-183C39AA984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
          <p:cNvSpPr txBox="1"/>
          <p:nvPr/>
        </p:nvSpPr>
        <p:spPr>
          <a:xfrm>
            <a:off x="565560" y="642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97"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98" name="Picture 10" descr="0428"/>
          <p:cNvPicPr/>
          <p:nvPr/>
        </p:nvPicPr>
        <p:blipFill>
          <a:blip r:embed="rId1"/>
          <a:stretch/>
        </p:blipFill>
        <p:spPr>
          <a:xfrm>
            <a:off x="812880" y="1739880"/>
            <a:ext cx="8067600" cy="48769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DEAD-14A7-411D-A7D9-5063076142B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2464-B0D0-4EDD-A699-0B21DE22989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87B9-90B7-4639-8379-88F475BD11B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204" name="Picture 7" descr="0430"/>
          <p:cNvPicPr/>
          <p:nvPr/>
        </p:nvPicPr>
        <p:blipFill>
          <a:blip r:embed="rId1"/>
          <a:stretch/>
        </p:blipFill>
        <p:spPr>
          <a:xfrm>
            <a:off x="1486080" y="1981080"/>
            <a:ext cx="6143400" cy="46198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4BD7-13C0-4373-9B47-AC95431E698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7" name="PlaceHolder 1"/>
          <p:cNvSpPr>
            <a:spLocks noGrp="1"/>
          </p:cNvSpPr>
          <p:nvPr>
            <p:ph/>
          </p:nvPr>
        </p:nvSpPr>
        <p:spPr>
          <a:xfrm>
            <a:off x="838080" y="1904760"/>
            <a:ext cx="7693200" cy="2949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208" name="Picture 5" descr=""/>
          <p:cNvPicPr/>
          <p:nvPr/>
        </p:nvPicPr>
        <p:blipFill>
          <a:blip r:embed="rId1"/>
          <a:stretch/>
        </p:blipFill>
        <p:spPr>
          <a:xfrm>
            <a:off x="619200" y="4957920"/>
            <a:ext cx="8346960" cy="80640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14F0-6545-4352-9F7C-3DD2AB5C8F2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211" name="PlaceHolder 1"/>
          <p:cNvSpPr>
            <a:spLocks noGrp="1"/>
          </p:cNvSpPr>
          <p:nvPr>
            <p:ph/>
          </p:nvPr>
        </p:nvSpPr>
        <p:spPr>
          <a:xfrm>
            <a:off x="837720" y="1904760"/>
            <a:ext cx="7959960" cy="1933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12" name="Picture 8" descr="0432"/>
          <p:cNvPicPr/>
          <p:nvPr/>
        </p:nvPicPr>
        <p:blipFill>
          <a:blip r:embed="rId1"/>
          <a:stretch/>
        </p:blipFill>
        <p:spPr>
          <a:xfrm>
            <a:off x="1473120" y="4203720"/>
            <a:ext cx="6734160" cy="18288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C453-C40A-4EA3-BDF1-496A4829859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C68B-E8DC-4A7B-970F-E9218006AA4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2A35-CD98-4B4C-85A5-26373DF0F22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CADA-6F3F-43AF-A960-3590C2CF447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821E-02B0-4BEF-8AD7-CFA23540648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F5D7-6021-4F7C-9AF3-6B7971FA20A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EB12-9138-49F0-9F09-31E4929889E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1:59:22Z</dcterms:modified>
  <cp:revision>152</cp:revision>
  <dc:subject>Displaying and Exploring Data</dc:subject>
  <dc:title>Chapter 4</dc:title>
</cp:coreProperties>
</file>