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D5F6-A5BA-4D4B-A202-DD9622CBF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95D6-CD18-49B8-A9B1-05416762158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BE8F-E87E-44D2-B07A-C2D8FB6CC5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360E-C97D-4F70-8380-15BFF9766B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54CC-7E79-437D-B504-C06B44DB0E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EFEB-93F7-4631-A5B5-FF8D3283515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CCF4-BBC7-4B40-A9AA-7BA1D9CDB5E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D46-FC7D-4CEE-8E57-271AEBB3CBD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D14C-9B33-4C80-B32B-1FE3A36A90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1962-8A65-4B0F-B9CA-7B25BEFDC2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3EEE-9D9B-48E5-B8D9-B2CF3CFD086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415D-BC61-4B7D-83C9-ED71E3E4AF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0528-D0A8-4096-899F-358BE62ADCF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3EA4-6F7A-40A8-83EE-0E4609358D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65E9-A97F-4A46-AEBF-66B589677A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F8F0-5375-4AF6-BF65-6EC98CA2BF5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FE8A-2C84-49AE-BE8E-4EB22CC44B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78ED-A2FF-483F-911C-D4A943B2D9F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C7EB-9741-4FF1-B3A4-5425E4B7DEA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56BE-8DD8-4D41-B634-3B8CB3737DE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5023-B92B-4513-A7C8-9C06E3E06CD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96DA-0FB6-49A2-9C2E-C3032B89CA9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1F8F-C3C3-4CBE-B9D6-DD24EB9A59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2880-FA5C-48AE-A2C0-CA69A2154D2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1677-C6A7-470C-B3B4-D2CDAFFA18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DE0A-5B1E-4375-8C59-AECEF2843EB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3B173D-7AED-4204-874A-3FEFDC349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65F991-587D-4135-94F8-156F2BCD11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0A85EE-BDC3-4A16-AD4E-FCD2431FFC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4F7EFC-CC19-4030-9E3A-2BF2756B9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A9352-AD6D-4925-AD17-E257EA36B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802589-E74D-4996-B568-A585C1F6F3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62E024-FDCC-4A76-A67A-A5F73E3F7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654F1-4B02-4B60-9DC1-01346D2B6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C08A4F-8CC6-4313-BBAA-A44116C8BA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84A4F9-C145-40E0-8B27-A43A4F337B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02DDF-7E73-474F-9CB3-26FBBFAC9B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8EA0D-1DB3-46BB-ABB1-8CF52820A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7BEC-15A8-48CE-9257-D740E69352D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624B-1187-4E18-BB33-6A75D9910A7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9126-2A7B-4FC7-A738-7E4BC2D2FD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DF2F-BB7C-4438-A4E7-C458A4369B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4D3D-BAF8-4527-954A-A5A08A18B7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6A35-CA8A-4907-909E-197C9599C1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5EFA-5C18-46C8-A6FC-CA7BBB8548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4B3A-3B11-4BAA-99F4-05F7FEE6E6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C9E1-C6C9-4458-818B-E9BB9ECC59D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155A-A6AB-42ED-A3F2-60B03191B56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C77E-A5D1-4040-A5EE-B4C4B7A9C8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BF32-5054-4A7D-B3C7-9299CB761E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2C44-9ADF-494D-8385-4E2FA15490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43AF-D3C6-40B2-89A3-AD90BA2E19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70"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1"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A7DB-8EEB-4D35-A4DC-5F34FBF496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75"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6"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F96B-C3F4-4E44-95B3-821FE070C2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D5E8-A06E-4308-AFE4-745DBBEA23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82"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7152-CD07-470E-A531-C8A302D61C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7603-5D34-4923-8C33-B2A629E71F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40EF-ABBB-4566-AD80-64869EBEE5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B2F2-0F71-47D1-B0A9-F0156A7B1C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321E-9F7A-4BC5-8B9E-38B39FFE9F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9BC2-0F79-4F8F-9911-1147D5ED171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77AC-6F63-4CD2-98D4-12B4A52C92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DB9D-1CEA-436C-B166-456CC242ED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2:18Z</dcterms:modified>
  <cp:revision>153</cp:revision>
  <dc:subject>Displaying and Exploring Data</dc:subject>
  <dc:title>Chapter 4</dc:title>
</cp:coreProperties>
</file>