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EC36-0E8D-40C2-8A2D-86D3A64A0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923E-537D-4A89-A048-09FB36485BC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FE1D-C0F0-49E4-8678-DB475DCD9FC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C07E-F07C-45F9-8808-5F38C595E8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FFD3-C3DE-4EDB-854D-6134E24931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3545-A257-4C00-A14D-89F7A8E13B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454D-CD65-4E0B-9220-5E0B5463E2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233F-67B4-4C13-89B9-F5906B9AE6A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BAA4-08CE-4038-86C7-90EC333DA4E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0272-721E-4FA5-A313-E7DCBDB3ED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73D1-3BDF-4F6D-837D-F4A8D98AEC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D8E7-3375-4280-9EDC-95B1449D15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15BE-FA01-4A8F-9015-DFC9255EF0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2C38-D00A-431A-AEC9-2DD2358766E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3D1B-9D33-4451-AE14-1E256B744B7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A901-512E-4347-9D06-5A4A0A213EB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6B13-3A8B-4914-83CB-E1A19246725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30FF-7F7C-4436-A6F6-8199FBFF5B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DEE2-A4A5-4C1C-9D65-4BAEA15FCE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4862-5745-49EA-A2D5-242A29DDD5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8391-B7E9-475C-BA3A-CA70944660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6573-8D70-4824-BB95-1F7159E26C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AD3C-D696-4167-AB18-D130A9F2701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489F-961E-43CE-A881-E2CF07AD4E9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58FE-A72B-474F-AF2B-C573267B799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6170-177D-433E-9180-C0B4011AD8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1892-E1AE-4B68-A397-9AAB324022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B3E3-92AF-4840-AF97-A31BBFFA8C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890F-AF14-4056-A7B0-1112C1EAE7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13BA-D22D-4135-9619-91BD8F3DB0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3B00-3FFF-4092-B486-D9BF93E40A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D648-277A-4607-A2F2-E7042608CFE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524C-7BC1-4D8A-A618-6E993144B8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5035-73C6-488E-B6EB-3EA6B12CF59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C49BF2-116E-4ED4-A1C8-CB14487FC1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09982-7DD9-4A58-BD21-1B853837F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F3B898-14F0-4E2D-A051-07184C3BD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9A4221-63F7-4D4D-A5D5-7381AD5799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1E523A-DE7B-43F3-A5EA-F7A8EDA27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CB33A9-8B93-4580-BC27-401971C65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71950F-7122-433B-8D5F-7DEFD4F6E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6D769-21A3-4CA0-A497-B9A7C5EB0C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E3997B-FD07-4137-95D5-1B8073A6C3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D92C14-F443-4142-9132-45641EC6C6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D2A956-8427-46C1-BABF-A4371E07E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F36BDE-97DD-4391-ACE4-723AA500F5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41FB-EA4A-4547-BA6C-E2BC2D703D8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1470-5358-4E9D-B29C-02FD5341FD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450D-9503-456A-9AA9-B52688CA9B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a:t>
            </a:r>
            <a:r>
              <a:rPr b="1" i="1" lang="en-US" sz="2400" spc="-1" strike="noStrike" u="sng">
                <a:solidFill>
                  <a:srgbClr val="003366"/>
                </a:solidFill>
                <a:uFillTx/>
                <a:latin typeface="Arial"/>
              </a:rPr>
              <a:t>describing spread of data </a:t>
            </a:r>
            <a:r>
              <a:rPr b="0" lang="en-US" sz="2400" spc="-1" strike="noStrike">
                <a:solidFill>
                  <a:srgbClr val="003366"/>
                </a:solidFill>
                <a:latin typeface="Arial"/>
              </a:rPr>
              <a:t>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65A3-0C88-40FF-9582-B1C5FEB7A3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a:t>
            </a:r>
            <a:r>
              <a:rPr b="1" i="1" lang="en-US" sz="2000" spc="-1" strike="noStrike" u="sng">
                <a:solidFill>
                  <a:srgbClr val="003366"/>
                </a:solidFill>
                <a:uFillTx/>
                <a:latin typeface="Arial"/>
              </a:rPr>
              <a:t>median,</a:t>
            </a:r>
            <a:r>
              <a:rPr b="0" lang="en-US" sz="2000" spc="-1" strike="noStrike">
                <a:solidFill>
                  <a:srgbClr val="003366"/>
                </a:solidFill>
                <a:latin typeface="Arial"/>
              </a:rPr>
              <a:t>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ABC2-C242-4217-B0BE-579D92BEC9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t>
            </a:r>
            <a:r>
              <a:rPr b="0" i="1" lang="en-US" sz="2400" spc="-1" strike="noStrike" u="sng">
                <a:solidFill>
                  <a:srgbClr val="003366"/>
                </a:solidFill>
                <a:uFillTx/>
                <a:latin typeface="Arial"/>
              </a:rPr>
              <a:t>an investment company </a:t>
            </a:r>
            <a:r>
              <a:rPr b="0" lang="en-US" sz="2400" spc="-1" strike="noStrike">
                <a:solidFill>
                  <a:srgbClr val="003366"/>
                </a:solidFill>
                <a:latin typeface="Arial"/>
              </a:rPr>
              <a:t>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424E-1748-4BE7-9358-E78DB3ED84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BFFD-05FC-4ED2-8718-7AD9760339A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A39A-F922-419C-AD49-EF8F324953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1FAF-206C-45BC-8328-03DDE73911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0402-02FC-46DA-AECB-F979CBD8A7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346A-6A0F-41A9-B220-10F874524D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04C3-B425-410C-89B9-AD30114EDC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FD46-A7B2-4747-ACB2-772E6FCB7B1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D7B6-D50F-4703-BF90-66510BB835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F0C6-8397-4F5B-A554-B6F272FD69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73" name="Picture 6" descr=""/>
          <p:cNvPicPr/>
          <p:nvPr/>
        </p:nvPicPr>
        <p:blipFill>
          <a:blip r:embed="rId1"/>
          <a:stretch/>
        </p:blipFill>
        <p:spPr>
          <a:xfrm>
            <a:off x="795240" y="4056120"/>
            <a:ext cx="7578720" cy="757080"/>
          </a:xfrm>
          <a:prstGeom prst="rect">
            <a:avLst/>
          </a:prstGeom>
          <a:ln w="0">
            <a:noFill/>
          </a:ln>
        </p:spPr>
      </p:pic>
      <p:pic>
        <p:nvPicPr>
          <p:cNvPr id="174" name="Picture 7" descr=""/>
          <p:cNvPicPr/>
          <p:nvPr/>
        </p:nvPicPr>
        <p:blipFill>
          <a:blip r:embed="rId2"/>
          <a:stretch/>
        </p:blipFill>
        <p:spPr>
          <a:xfrm>
            <a:off x="558720" y="5189400"/>
            <a:ext cx="8407440" cy="793800"/>
          </a:xfrm>
          <a:prstGeom prst="rect">
            <a:avLst/>
          </a:prstGeom>
          <a:ln w="0">
            <a:noFill/>
          </a:ln>
        </p:spPr>
      </p:pic>
      <p:sp>
        <p:nvSpPr>
          <p:cNvPr id="175" name="PlaceHolder 1"/>
          <p:cNvSpPr>
            <a:spLocks noGrp="1"/>
          </p:cNvSpPr>
          <p:nvPr>
            <p:ph/>
          </p:nvPr>
        </p:nvSpPr>
        <p:spPr>
          <a:xfrm>
            <a:off x="711000" y="1828800"/>
            <a:ext cx="7692840" cy="1819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3E98-83EC-4BB0-9A7A-FFC7D4B9FF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78" name="Picture 7" descr="0423"/>
          <p:cNvPicPr/>
          <p:nvPr/>
        </p:nvPicPr>
        <p:blipFill>
          <a:blip r:embed="rId1"/>
          <a:stretch/>
        </p:blipFill>
        <p:spPr>
          <a:xfrm>
            <a:off x="762120" y="2629080"/>
            <a:ext cx="7829280" cy="31050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B8C1-0480-4D21-8243-0D7FACE75B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81" name="PlaceHolder 1"/>
          <p:cNvSpPr>
            <a:spLocks noGrp="1"/>
          </p:cNvSpPr>
          <p:nvPr>
            <p:ph/>
          </p:nvPr>
        </p:nvSpPr>
        <p:spPr>
          <a:xfrm>
            <a:off x="837720" y="1904760"/>
            <a:ext cx="7845480" cy="42066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Picture 5" descr=""/>
          <p:cNvPicPr/>
          <p:nvPr/>
        </p:nvPicPr>
        <p:blipFill>
          <a:blip r:embed="rId1"/>
          <a:stretch/>
        </p:blipFill>
        <p:spPr>
          <a:xfrm>
            <a:off x="1239840" y="3386160"/>
            <a:ext cx="6715080" cy="7714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3F3A-B20D-4DC7-8C4F-6B01E972CE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540360" y="55332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85" name="Object 6"/>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Tree>
  </p:cSld>
  <p:transition>
    <p:wipe dir="r"/>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5"/>
                                        </p:tgtEl>
                                        <p:attrNameLst>
                                          <p:attrName>style.visibility</p:attrName>
                                        </p:attrNameLst>
                                      </p:cBhvr>
                                      <p:to>
                                        <p:strVal val="visible"/>
                                      </p:to>
                                    </p:set>
                                    <p:anim calcmode="lin" valueType="num">
                                      <p:cBhvr additive="base">
                                        <p:cTn id="91" dur="500" fill="hold"/>
                                        <p:tgtEl>
                                          <p:spTgt spid="185"/>
                                        </p:tgtEl>
                                        <p:attrNameLst>
                                          <p:attrName>ppt_x</p:attrName>
                                        </p:attrNameLst>
                                      </p:cBhvr>
                                      <p:tavLst>
                                        <p:tav tm="0">
                                          <p:val>
                                            <p:strVal val="#ppt_x"/>
                                          </p:val>
                                        </p:tav>
                                        <p:tav tm="100000">
                                          <p:val>
                                            <p:strVal val="#ppt_x"/>
                                          </p:val>
                                        </p:tav>
                                      </p:tavLst>
                                    </p:anim>
                                    <p:anim calcmode="lin" valueType="num">
                                      <p:cBhvr additive="base">
                                        <p:cTn id="9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7719-FDCB-4A90-A875-1B31B8C46A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88" name="AutoShape 5"/>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9" name="Picture 7" descr="0426"/>
          <p:cNvPicPr/>
          <p:nvPr/>
        </p:nvPicPr>
        <p:blipFill>
          <a:blip r:embed="rId1"/>
          <a:stretch/>
        </p:blipFill>
        <p:spPr>
          <a:xfrm>
            <a:off x="1371600" y="1879560"/>
            <a:ext cx="6276960" cy="4714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70C5-884D-4CC8-B516-C2AD6DA4F6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1"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92"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3" name="PlaceHolder 1"/>
          <p:cNvSpPr>
            <a:spLocks noGrp="1"/>
          </p:cNvSpPr>
          <p:nvPr>
            <p:ph/>
          </p:nvPr>
        </p:nvSpPr>
        <p:spPr>
          <a:xfrm>
            <a:off x="3809880" y="1942920"/>
            <a:ext cx="4594320" cy="41814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4"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EEEA-3C47-439B-8FFA-85C2D318B5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97"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98" name="Picture 10" descr="0428"/>
          <p:cNvPicPr/>
          <p:nvPr/>
        </p:nvPicPr>
        <p:blipFill>
          <a:blip r:embed="rId1"/>
          <a:stretch/>
        </p:blipFill>
        <p:spPr>
          <a:xfrm>
            <a:off x="507960" y="1816200"/>
            <a:ext cx="8067600" cy="48765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D584-3727-4BEB-B01D-F82EE8AA8E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61F6-80EA-4163-98ED-D959952F58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t>
            </a:r>
            <a:r>
              <a:rPr b="0" i="1" lang="en-US" sz="2400" spc="-1" strike="noStrike" u="sng">
                <a:solidFill>
                  <a:srgbClr val="003366"/>
                </a:solidFill>
                <a:uFillTx/>
                <a:latin typeface="Arial"/>
              </a:rPr>
              <a:t>a dot plot</a:t>
            </a:r>
            <a:r>
              <a:rPr b="0" lang="en-US" sz="2400" spc="-1" strike="noStrike">
                <a:solidFill>
                  <a:srgbClr val="003366"/>
                </a:solidFill>
                <a:latin typeface="Arial"/>
              </a:rPr>
              <a: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DED4-AAF7-4961-A862-13C94E26A4B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204"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CDD2-3938-4296-B300-00B427A898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7" name="PlaceHolder 1"/>
          <p:cNvSpPr>
            <a:spLocks noGrp="1"/>
          </p:cNvSpPr>
          <p:nvPr>
            <p:ph/>
          </p:nvPr>
        </p:nvSpPr>
        <p:spPr>
          <a:xfrm>
            <a:off x="838080" y="1904760"/>
            <a:ext cx="7693200" cy="2949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208" name="Picture 5" descr=""/>
          <p:cNvPicPr/>
          <p:nvPr/>
        </p:nvPicPr>
        <p:blipFill>
          <a:blip r:embed="rId1"/>
          <a:stretch/>
        </p:blipFill>
        <p:spPr>
          <a:xfrm>
            <a:off x="619200" y="4957920"/>
            <a:ext cx="8346960" cy="8064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66EB-7024-4659-A540-01B5F8833B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211" name="PlaceHolder 1"/>
          <p:cNvSpPr>
            <a:spLocks noGrp="1"/>
          </p:cNvSpPr>
          <p:nvPr>
            <p:ph/>
          </p:nvPr>
        </p:nvSpPr>
        <p:spPr>
          <a:xfrm>
            <a:off x="837720" y="1904760"/>
            <a:ext cx="7959960" cy="1933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2" name="Picture 8" descr="0432"/>
          <p:cNvPicPr/>
          <p:nvPr/>
        </p:nvPicPr>
        <p:blipFill>
          <a:blip r:embed="rId1"/>
          <a:stretch/>
        </p:blipFill>
        <p:spPr>
          <a:xfrm>
            <a:off x="1473120" y="4203720"/>
            <a:ext cx="6734160" cy="18288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43F1-D645-4C90-8960-43539D0CE6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28A6-9136-4DEF-BE51-ACDD6F21FE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DF42-7EB6-4D4F-A42B-F06124512C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C945-3C14-4109-A3A1-11E9718212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a:t>
            </a:r>
            <a:r>
              <a:rPr b="0" i="1" lang="en-US" sz="2000" spc="-1" strike="noStrike" u="sng">
                <a:solidFill>
                  <a:srgbClr val="003366"/>
                </a:solidFill>
                <a:uFillTx/>
                <a:latin typeface="Arial"/>
              </a:rPr>
              <a:t>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a:t>
            </a:r>
            <a:r>
              <a:rPr b="0" i="1" lang="en-US" sz="2000" spc="-1" strike="noStrike" u="sng">
                <a:solidFill>
                  <a:srgbClr val="003366"/>
                </a:solidFill>
                <a:uFillTx/>
                <a:latin typeface="Arial"/>
              </a:rPr>
              <a:t>Each numerical value </a:t>
            </a:r>
            <a:r>
              <a:rPr b="0" lang="en-US" sz="2000" spc="-1" strike="noStrike">
                <a:solidFill>
                  <a:srgbClr val="003366"/>
                </a:solidFill>
                <a:latin typeface="Arial"/>
              </a:rPr>
              <a:t>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33BF-4CF1-45BB-84D8-346406FF12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D9BC-C8ED-4FD3-8872-947D458E2A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D608-1056-4E80-8680-0538651267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ohamed</cp:lastModifiedBy>
  <dcterms:modified xsi:type="dcterms:W3CDTF">2016-10-29T22:10:27Z</dcterms:modified>
  <cp:revision>162</cp:revision>
  <dc:subject>Displaying and Exploring Data</dc:subject>
  <dc:title>Chapter 4</dc:title>
</cp:coreProperties>
</file>