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5C53-9019-4F7C-BEF9-2B52C6C07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9D4E-20D3-4E51-B802-A445ECE7C7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755E-C725-43D4-94D4-B3ADA35459E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8EFB-F377-4293-BAE1-6128909CD95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1869-C1BE-4812-8CDD-045C31246FC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98B2-E35F-4766-9960-383C1AE6B0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E2A3-93AB-438A-A1B9-D220124C607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BD61-BB79-4A2C-800D-0EF2B43AE6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B66B-44F5-4E57-8161-7F958328815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3FC6-820C-49FF-971E-C044B33F070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362E-577A-4ADA-90C6-0E43A11594E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6950-BF2A-4DEC-8125-CFD87363B1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3F8A-CFE0-4371-B7F4-EB65FA48FC5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BE00-32BC-4776-B8BE-EC057F7350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4017-EEE7-4920-888F-4BBDCAE343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D092-F2A5-4E5A-93EF-FD5C27F4F54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4DCA-95D0-4EA5-A353-CB6C47FCA9F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9DED-C363-4F18-8633-F8FC7FB7AD7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047B-75BC-4176-839F-65B576EFDED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0165-D097-4583-9337-0B9D6678AE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1E37-B9C6-4BDC-9E5B-E5A253D085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538-331A-4835-89C7-B87F89C9657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C85799-C8B1-4DEE-8767-8D8F32B99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0F485B-C461-48B0-8B70-FA7A09EF6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BF0304-9488-4A62-A73D-7AB503A3A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A12C89-114A-4949-9C48-60449ABF9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87B50-5F84-4449-A1D8-43A9E9262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24E9D-FEA3-4560-A0DD-3496C2DB4F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D3066F-40B8-464E-8AEE-8E17138948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446A2-CA25-4B79-B55E-A74C80D8D9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D30B66-0E91-4711-AFC1-779EB231D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C8EEE-880E-444D-BB7D-7D9B4268A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34235-772E-4B46-A3A1-48D5DDFA74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DE09E-E60F-44B8-A721-DE5CF63752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C9B1-201C-4A23-B572-4A0012A05F9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591F-D229-41EC-8B91-36D8989963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8389-9E68-472C-A3C8-1167611378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C31C-691A-4548-8F4D-654CFC48C5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743E-6B0B-4062-BEBF-AB637898AB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364D-985D-46F5-A60B-FD3AF12FAD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C272-3D7A-4F81-854A-909E19B458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DB9C-8264-46E3-A30C-2C487C83BB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0AD1-A5D2-4A82-98C4-E98AD3F165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029E-4B51-4A51-9567-7975044477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2A9C-EF82-4065-909B-0F6B9FCA4E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6D50-17B3-4006-B0BF-A3910DAFA6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1624-F4F7-4420-AACC-4FD13296FA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A4F8-0354-43D0-8D9B-DBE9256DFF9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2C14-F8E0-4A5C-A5C4-6C7C16F661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F595-EBED-425E-B7FE-C156ABB2AA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05D9-43BE-4C2B-8128-6E4030E1416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8680-1DE8-4C15-B360-2D07E47EF8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4441-B7B4-4658-A43F-0A36F87677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E280-B216-4F39-83FB-8AB65F6125B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6E36-CD1E-4149-9599-B4C7EA53B7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0:30Z</dcterms:modified>
  <cp:revision>154</cp:revision>
  <dc:subject>Displaying and Exploring Data</dc:subject>
  <dc:title>Chapter 4</dc:title>
</cp:coreProperties>
</file>