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6260-59F9-4AE1-82C6-C2F22AE6C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86C0-231B-44F2-B32A-C0C3CC8BC00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DB7F-C1DA-4058-8F9C-F31F764E923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042D-10D6-4CF8-9D39-5E6E262C446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36EB-3474-4316-9428-689FE58F73C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57DE-2886-4936-9AF3-C9E18E48FD4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3E21-BA5F-4BB7-B07D-23C9CBF5721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7C2A-8E53-4F19-B43E-DBCDBB1092E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2FEA-1832-4912-836C-BB316D092B2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56CE-55AA-4FDE-A9B5-11F30231808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B331-CB1C-4165-A11F-E3AE17A56A7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DA22-02BE-4F34-AF44-41A7CF7776D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D061-40F0-4073-903E-605721B2EFF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CF02-DF36-440D-BFBE-A8DED579DA8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D3C5-BC5F-4BE8-9FE5-1F323D6E508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EF90-BA6F-428E-AD4B-B69CC3D9E34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AC89-7F53-4867-BE3B-2185C9064B8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171C-CD71-4694-9E4F-4BA4353B25A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FA6F-12DD-4BCB-85F1-81631952BD1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6EF2-92EE-44C7-8B38-95789A1D270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6E38-4FB4-4602-AC1F-61BC0B6F092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6C9E-270E-40C5-BBAD-23E88F766DC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CA2089-EAAA-42B0-BECB-217B2308B0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7C3E60-38A7-4202-AFA4-FE62CE3CF8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B7D060-3834-4F1C-AEE4-9ED88AD837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A0351F-99DD-4DA8-859F-74B6D1B6C9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B3B3DF-11F1-44C8-B7F4-7A6B47CD8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C9563E-255B-48CD-A8A2-36ABD273E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369040-B0A2-4F26-9EA4-D6BCBE95EC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E02B07-2D0E-4236-B528-DCF31C0ED4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784D4A-A630-444E-82FA-7901A25D88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DBC2CA-2614-402C-9DA6-C0DB7ECCBB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04F24-3882-4F8E-B7F9-5550FB7B8C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F1897D-5E05-43B4-AE1D-27B5063B6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327F-0B60-4437-AF05-71E974F3EEE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C7AD-9073-436F-82E4-77CA6432E24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636C-0AF7-4AB8-94E9-D11DA5DF9C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8E21-A3A4-42DC-93C2-F680FCF448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A05B-10C4-4FB3-A151-6FEBFCED4D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B92A-A533-42CD-8515-75EE66B059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4AB2-EB18-4D5A-885A-5D62B5F036C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3D3F-B283-4640-9B5B-0EE241B71D4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0910-9A62-44F8-A8FF-96E3535969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6805-73EF-4315-8348-1E6B85AD76F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6B7E-4BEF-4ABF-9A7B-F5178161090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6F67-3C4A-4626-A1A4-88C3CF853A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9000-6619-41AC-8970-2D74B002154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71F9-3F42-47C6-90E5-8D2255965D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1B77-392C-48A2-803C-E3E802F8C56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5A62-721A-491B-B0F7-FBC4ED3AE0A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5801-476A-4DD7-B265-5D64AC76D9A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3BA1-384E-474F-BC4F-C5B9E565DF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1620-95FF-43A7-828A-C3A8C621F2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1B02-C47B-427F-A672-62233ED188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7C21-20A6-4F81-966A-C61EC8B2C77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8:30:30Z</dcterms:modified>
  <cp:revision>154</cp:revision>
  <dc:subject>Displaying and Exploring Data</dc:subject>
  <dc:title>Chapter 4</dc:title>
</cp:coreProperties>
</file>