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3AE2-510F-4731-B475-306B529C2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1E1C-D6D0-4EB4-8B76-E0D7DC8F2F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450B-DB4B-4C61-83A3-5AF56228C27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3AA8-6499-48FF-BB73-155BD50E795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65BE-DB93-42D6-884A-368042B2FA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B9C2-9665-4CD7-9303-DBF745CAD8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17E-82EF-4C77-8AE3-4D9FE88031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9673-B3D4-4A35-A779-56B1F8D9D4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2C72-8153-44B4-B59B-30033270DF3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E6D0-B7CE-4772-BB0F-A300DA3C52C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6917-7692-449F-A6AC-E8A5F17BA25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FAC6-FFDB-4963-B7C6-F8B877A425E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6A73-C0FA-415C-95BB-2B6FA9F89B5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272D-46CA-497A-B929-153B87A2FA8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3183-F92F-4E22-B294-802686ED46A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A6F9-33DB-48FD-A200-B1B673774FF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3E5C-FBC8-43AD-A5A8-F1E31CCE0EA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574D-2E6E-4A3C-A76C-50B8E1BDBCC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C7FE-E3D3-4D96-979E-19A106EF4DC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BE26-86D1-46A1-BA54-44BDEA4E8D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C317-484D-421E-B4BD-D2F6E0C642C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88C0-16CF-446C-98AF-4A44D0862D7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A1FE41-A4D1-4D4F-89FD-CEA8B25119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ADF996-5347-4570-BEDA-35A2A8EF64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C5C304-0320-411A-867F-6DDD1199E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EFCEF5-BB90-4855-BCAE-0EB6CDB3C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CEF071-B637-488B-94DA-B022AFC69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263EAB-4BBB-45C9-B6DE-BDEEE0BF9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A2144-E811-4F63-8664-F94770E457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065732-2B18-4ECD-9A3E-533AB83C6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1C363-D017-4C34-8D40-9FB4E0CBBF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64E06-3A94-4CE4-9A58-D3E65DF32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C675C-FDD5-43F6-8F51-4BAD1FDA45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E9826-555E-48C6-9EAA-00271ED85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06A6-9302-4B82-8435-68414BCE3E5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EA4E-06C3-4A90-88CC-E94ABFDF70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C784-CB6B-42D5-A7EE-0AAD9BDF6D2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A534-9C23-4C00-934E-11D15BB62D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8097-AAAF-4ADE-ACC9-D02DEB2E8E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7C10-B9BA-4D50-B099-6A11C19D111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B8F6-BAD6-4D84-8AB6-DE108B9BA4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1AC1-5C9D-41C3-AF89-33FBED8453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0196-7559-4471-847E-28E95C5178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387F-3A5E-4D0F-9E3E-95524714EC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2410-D0C4-456A-A907-46B3848679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43DF-1E5F-4776-A7D0-A2DB0A8C055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DD4E-16B9-47D3-B7D0-0B0C30E485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8AAD-8D84-4BE2-9228-5E4C52EDF7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40E2-F255-4EFE-932F-2873D2A205C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5EBC-E35B-43EC-A002-71A7DD71CB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641D-5CC4-4B82-9DCD-40FE710C79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B743-06C9-4307-BFD0-A2B79F29DB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2D6E-C601-4388-9F61-1D7484E797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6AF8-6706-4539-AFD0-A4891D3644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A248-BD92-4E84-8667-495300CFF9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2:26Z</dcterms:modified>
  <cp:revision>154</cp:revision>
  <dc:subject>Displaying and Exploring Data</dc:subject>
  <dc:title>Chapter 4</dc:title>
</cp:coreProperties>
</file>