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B553-C2B9-4DC8-946D-744D19E51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713F-9FCC-405F-9999-91D2BB1A0E4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1533-EF35-4C5A-8020-F053E09C2E0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F327-9221-4BAC-B6CD-838202A9DA8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FD61-0B75-4703-AF0B-294C49B00C5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6D63-20C1-4708-BD3B-880A36F9EBE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C102-3F51-4CA4-A77D-3CDAB7DF73F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A6D7-D67F-4792-990E-AD1EF2F46F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F295-838C-41DC-83E8-5244E4E07A1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0D8D-ADA1-4BC7-B6DF-81A95D12B3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A4CF-B194-4440-B724-4D290E58A9C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8FA2-B51A-4D1E-BB68-884CF447CF5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5D56-AB43-4245-89C5-C73B645F3A4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EEAA-E7E8-4261-A82A-ADCD7E020B5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C7BB-AA0F-4268-A596-0FC12BBF47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E987-03AB-413F-A2FD-0FEFF88661C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56EB-52EB-49E6-BD90-6342FF6E1E3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36D8-B545-4FA3-93FE-93210B0070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33E2-8DB2-444B-809E-05AA4F2496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6010-7AD5-41B8-8420-2554D5A426B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7702-1FFF-48BE-90C3-7B68E313CE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2C3D-DA4C-470E-B1C6-E0F57EC2389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6D5CC1-A4BD-462A-9424-4A9C7197D3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6F3606-6E00-4C57-90DD-B92733FBB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680748-4DB2-43C3-8185-697BD3E82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A0F73-4BBA-4663-8207-37C4410072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E29DF0-9E66-42F7-AC56-DF1CFAE6C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B9C329-88BD-4AB5-AC68-D2CB5A151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18C314-0413-4528-8A87-1576B9532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EED6D3-FC97-4E1C-A80E-267AFDBA88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2AB2FA-4A69-4A99-933E-FBA8B7EAB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C34B36-CB72-4230-9366-DA4C33BCB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D4BD0-31C2-432B-BE42-7A2228060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26A92-391B-4EB9-BC57-5FEDAD74C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6C5A-6CD9-4D49-8BEE-6F5AFB00993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B9BF-33D2-493A-A3CD-58BCDF5002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951C-BF8B-4E16-9103-03BCE116C7F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A910-450C-45C4-9BFA-9E7F7C5596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EBC4-B704-4867-8F42-21E361F51C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AE6F-BFBA-4112-A959-386A75D966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B181-3BA4-44CD-BF2C-8CB425C320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F654-6036-471F-ADC8-660DB7F21D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861B-2991-426B-A0EF-9BB0CF50B3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62C3-CAA8-44D4-BD19-C3B768849F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7660-718F-491D-BCEA-4CF3B6B9DE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6F7A-D865-4445-9480-CB5EDA109D1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3FF4-5917-4967-909F-7C03BCCEDF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4F5E-23A9-43EA-9CF2-6DBDE93688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D6BD-DC4E-4C8D-B2E0-C48BB402AE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D8AF-54D5-4C92-ACB1-4327AD1736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1975-BC29-442B-B797-F7825D5BF2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74F7-F6DA-4A2C-8E43-10F5E645E4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59B8-08BD-4C78-A380-B6DE84C5B5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22E2-3EDD-4821-A5A4-6CCB09ACBD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615E-2FF3-42F1-95FF-5DC122C730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2:26Z</dcterms:modified>
  <cp:revision>154</cp:revision>
  <dc:subject>Displaying and Exploring Data</dc:subject>
  <dc:title>Chapter 4</dc:title>
</cp:coreProperties>
</file>