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19404-F2CD-4794-BF0D-F1799B66B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675E-4A5F-4A81-839F-4432CF2F6F4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0119-D53C-4677-B44C-6D4EFD01B95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6BF6F-B58F-46B4-88C0-E14D1EFA1D0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66E7-D41B-4CA6-871F-7C6D6C4BD89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297C-B952-4008-812B-B43D4805083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AE208-0EDA-41B7-93FB-AC088DC7130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9DD1-5B4A-4EB7-B2CE-50FF641D910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82C1B-B77D-4988-BAED-CFCA2F7DB63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430A4-0055-476A-AAD1-7C881849F43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D29F-5932-4CB4-BFD2-8410BD0B583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CA70-3406-418D-9CF5-6B1BC95E3BC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79F5-9ACD-4EE9-8D59-03E84B3C0FC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CC0B5-779D-48F0-862E-9B0CDC214D5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E8B87-1FF2-4228-B2EB-D9D9F129840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E7DC-B9D2-4FF1-A38B-AED9057FD20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C565-AC67-4CA2-99D7-AE16A8970A5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9A57A-9805-4363-BC01-49487F591E2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1C29-5CDE-4738-9BA2-F8D93901D56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980CC-0011-46D1-95C3-54D2C0D4B2D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2F43-D990-407F-A4AF-F35B16493AE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F057-25C3-48F9-8BA2-517613C4B6D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09587B-FE21-4933-9F3A-45201FCE99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183300-DA0B-4979-BBC3-81129857B4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F5DC65-602A-4A1F-B9FF-C321C649E6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2F463B-E06C-48C9-9FEF-5A90C0A098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7DCBE4-8834-44C1-9E0E-7B976A16D4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83A837-F988-4783-B027-E2D4B52E0D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11F03D-BA15-40A7-8746-0C32F062D4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38CE34-9AB7-4EDA-9D49-5C45A81B1A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8C2468-D61B-42F1-9E52-2BB0F55F29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FB1AEB-0AE4-4847-B03D-99DB4AF47A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FEF457-95EC-492E-85B9-B6D0949EB9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16A4B2-E683-47F4-81EB-E90B7DAA65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6AE9-AA50-4EDF-864C-AF0559277960}"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3C868-0484-48BC-83FB-1AA4EA42701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32" name="Picture 7" descr="0410"/>
          <p:cNvPicPr/>
          <p:nvPr/>
        </p:nvPicPr>
        <p:blipFill>
          <a:blip r:embed="rId1"/>
          <a:stretch/>
        </p:blipFill>
        <p:spPr>
          <a:xfrm>
            <a:off x="1295280" y="1943280"/>
            <a:ext cx="6286680" cy="4714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616A6-E811-4675-81D9-25E22E3C96F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describing spread of data 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36" name="Picture 6" descr=""/>
          <p:cNvPicPr/>
          <p:nvPr/>
        </p:nvPicPr>
        <p:blipFill>
          <a:blip r:embed="rId1"/>
          <a:stretch/>
        </p:blipFill>
        <p:spPr>
          <a:xfrm>
            <a:off x="673200" y="4206960"/>
            <a:ext cx="8305560" cy="8128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315E-5E63-40BD-B477-33F96DD9324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median,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40" name="Picture 5" descr=""/>
          <p:cNvPicPr/>
          <p:nvPr/>
        </p:nvPicPr>
        <p:blipFill>
          <a:blip r:embed="rId1"/>
          <a:stretch/>
        </p:blipFill>
        <p:spPr>
          <a:xfrm>
            <a:off x="546120" y="3174840"/>
            <a:ext cx="8331120" cy="81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209A-FA1C-469E-89C6-9C4A0DECD3C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n investment company 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5E028-AB1B-45C5-83BF-E9CBE3ED188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6" name="PlaceHolder 1"/>
          <p:cNvSpPr>
            <a:spLocks noGrp="1"/>
          </p:cNvSpPr>
          <p:nvPr>
            <p:ph/>
          </p:nvPr>
        </p:nvSpPr>
        <p:spPr>
          <a:xfrm>
            <a:off x="838080" y="1904760"/>
            <a:ext cx="7693200" cy="3483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0441-709B-4C3D-98E8-78C98E4948F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9" name="PlaceHolder 1"/>
          <p:cNvSpPr>
            <a:spLocks noGrp="1"/>
          </p:cNvSpPr>
          <p:nvPr>
            <p:ph/>
          </p:nvPr>
        </p:nvSpPr>
        <p:spPr>
          <a:xfrm>
            <a:off x="761760" y="1917720"/>
            <a:ext cx="7886520" cy="1146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50" name="Object 5"/>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51" name="Picture 7" descr=""/>
          <p:cNvPicPr/>
          <p:nvPr/>
        </p:nvPicPr>
        <p:blipFill>
          <a:blip r:embed="rId1"/>
          <a:stretch/>
        </p:blipFill>
        <p:spPr>
          <a:xfrm>
            <a:off x="1066680" y="3135240"/>
            <a:ext cx="7569360" cy="741600"/>
          </a:xfrm>
          <a:prstGeom prst="rect">
            <a:avLst/>
          </a:prstGeom>
          <a:ln w="0">
            <a:noFill/>
          </a:ln>
        </p:spPr>
      </p:pic>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0"/>
                                        </p:tgtEl>
                                        <p:attrNameLst>
                                          <p:attrName>style.visibility</p:attrName>
                                        </p:attrNameLst>
                                      </p:cBhvr>
                                      <p:to>
                                        <p:strVal val="visible"/>
                                      </p:to>
                                    </p:set>
                                    <p:anim calcmode="lin" valueType="num">
                                      <p:cBhvr additive="base">
                                        <p:cTn id="83" dur="500" fill="hold"/>
                                        <p:tgtEl>
                                          <p:spTgt spid="150"/>
                                        </p:tgtEl>
                                        <p:attrNameLst>
                                          <p:attrName>ppt_x</p:attrName>
                                        </p:attrNameLst>
                                      </p:cBhvr>
                                      <p:tavLst>
                                        <p:tav tm="0">
                                          <p:val>
                                            <p:strVal val="#ppt_x"/>
                                          </p:val>
                                        </p:tav>
                                        <p:tav tm="100000">
                                          <p:val>
                                            <p:strVal val="#ppt_x"/>
                                          </p:val>
                                        </p:tav>
                                      </p:tavLst>
                                    </p:anim>
                                    <p:anim calcmode="lin" valueType="num">
                                      <p:cBhvr additive="base">
                                        <p:cTn id="8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4252-08B9-41AD-864C-68AB4FEAD65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54" name="Picture 10" descr="0416"/>
          <p:cNvPicPr/>
          <p:nvPr/>
        </p:nvPicPr>
        <p:blipFill>
          <a:blip r:embed="rId1"/>
          <a:stretch/>
        </p:blipFill>
        <p:spPr>
          <a:xfrm>
            <a:off x="1270080" y="1778040"/>
            <a:ext cx="6505560" cy="4914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9E8D-DBF7-4795-98C4-99D4FCCADA4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57" name="Picture 6" descr="0417"/>
          <p:cNvPicPr/>
          <p:nvPr/>
        </p:nvPicPr>
        <p:blipFill>
          <a:blip r:embed="rId1"/>
          <a:stretch/>
        </p:blipFill>
        <p:spPr>
          <a:xfrm>
            <a:off x="1562040" y="1981080"/>
            <a:ext cx="6048360" cy="4524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2D67-A824-471D-B97C-D0DC835092B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60" name="Picture 5" descr="0418"/>
          <p:cNvPicPr/>
          <p:nvPr/>
        </p:nvPicPr>
        <p:blipFill>
          <a:blip r:embed="rId1"/>
          <a:stretch/>
        </p:blipFill>
        <p:spPr>
          <a:xfrm>
            <a:off x="800280" y="2463840"/>
            <a:ext cx="7858080" cy="347652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3348-6B21-42C2-BF14-FF20521FEFC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63" name="Picture 5" descr="0419"/>
          <p:cNvPicPr/>
          <p:nvPr/>
        </p:nvPicPr>
        <p:blipFill>
          <a:blip r:embed="rId1"/>
          <a:stretch/>
        </p:blipFill>
        <p:spPr>
          <a:xfrm>
            <a:off x="647640" y="3162240"/>
            <a:ext cx="7915320" cy="25336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47B1-C9C0-4F0B-B36D-72BB8E1FEC0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7FDFD-CCF5-4346-B872-52F13D42040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66" name="PlaceHolder 1"/>
          <p:cNvSpPr>
            <a:spLocks noGrp="1"/>
          </p:cNvSpPr>
          <p:nvPr>
            <p:ph/>
          </p:nvPr>
        </p:nvSpPr>
        <p:spPr>
          <a:xfrm>
            <a:off x="571680" y="1942920"/>
            <a:ext cx="2498400" cy="4422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7" name="Picture 5" descr="0420"/>
          <p:cNvPicPr/>
          <p:nvPr/>
        </p:nvPicPr>
        <p:blipFill>
          <a:blip r:embed="rId1"/>
          <a:stretch/>
        </p:blipFill>
        <p:spPr>
          <a:xfrm>
            <a:off x="3314880" y="2044800"/>
            <a:ext cx="5591160" cy="42004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4E2C-E393-4FA2-A29E-836DCE477B4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52E5B-D25E-4B20-AA6A-8D5463E8E94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10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 dot plo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20644-DE99-4ABC-BEAA-BF38593ED03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11" name="Picture 9" descr="0404"/>
          <p:cNvPicPr/>
          <p:nvPr/>
        </p:nvPicPr>
        <p:blipFill>
          <a:blip r:embed="rId1"/>
          <a:stretch/>
        </p:blipFill>
        <p:spPr>
          <a:xfrm>
            <a:off x="1905120" y="3936960"/>
            <a:ext cx="5876640" cy="2685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2940-E11F-40A3-A203-10F07B37259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14" name="Picture 6" descr="0405"/>
          <p:cNvPicPr/>
          <p:nvPr/>
        </p:nvPicPr>
        <p:blipFill>
          <a:blip r:embed="rId1"/>
          <a:stretch/>
        </p:blipFill>
        <p:spPr>
          <a:xfrm>
            <a:off x="1206360" y="1724040"/>
            <a:ext cx="6591600" cy="49816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8C9D-1BD4-48F6-92FE-210195EF06A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17" name="PlaceHolder 1"/>
          <p:cNvSpPr>
            <a:spLocks noGrp="1"/>
          </p:cNvSpPr>
          <p:nvPr>
            <p:ph/>
          </p:nvPr>
        </p:nvSpPr>
        <p:spPr>
          <a:xfrm>
            <a:off x="838080" y="1904760"/>
            <a:ext cx="7693200" cy="4181400"/>
          </a:xfrm>
          <a:prstGeom prst="rect">
            <a:avLst/>
          </a:prstGeom>
          <a:noFill/>
          <a:ln w="0">
            <a:noFill/>
          </a:ln>
        </p:spPr>
        <p:txBody>
          <a:bodyPr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wipe dir="r"/>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61" dur="500"/>
                                        <p:tgtEl>
                                          <p:spTgt spid="11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17">
                                            <p:txEl>
                                              <p:pRg st="2" end="2"/>
                                            </p:txEl>
                                          </p:spTgt>
                                        </p:tgtEl>
                                        <p:attrNameLst>
                                          <p:attrName>style.visibility</p:attrName>
                                        </p:attrNameLst>
                                      </p:cBhvr>
                                      <p:to>
                                        <p:strVal val="visible"/>
                                      </p:to>
                                    </p:set>
                                    <p:animEffect filter="wipe(up)" transition="in">
                                      <p:cBhvr additive="repl">
                                        <p:cTn id="66" dur="500"/>
                                        <p:tgtEl>
                                          <p:spTgt spid="117">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17">
                                            <p:txEl>
                                              <p:pRg st="4" end="4"/>
                                            </p:txEl>
                                          </p:spTgt>
                                        </p:tgtEl>
                                        <p:attrNameLst>
                                          <p:attrName>style.visibility</p:attrName>
                                        </p:attrNameLst>
                                      </p:cBhvr>
                                      <p:to>
                                        <p:strVal val="visible"/>
                                      </p:to>
                                    </p:set>
                                    <p:animEffect filter="wipe(up)" transition="in">
                                      <p:cBhvr additive="repl">
                                        <p:cTn id="71" dur="500"/>
                                        <p:tgtEl>
                                          <p:spTgt spid="117">
                                            <p:txEl>
                                              <p:pRg st="4" end="4"/>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17">
                                            <p:txEl>
                                              <p:pRg st="6" end="6"/>
                                            </p:txEl>
                                          </p:spTgt>
                                        </p:tgtEl>
                                        <p:attrNameLst>
                                          <p:attrName>style.visibility</p:attrName>
                                        </p:attrNameLst>
                                      </p:cBhvr>
                                      <p:to>
                                        <p:strVal val="visible"/>
                                      </p:to>
                                    </p:set>
                                    <p:animEffect filter="wipe(up)" transition="in">
                                      <p:cBhvr additive="repl">
                                        <p:cTn id="76"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0D83D-9B1F-498A-A7B0-64C7E16B0AF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20" name="PlaceHolder 1"/>
          <p:cNvSpPr>
            <a:spLocks noGrp="1"/>
          </p:cNvSpPr>
          <p:nvPr>
            <p:ph/>
          </p:nvPr>
        </p:nvSpPr>
        <p:spPr>
          <a:xfrm>
            <a:off x="837720" y="1904760"/>
            <a:ext cx="4023000" cy="4600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1" name="Picture 5" descr=""/>
          <p:cNvPicPr/>
          <p:nvPr/>
        </p:nvPicPr>
        <p:blipFill>
          <a:blip r:embed="rId1"/>
          <a:stretch/>
        </p:blipFill>
        <p:spPr>
          <a:xfrm>
            <a:off x="4816440" y="3343320"/>
            <a:ext cx="4067280" cy="780840"/>
          </a:xfrm>
          <a:prstGeom prst="rect">
            <a:avLst/>
          </a:prstGeom>
          <a:ln w="0">
            <a:noFill/>
          </a:ln>
        </p:spPr>
      </p:pic>
      <p:pic>
        <p:nvPicPr>
          <p:cNvPr id="122" name="Picture 8" descr=""/>
          <p:cNvPicPr/>
          <p:nvPr/>
        </p:nvPicPr>
        <p:blipFill>
          <a:blip r:embed="rId2"/>
          <a:stretch/>
        </p:blipFill>
        <p:spPr>
          <a:xfrm>
            <a:off x="4762440" y="5218200"/>
            <a:ext cx="4132440" cy="6332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9346-3347-439C-B7D3-9709704EF46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794720" cy="237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6" name="Picture 6" descr="0408"/>
          <p:cNvPicPr/>
          <p:nvPr/>
        </p:nvPicPr>
        <p:blipFill>
          <a:blip r:embed="rId1"/>
          <a:stretch/>
        </p:blipFill>
        <p:spPr>
          <a:xfrm>
            <a:off x="876240" y="4470480"/>
            <a:ext cx="8058240" cy="17906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79F4-1309-4882-BC62-784692D91A3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29" name="Picture 9" descr="0409"/>
          <p:cNvPicPr/>
          <p:nvPr/>
        </p:nvPicPr>
        <p:blipFill>
          <a:blip r:embed="rId1"/>
          <a:stretch/>
        </p:blipFill>
        <p:spPr>
          <a:xfrm>
            <a:off x="2057400" y="1844640"/>
            <a:ext cx="5410080" cy="47340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2-09T07:29:55Z</dcterms:modified>
  <cp:revision>154</cp:revision>
  <dc:subject>Displaying and Exploring Data</dc:subject>
  <dc:title>Chapter 4</dc:title>
</cp:coreProperties>
</file>