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9DDE4-DDFD-485F-B7B7-3AD785241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374B-B10A-4C5D-8634-1AE839FBEA2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036A2-2062-4454-BD4C-60AE5CECC81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1B718-04B1-47F1-920B-0E9BF0C40AE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C444-28C7-4FC0-B51C-EC056E93830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6425-9F75-41FC-ABF9-4B7B7B1B550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48C8-1A55-4A52-874E-D3219E1C7DF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005C-6ED9-4860-BCA3-00D01BC126E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AE866-7046-433A-B00C-F77B54D421B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6044-944C-4D14-BB64-3FE64C6E60A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253F-550B-45B7-A04F-2FB1E785858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99ED7-CDD3-4837-84F0-4ABE13B2C29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8D89-CBFE-4598-BDED-7A39549161F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FA856-F8D7-407D-BAC7-C9E45CA9250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6AF6-EFC7-4F3F-8D4F-1BB91F86C99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2081-6C41-42C7-BB01-5616C4C4C9E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E327-61ED-457E-A49E-DAB8B7D78DF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9F7A5-A951-49D2-A5AF-2C1A8CD3C23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F8436-1EF5-452F-8845-F49B5E64672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7449-A3CC-4B9E-AE2F-B90903EB550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36EE-00B0-42FB-BF71-C3A284CEDF8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1DB97-3ADB-463C-A702-D657C748290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6E53FC-A6B6-4588-88BC-ECAC1E84B2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E6B730-68AD-4C78-B9A6-8E93DC158D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11458EC-DBDD-47A1-AE63-6B83B67E81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587DA9-A5CA-4130-92D3-E64B201830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21191C-9C75-445A-9389-09B75FE59A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B18437-F4A7-4A01-920A-BDE4BA1F56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1001D1-E397-4F45-BD8E-EF3288CC3C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98DC5C-5574-482F-B354-E0BA8B7170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7F80C4-21F8-4F27-B9B3-188E285FAE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316872-3037-4C31-9FB3-A1B9C3D342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71D6E2-EAEB-4ABE-980B-7D7C2AE009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8DB840-4670-4FFA-86DA-EDF92EB590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47C81-E3B3-4E85-94B9-C00CC4340D2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F835-F0FF-4817-9F54-79E23B7E0C2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32" name="Picture 7" descr="0410"/>
          <p:cNvPicPr/>
          <p:nvPr/>
        </p:nvPicPr>
        <p:blipFill>
          <a:blip r:embed="rId1"/>
          <a:stretch/>
        </p:blipFill>
        <p:spPr>
          <a:xfrm>
            <a:off x="1295280" y="1943280"/>
            <a:ext cx="6286680" cy="4714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0C56-1B03-4C3F-96A4-B59ED0C1477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describing spread of data 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36" name="Picture 6" descr=""/>
          <p:cNvPicPr/>
          <p:nvPr/>
        </p:nvPicPr>
        <p:blipFill>
          <a:blip r:embed="rId1"/>
          <a:stretch/>
        </p:blipFill>
        <p:spPr>
          <a:xfrm>
            <a:off x="673200" y="4206960"/>
            <a:ext cx="8305560" cy="8128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E09CD-B8E5-461A-B309-4BC594DF5BA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median,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40" name="Picture 5" descr=""/>
          <p:cNvPicPr/>
          <p:nvPr/>
        </p:nvPicPr>
        <p:blipFill>
          <a:blip r:embed="rId1"/>
          <a:stretch/>
        </p:blipFill>
        <p:spPr>
          <a:xfrm>
            <a:off x="546120" y="3174840"/>
            <a:ext cx="8331120" cy="81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08A4F-1A55-496C-B072-22A8082A0A7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n investment company 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0794-ADCA-433B-8B81-CADEE0F5B91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6" name="PlaceHolder 1"/>
          <p:cNvSpPr>
            <a:spLocks noGrp="1"/>
          </p:cNvSpPr>
          <p:nvPr>
            <p:ph/>
          </p:nvPr>
        </p:nvSpPr>
        <p:spPr>
          <a:xfrm>
            <a:off x="838080" y="1904760"/>
            <a:ext cx="7693200" cy="3483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812A-6D67-4956-BF80-F6A89452BEF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9" name="PlaceHolder 1"/>
          <p:cNvSpPr>
            <a:spLocks noGrp="1"/>
          </p:cNvSpPr>
          <p:nvPr>
            <p:ph/>
          </p:nvPr>
        </p:nvSpPr>
        <p:spPr>
          <a:xfrm>
            <a:off x="761760" y="1917720"/>
            <a:ext cx="7886520" cy="1146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50" name="Object 5"/>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51" name="Picture 7" descr=""/>
          <p:cNvPicPr/>
          <p:nvPr/>
        </p:nvPicPr>
        <p:blipFill>
          <a:blip r:embed="rId1"/>
          <a:stretch/>
        </p:blipFill>
        <p:spPr>
          <a:xfrm>
            <a:off x="1066680" y="3135240"/>
            <a:ext cx="7569360" cy="741600"/>
          </a:xfrm>
          <a:prstGeom prst="rect">
            <a:avLst/>
          </a:prstGeom>
          <a:ln w="0">
            <a:noFill/>
          </a:ln>
        </p:spPr>
      </p:pic>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0"/>
                                        </p:tgtEl>
                                        <p:attrNameLst>
                                          <p:attrName>style.visibility</p:attrName>
                                        </p:attrNameLst>
                                      </p:cBhvr>
                                      <p:to>
                                        <p:strVal val="visible"/>
                                      </p:to>
                                    </p:set>
                                    <p:anim calcmode="lin" valueType="num">
                                      <p:cBhvr additive="base">
                                        <p:cTn id="83" dur="500" fill="hold"/>
                                        <p:tgtEl>
                                          <p:spTgt spid="150"/>
                                        </p:tgtEl>
                                        <p:attrNameLst>
                                          <p:attrName>ppt_x</p:attrName>
                                        </p:attrNameLst>
                                      </p:cBhvr>
                                      <p:tavLst>
                                        <p:tav tm="0">
                                          <p:val>
                                            <p:strVal val="#ppt_x"/>
                                          </p:val>
                                        </p:tav>
                                        <p:tav tm="100000">
                                          <p:val>
                                            <p:strVal val="#ppt_x"/>
                                          </p:val>
                                        </p:tav>
                                      </p:tavLst>
                                    </p:anim>
                                    <p:anim calcmode="lin" valueType="num">
                                      <p:cBhvr additive="base">
                                        <p:cTn id="8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19641-0996-4DE6-876D-6CF1670065F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54" name="Picture 10" descr="0416"/>
          <p:cNvPicPr/>
          <p:nvPr/>
        </p:nvPicPr>
        <p:blipFill>
          <a:blip r:embed="rId1"/>
          <a:stretch/>
        </p:blipFill>
        <p:spPr>
          <a:xfrm>
            <a:off x="1270080" y="1778040"/>
            <a:ext cx="6505560" cy="4914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0F39-B217-4A5B-8DC2-6A9351393F8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57" name="Picture 6" descr="0417"/>
          <p:cNvPicPr/>
          <p:nvPr/>
        </p:nvPicPr>
        <p:blipFill>
          <a:blip r:embed="rId1"/>
          <a:stretch/>
        </p:blipFill>
        <p:spPr>
          <a:xfrm>
            <a:off x="1562040" y="1981080"/>
            <a:ext cx="6048360" cy="4524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CCB7-7CF4-45F2-8D78-4F19E341CDC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60" name="Picture 5" descr="0418"/>
          <p:cNvPicPr/>
          <p:nvPr/>
        </p:nvPicPr>
        <p:blipFill>
          <a:blip r:embed="rId1"/>
          <a:stretch/>
        </p:blipFill>
        <p:spPr>
          <a:xfrm>
            <a:off x="800280" y="2463840"/>
            <a:ext cx="7858080" cy="347652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ADDA1-9830-44AF-B952-6E381F03B9C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63" name="Picture 5" descr="0419"/>
          <p:cNvPicPr/>
          <p:nvPr/>
        </p:nvPicPr>
        <p:blipFill>
          <a:blip r:embed="rId1"/>
          <a:stretch/>
        </p:blipFill>
        <p:spPr>
          <a:xfrm>
            <a:off x="647640" y="3162240"/>
            <a:ext cx="7915320" cy="25336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4C69-1006-4B4D-90CC-118E0086168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0A073-4B55-4DC7-8DDA-8D61D758E9C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66" name="PlaceHolder 1"/>
          <p:cNvSpPr>
            <a:spLocks noGrp="1"/>
          </p:cNvSpPr>
          <p:nvPr>
            <p:ph/>
          </p:nvPr>
        </p:nvSpPr>
        <p:spPr>
          <a:xfrm>
            <a:off x="571680" y="1942920"/>
            <a:ext cx="2498400" cy="4422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7" name="Picture 5" descr="0420"/>
          <p:cNvPicPr/>
          <p:nvPr/>
        </p:nvPicPr>
        <p:blipFill>
          <a:blip r:embed="rId1"/>
          <a:stretch/>
        </p:blipFill>
        <p:spPr>
          <a:xfrm>
            <a:off x="3314880" y="2044800"/>
            <a:ext cx="5591160" cy="42004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2FCE-9523-4EBD-98E5-53848F213A3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539A-54AE-403A-A367-E34F99E3557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10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 dot plo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D2748-3F0F-4570-9663-6A66915F4D4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11" name="Picture 9" descr="0404"/>
          <p:cNvPicPr/>
          <p:nvPr/>
        </p:nvPicPr>
        <p:blipFill>
          <a:blip r:embed="rId1"/>
          <a:stretch/>
        </p:blipFill>
        <p:spPr>
          <a:xfrm>
            <a:off x="1905120" y="3936960"/>
            <a:ext cx="5876640" cy="2685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09287-EABF-4945-99AE-0BB564202CA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14" name="Picture 6" descr="0405"/>
          <p:cNvPicPr/>
          <p:nvPr/>
        </p:nvPicPr>
        <p:blipFill>
          <a:blip r:embed="rId1"/>
          <a:stretch/>
        </p:blipFill>
        <p:spPr>
          <a:xfrm>
            <a:off x="1206360" y="1724040"/>
            <a:ext cx="6591600" cy="49816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21471-66E3-467A-B9E8-C512648501E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17" name="PlaceHolder 1"/>
          <p:cNvSpPr>
            <a:spLocks noGrp="1"/>
          </p:cNvSpPr>
          <p:nvPr>
            <p:ph/>
          </p:nvPr>
        </p:nvSpPr>
        <p:spPr>
          <a:xfrm>
            <a:off x="838080" y="1904760"/>
            <a:ext cx="7693200" cy="4181400"/>
          </a:xfrm>
          <a:prstGeom prst="rect">
            <a:avLst/>
          </a:prstGeom>
          <a:noFill/>
          <a:ln w="0">
            <a:noFill/>
          </a:ln>
        </p:spPr>
        <p:txBody>
          <a:bodyPr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wipe dir="r"/>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61" dur="500"/>
                                        <p:tgtEl>
                                          <p:spTgt spid="11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17">
                                            <p:txEl>
                                              <p:pRg st="2" end="2"/>
                                            </p:txEl>
                                          </p:spTgt>
                                        </p:tgtEl>
                                        <p:attrNameLst>
                                          <p:attrName>style.visibility</p:attrName>
                                        </p:attrNameLst>
                                      </p:cBhvr>
                                      <p:to>
                                        <p:strVal val="visible"/>
                                      </p:to>
                                    </p:set>
                                    <p:animEffect filter="wipe(up)" transition="in">
                                      <p:cBhvr additive="repl">
                                        <p:cTn id="66" dur="500"/>
                                        <p:tgtEl>
                                          <p:spTgt spid="117">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17">
                                            <p:txEl>
                                              <p:pRg st="4" end="4"/>
                                            </p:txEl>
                                          </p:spTgt>
                                        </p:tgtEl>
                                        <p:attrNameLst>
                                          <p:attrName>style.visibility</p:attrName>
                                        </p:attrNameLst>
                                      </p:cBhvr>
                                      <p:to>
                                        <p:strVal val="visible"/>
                                      </p:to>
                                    </p:set>
                                    <p:animEffect filter="wipe(up)" transition="in">
                                      <p:cBhvr additive="repl">
                                        <p:cTn id="71" dur="500"/>
                                        <p:tgtEl>
                                          <p:spTgt spid="117">
                                            <p:txEl>
                                              <p:pRg st="4" end="4"/>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17">
                                            <p:txEl>
                                              <p:pRg st="6" end="6"/>
                                            </p:txEl>
                                          </p:spTgt>
                                        </p:tgtEl>
                                        <p:attrNameLst>
                                          <p:attrName>style.visibility</p:attrName>
                                        </p:attrNameLst>
                                      </p:cBhvr>
                                      <p:to>
                                        <p:strVal val="visible"/>
                                      </p:to>
                                    </p:set>
                                    <p:animEffect filter="wipe(up)" transition="in">
                                      <p:cBhvr additive="repl">
                                        <p:cTn id="76"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AE19-B48F-4AD2-8509-2F55F93EDB0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20" name="PlaceHolder 1"/>
          <p:cNvSpPr>
            <a:spLocks noGrp="1"/>
          </p:cNvSpPr>
          <p:nvPr>
            <p:ph/>
          </p:nvPr>
        </p:nvSpPr>
        <p:spPr>
          <a:xfrm>
            <a:off x="837720" y="1904760"/>
            <a:ext cx="4023000" cy="4600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1" name="Picture 5" descr=""/>
          <p:cNvPicPr/>
          <p:nvPr/>
        </p:nvPicPr>
        <p:blipFill>
          <a:blip r:embed="rId1"/>
          <a:stretch/>
        </p:blipFill>
        <p:spPr>
          <a:xfrm>
            <a:off x="4816440" y="3343320"/>
            <a:ext cx="4067280" cy="780840"/>
          </a:xfrm>
          <a:prstGeom prst="rect">
            <a:avLst/>
          </a:prstGeom>
          <a:ln w="0">
            <a:noFill/>
          </a:ln>
        </p:spPr>
      </p:pic>
      <p:pic>
        <p:nvPicPr>
          <p:cNvPr id="122" name="Picture 8" descr=""/>
          <p:cNvPicPr/>
          <p:nvPr/>
        </p:nvPicPr>
        <p:blipFill>
          <a:blip r:embed="rId2"/>
          <a:stretch/>
        </p:blipFill>
        <p:spPr>
          <a:xfrm>
            <a:off x="4762440" y="5218200"/>
            <a:ext cx="4132440" cy="6332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B09C9-6739-4A47-904E-3DD0C82B58A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794720" cy="237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6" name="Picture 6" descr="0408"/>
          <p:cNvPicPr/>
          <p:nvPr/>
        </p:nvPicPr>
        <p:blipFill>
          <a:blip r:embed="rId1"/>
          <a:stretch/>
        </p:blipFill>
        <p:spPr>
          <a:xfrm>
            <a:off x="876240" y="4470480"/>
            <a:ext cx="8058240" cy="17906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FF028-D2C9-4C98-8AB4-C3E5ED4781A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29" name="Picture 9" descr="0409"/>
          <p:cNvPicPr/>
          <p:nvPr/>
        </p:nvPicPr>
        <p:blipFill>
          <a:blip r:embed="rId1"/>
          <a:stretch/>
        </p:blipFill>
        <p:spPr>
          <a:xfrm>
            <a:off x="2057400" y="1844640"/>
            <a:ext cx="5410080" cy="47340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2-09T07:29:55Z</dcterms:modified>
  <cp:revision>154</cp:revision>
  <dc:subject>Displaying and Exploring Data</dc:subject>
  <dc:title>Chapter 4</dc:title>
</cp:coreProperties>
</file>