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FC7C-5DD2-4435-B853-6F9239239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ED17-9BED-43F2-AA5F-AF41A94D25B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50A3-B6B6-43E7-BE63-5CF8AD45932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7F0E-1915-4746-A20E-2D8AA19F17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37A5-D55A-4796-B3F7-9784CDE506D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0161-4588-4935-9D42-2A9885BD3D8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44B0-969C-4BCD-893A-83CABD8F309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7245-C12D-4E07-89C1-BA636A76E9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4073-6729-4273-8217-7F7AE7326D1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CB5A-7BAB-40DD-9182-6BD97A2893B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7BC9-27C6-4B8C-8FBF-4F0CF76D0A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A7A2-B9E5-472C-B8E0-0BE24E74D53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4CD9-6756-49F9-B642-E0656671533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8A06-A515-4E53-9D4E-C9EA036E5B0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DB49-B0C9-414F-BCEB-30D9B76B560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2F22-9DEF-440F-8BED-AD041987284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EAD7-1459-4C78-B9CB-62D7F9A996A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E998-5134-4370-BA90-A34F2E39B77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846E-18A9-40B9-8DE7-18D4BCCADF0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FF93-B9BF-43BE-A04C-95E00B3EB75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EB88-D7AE-4CCA-90A5-1E456E2AE3C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2543-C255-471D-B30C-4702EFC5490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B6EA5D-54D2-4B7B-B85A-10B1285935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62922E-7038-4B23-8B0B-0BAC52CC7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3D6C20-31F9-42D2-B8E9-44F775040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790928-7A0D-4333-B24C-868F0ED5AE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D8FFF9-68F3-4460-8400-6060B19B3D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1B80AD-60CE-4189-9C2D-CA50C30DE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BB8663-633E-45CC-AEE5-25B65CD406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AC2D62-88EE-40C4-81FE-75056DB79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58D9C4-40AD-4CCB-B322-4D2CDD797C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89F59-5FB6-4F85-961B-574EFC69FD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D58738-24AD-4837-B07E-6AA5DDCC0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5CD10-5E32-44DE-BA8B-FB9828E37F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C3EA-B55C-4E36-BA6E-070D0748B18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1495-F2F0-413E-94AA-79A23662FA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ED3F-92F8-47B7-83ED-95F2EF754B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3C13-AA49-4161-9D9D-3A1F87C3512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22F6-CC22-4944-976E-2C3798CA30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57CE-7191-46A6-8B5F-C1BDDE5E24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44B1-35A4-493D-8863-84CD6F5D8F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48BD-2E5D-48FA-91B6-D20BFEBCD1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4BC0-CCE8-4A6B-8571-BF4544AF82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AA02-79D4-47F2-A2D6-92031CF5126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BD4A-E4B0-4048-8626-3C575666B8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F2B0-4C65-441C-99D4-E4AAE22B05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BD3D-5B86-43B5-9256-E0818C5F60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6680-19C8-4038-B71B-FD2177D246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58A1-B813-4016-9852-1178110382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1C73-03B3-4C77-8626-ADFCA17E97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DDDA-78E9-49EA-8AB1-5CC8C6B0D3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9269-95C6-472D-95AD-A26CD7C8B0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CBB1-1E9E-4401-BA2D-16D1026796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03B8-6AEB-4C33-800B-CF7F3BAA65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4C20-0EFF-4D25-A83E-1C53A9A056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2:26Z</dcterms:modified>
  <cp:revision>154</cp:revision>
  <dc:subject>Displaying and Exploring Data</dc:subject>
  <dc:title>Chapter 4</dc:title>
</cp:coreProperties>
</file>