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B7CD-788F-438C-8A5F-F57736D53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E0FE-7D82-42D8-8530-BA3229E7EDD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C214-0435-49DB-B40A-C964CE0DF50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272D-88CF-4CAE-83AF-D1DA3B6A4E7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755D-9C0F-47F4-9961-6F7D4ACD094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6F92-3078-4647-9CBF-D95B389BD92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CD6A-962A-4017-85C8-8E14A3DAA84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3EDA-20C5-4666-AD26-86111579DBC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134E-EB79-478B-A67F-09E62CDBB9D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A191-7D9F-4500-9115-17FB19301AB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4332-4AD3-444E-B759-FCD05FED0D9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6C8C-5B6E-4293-B67C-102DB520237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E2BA-A4E8-4F17-873A-D31530553D1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69FD-ABE9-4700-86C0-73B1195DC57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18BB-AE48-499B-9A94-DE238A32E0F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7DB5-9788-4AAB-8C01-40A7877AC63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9B9A-1406-4465-BEBB-84FF871BF57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4464-2C9E-4AF5-943F-9B79CDF4434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B38E-257E-4D5F-BB9E-9453C2C7B96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B83B-720A-4BB2-AA06-A659F674C20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0BF0-3DC3-4EC4-96D8-2FEFF2E98BE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7EA1-EE35-4CED-86AC-28E60752A82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32E3-E190-44FA-89F3-24447FDC351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96EC-2007-45BD-8733-F19EB1ED2AE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B896-45F9-4B35-A38B-FC945E9007F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6C5B-5A75-4CC4-A466-1B6107C6D81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30AE-4D7D-4953-95DB-2BA5259D45D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C323-2E48-4E58-BDE3-5AADA7D339D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11E3-968E-46D2-86CB-704F845F368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CDA8-1DE4-4F48-A856-AACDEA9B7F6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52E2-85EC-4E21-BA87-D972DEA9522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24BA-3769-4555-BB80-15AB07F6EE2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8398-6EF0-4DDE-993F-E8B4A497E60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2F73-B56C-4F18-AD41-C63A42495F0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5CF7-02D9-421E-ACE8-08D17E27FC7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AD80-0ED1-412A-AE85-B61211B441A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2B08-1B69-48FE-8057-F6C61B0F6EC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8298-54C5-4D4B-BE68-597ABEBEE55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9E34-CD06-4296-94B6-2CFFD2BAB43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037C-B5CA-42E3-8541-C76EBF4F173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7F73-6605-4271-95F1-1D0298C7F0D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F65E-9416-4098-ACFF-4D3BBB139B5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BBFD-D9AC-429E-A777-50F38DBE9EA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A7B7-54F8-4151-9D02-19463549B7C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6142-A3CA-4C24-A66F-33FEF202F7C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0FA6-1A21-4917-B017-B59BF1BB1D4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BEB281-DDB4-44A3-A013-92396317E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FF174B-C436-478A-98CC-46B23843B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A3E52D-1596-4475-8E57-AA66BD24C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ADBF27-E216-4749-9E12-250CB46360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8FE7B-20A4-492F-BB45-E1AE37FE8F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36954F-ED9A-4A29-97DC-0485585403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F53F8-5861-4629-9FBD-899D2F263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EC50CE-3D8D-4315-8AE2-DC0C95039F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D2BFB4-1FA1-4EF3-869C-339BDA5C61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6FFE39-0FF7-4C73-80A4-C8568C06FB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098702-EBC3-459D-ADD1-56BA275821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DAE3C-BB36-4182-9B92-2B2B0D2CD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D77E-B423-480A-BF79-B197D140C6D4}"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8FCB-26DE-4AB5-9288-AE1E2B13558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A602-9F82-4E0E-B985-DFB46173A0F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3ABE-A545-4F4C-BAF8-5FF20C83F1F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E892-EADB-417D-8DE8-086BEBB1A35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47"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ppt_x"/>
                                          </p:val>
                                        </p:tav>
                                        <p:tav tm="100000">
                                          <p:val>
                                            <p:strVal val="#ppt_x"/>
                                          </p:val>
                                        </p:tav>
                                      </p:tavLst>
                                    </p:anim>
                                    <p:anim calcmode="lin" valueType="num">
                                      <p:cBhvr additive="base">
                                        <p:cTn id="1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3E88-A10B-4085-A089-C98101A13A6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0"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2"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7" dur="500"/>
                                        <p:tgtEl>
                                          <p:spTgt spid="150">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2" dur="500"/>
                                        <p:tgtEl>
                                          <p:spTgt spid="15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5" dur="500"/>
                                        <p:tgtEl>
                                          <p:spTgt spid="15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8" dur="500"/>
                                        <p:tgtEl>
                                          <p:spTgt spid="15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1"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849E-8EEE-4918-929B-19D79F8A2D6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5"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6CEB-72D3-4653-A585-7B9DF512CD8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58"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81C7-2F8B-4227-9F77-A7E291D6A0E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63"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3407-208A-433B-AF10-9275B514FE2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66"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8"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69"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8"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66E7-A206-4FF6-9C6B-FFEC393B0F3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2"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3"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DAA8-0EBD-4AE4-AFC0-D24640700C3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793A-FD15-4CA5-938E-149D242F4E0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76"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35" dur="500"/>
                                        <p:tgtEl>
                                          <p:spTgt spid="17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0" dur="500"/>
                                        <p:tgtEl>
                                          <p:spTgt spid="176">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4E5E-5D76-48A4-9C6C-3C715E09938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52" dur="500"/>
                                        <p:tgtEl>
                                          <p:spTgt spid="18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57" dur="500"/>
                                        <p:tgtEl>
                                          <p:spTgt spid="180">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62" dur="500"/>
                                        <p:tgtEl>
                                          <p:spTgt spid="180">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67" dur="500"/>
                                        <p:tgtEl>
                                          <p:spTgt spid="180">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0">
                                            <p:txEl>
                                              <p:pRg st="5" end="5"/>
                                            </p:txEl>
                                          </p:spTgt>
                                        </p:tgtEl>
                                        <p:attrNameLst>
                                          <p:attrName>style.visibility</p:attrName>
                                        </p:attrNameLst>
                                      </p:cBhvr>
                                      <p:to>
                                        <p:strVal val="visible"/>
                                      </p:to>
                                    </p:set>
                                    <p:animEffect filter="wipe(up)" transition="in">
                                      <p:cBhvr additive="repl">
                                        <p:cTn id="172" dur="500"/>
                                        <p:tgtEl>
                                          <p:spTgt spid="180">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177" dur="500"/>
                                        <p:tgtEl>
                                          <p:spTgt spid="180">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182" dur="5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55A3-F396-42CE-946A-90B44C6550C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83"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89" dur="500"/>
                                        <p:tgtEl>
                                          <p:spTgt spid="183">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9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589B-2EB9-4F82-9933-FC20CBAB2D7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87"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89"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01" dur="500"/>
                                        <p:tgtEl>
                                          <p:spTgt spid="18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06" dur="500"/>
                                        <p:tgtEl>
                                          <p:spTgt spid="187">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11" dur="500"/>
                                        <p:tgtEl>
                                          <p:spTgt spid="187">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714E-6CC9-41C0-8D79-35CE22FFDED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2"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4"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23" dur="500"/>
                                        <p:tgtEl>
                                          <p:spTgt spid="19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2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01BB-D1E7-47AE-9224-288DA95D8A6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35" dur="500"/>
                                        <p:tgtEl>
                                          <p:spTgt spid="1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240" dur="500"/>
                                        <p:tgtEl>
                                          <p:spTgt spid="1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245" dur="500"/>
                                        <p:tgtEl>
                                          <p:spTgt spid="196">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250"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1DA9-C708-4227-B3FF-3E2B47B2456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1"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257" dur="500"/>
                                        <p:tgtEl>
                                          <p:spTgt spid="200">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26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853C-B8A2-4E96-9EF6-5DDDAECD9D1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04"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05"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2573-44D4-48BE-A5CA-62B73BB3119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7"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09"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69" dur="500"/>
                                        <p:tgtEl>
                                          <p:spTgt spid="207">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74" dur="500"/>
                                        <p:tgtEl>
                                          <p:spTgt spid="207">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79" dur="500"/>
                                        <p:tgtEl>
                                          <p:spTgt spid="207">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09"/>
                                        </p:tgtEl>
                                        <p:attrNameLst>
                                          <p:attrName>style.visibility</p:attrName>
                                        </p:attrNameLst>
                                      </p:cBhvr>
                                      <p:to>
                                        <p:strVal val="visible"/>
                                      </p:to>
                                    </p:set>
                                    <p:animEffect filter="wipe(up)" transition="in">
                                      <p:cBhvr additive="repl">
                                        <p:cTn id="2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358E-1B0B-43A1-B932-E35AD1AFAEC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212" name="PlaceHolder 1"/>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21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291" dur="500"/>
                                        <p:tgtEl>
                                          <p:spTgt spid="212">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296"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FCAB-66CF-40A5-8522-2A43C2323D8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7863-5E92-4EBC-8F88-7C82F73B870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16" name="Picture 5" descr="0530"/>
          <p:cNvPicPr/>
          <p:nvPr/>
        </p:nvPicPr>
        <p:blipFill>
          <a:blip r:embed="rId1"/>
          <a:stretch/>
        </p:blipFill>
        <p:spPr>
          <a:xfrm>
            <a:off x="1638360" y="1695600"/>
            <a:ext cx="5781600" cy="5101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28D3-28E9-4277-B3C5-CA441C056B8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219"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1"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03" dur="500"/>
                                        <p:tgtEl>
                                          <p:spTgt spid="21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08" dur="500"/>
                                        <p:tgtEl>
                                          <p:spTgt spid="219">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1"/>
                                        </p:tgtEl>
                                        <p:attrNameLst>
                                          <p:attrName>style.visibility</p:attrName>
                                        </p:attrNameLst>
                                      </p:cBhvr>
                                      <p:to>
                                        <p:strVal val="visible"/>
                                      </p:to>
                                    </p:set>
                                    <p:animEffect filter="wipe(left)" transition="in">
                                      <p:cBhvr additive="repl">
                                        <p:cTn id="31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192E-D1FD-4F93-AE9F-CA5D9E4D411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2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5" name="Picture 8" descr="0532"/>
          <p:cNvPicPr/>
          <p:nvPr/>
        </p:nvPicPr>
        <p:blipFill>
          <a:blip r:embed="rId1"/>
          <a:stretch/>
        </p:blipFill>
        <p:spPr>
          <a:xfrm>
            <a:off x="990720" y="2057400"/>
            <a:ext cx="7686720" cy="4181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4157-9C70-4EC5-A898-E13DEC37733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28" name="Picture 8" descr="0533"/>
          <p:cNvPicPr/>
          <p:nvPr/>
        </p:nvPicPr>
        <p:blipFill>
          <a:blip r:embed="rId1"/>
          <a:stretch/>
        </p:blipFill>
        <p:spPr>
          <a:xfrm>
            <a:off x="743040" y="1924200"/>
            <a:ext cx="8096040" cy="44193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A1DF-5300-46B5-BBB4-5AAA115C891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1" name="Picture 7" descr="0534"/>
          <p:cNvPicPr/>
          <p:nvPr/>
        </p:nvPicPr>
        <p:blipFill>
          <a:blip r:embed="rId1"/>
          <a:stretch/>
        </p:blipFill>
        <p:spPr>
          <a:xfrm>
            <a:off x="533520" y="2457360"/>
            <a:ext cx="8372520" cy="35434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CD05-DD37-4DC2-99CD-BD122A18F24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4" name="Picture 6" descr="0535"/>
          <p:cNvPicPr/>
          <p:nvPr/>
        </p:nvPicPr>
        <p:blipFill>
          <a:blip r:embed="rId1"/>
          <a:stretch/>
        </p:blipFill>
        <p:spPr>
          <a:xfrm>
            <a:off x="762120" y="3067200"/>
            <a:ext cx="7943760" cy="22860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39AC-FC6C-4168-9FD4-99355A684F1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37" name="Picture 5" descr="0536"/>
          <p:cNvPicPr/>
          <p:nvPr/>
        </p:nvPicPr>
        <p:blipFill>
          <a:blip r:embed="rId1"/>
          <a:stretch/>
        </p:blipFill>
        <p:spPr>
          <a:xfrm>
            <a:off x="1162080" y="1676520"/>
            <a:ext cx="6838920" cy="51418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5E95-DDAA-4B66-AE9E-BB22D3BDA2D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40" name="Picture 6" descr="0537"/>
          <p:cNvPicPr/>
          <p:nvPr/>
        </p:nvPicPr>
        <p:blipFill>
          <a:blip r:embed="rId1"/>
          <a:stretch/>
        </p:blipFill>
        <p:spPr>
          <a:xfrm>
            <a:off x="1066680" y="3143160"/>
            <a:ext cx="7277400" cy="20289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3ECC-E494-4A5B-9600-92E271BA69C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243" name="PlaceHolder 1"/>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2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320" dur="500"/>
                                        <p:tgtEl>
                                          <p:spTgt spid="243">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325"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396B-2ED0-438A-994D-92776290F4A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6" name="PlaceHolder 1"/>
          <p:cNvSpPr>
            <a:spLocks noGrp="1"/>
          </p:cNvSpPr>
          <p:nvPr>
            <p:ph/>
          </p:nvPr>
        </p:nvSpPr>
        <p:spPr>
          <a:xfrm>
            <a:off x="837720" y="1904760"/>
            <a:ext cx="3940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48" name="Picture 6" descr="0539"/>
          <p:cNvPicPr/>
          <p:nvPr/>
        </p:nvPicPr>
        <p:blipFill>
          <a:blip r:embed="rId1"/>
          <a:stretch/>
        </p:blipFill>
        <p:spPr>
          <a:xfrm>
            <a:off x="4933800" y="2819520"/>
            <a:ext cx="3762360" cy="22860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DFCB-B08B-4DD8-8ACD-839A9E33238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9810-C6FE-40A9-A494-854DB06A4BC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pic>
        <p:nvPicPr>
          <p:cNvPr id="250" name="Picture 4" descr=""/>
          <p:cNvPicPr/>
          <p:nvPr/>
        </p:nvPicPr>
        <p:blipFill>
          <a:blip r:embed="rId1"/>
          <a:stretch/>
        </p:blipFill>
        <p:spPr>
          <a:xfrm>
            <a:off x="747720" y="2838600"/>
            <a:ext cx="7958160" cy="495000"/>
          </a:xfrm>
          <a:prstGeom prst="rect">
            <a:avLst/>
          </a:prstGeom>
          <a:ln w="0">
            <a:noFill/>
          </a:ln>
        </p:spPr>
      </p:pic>
      <p:pic>
        <p:nvPicPr>
          <p:cNvPr id="251" name="Picture 5" descr=""/>
          <p:cNvPicPr/>
          <p:nvPr/>
        </p:nvPicPr>
        <p:blipFill>
          <a:blip r:embed="rId2"/>
          <a:stretch/>
        </p:blipFill>
        <p:spPr>
          <a:xfrm>
            <a:off x="809640" y="3933720"/>
            <a:ext cx="7800840" cy="924120"/>
          </a:xfrm>
          <a:prstGeom prst="rect">
            <a:avLst/>
          </a:prstGeom>
          <a:ln w="0">
            <a:noFill/>
          </a:ln>
        </p:spPr>
      </p:pic>
      <p:sp>
        <p:nvSpPr>
          <p:cNvPr id="2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655F-43DE-4ACF-81A9-7CC0B9CFA9E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55"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6"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57" name="Picture 7" descr=""/>
          <p:cNvPicPr/>
          <p:nvPr/>
        </p:nvPicPr>
        <p:blipFill>
          <a:blip r:embed="rId1"/>
          <a:stretch/>
        </p:blipFill>
        <p:spPr>
          <a:xfrm>
            <a:off x="843120" y="4290840"/>
            <a:ext cx="7537320" cy="163836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7603-2549-4362-B523-3910E286C8E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6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61"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62" name="Group 9"/>
          <p:cNvGrpSpPr/>
          <p:nvPr/>
        </p:nvGrpSpPr>
        <p:grpSpPr>
          <a:xfrm>
            <a:off x="676440" y="4452840"/>
            <a:ext cx="8181720" cy="1700280"/>
            <a:chOff x="676440" y="4452840"/>
            <a:chExt cx="8181720" cy="1700280"/>
          </a:xfrm>
        </p:grpSpPr>
        <p:pic>
          <p:nvPicPr>
            <p:cNvPr id="263" name="Picture 7" descr=""/>
            <p:cNvPicPr/>
            <p:nvPr/>
          </p:nvPicPr>
          <p:blipFill>
            <a:blip r:embed="rId1"/>
            <a:stretch/>
          </p:blipFill>
          <p:spPr>
            <a:xfrm>
              <a:off x="676440" y="4452840"/>
              <a:ext cx="8181720" cy="752400"/>
            </a:xfrm>
            <a:prstGeom prst="rect">
              <a:avLst/>
            </a:prstGeom>
            <a:ln w="0">
              <a:noFill/>
            </a:ln>
          </p:spPr>
        </p:pic>
        <p:pic>
          <p:nvPicPr>
            <p:cNvPr id="264" name="Picture 8" descr=""/>
            <p:cNvPicPr/>
            <p:nvPr/>
          </p:nvPicPr>
          <p:blipFill>
            <a:blip r:embed="rId2"/>
            <a:stretch/>
          </p:blipFill>
          <p:spPr>
            <a:xfrm>
              <a:off x="766800" y="5276880"/>
              <a:ext cx="4790880" cy="876240"/>
            </a:xfrm>
            <a:prstGeom prst="rect">
              <a:avLst/>
            </a:prstGeom>
            <a:ln w="0">
              <a:noFill/>
            </a:ln>
          </p:spPr>
        </p:pic>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254D-9D66-40A8-ABA2-9167441312F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6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67" name="PlaceHolder 1"/>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269" name="Object 6"/>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Tree>
  </p:cSld>
  <p:transition>
    <p:wipe dir="r"/>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69"/>
                                        </p:tgtEl>
                                        <p:attrNameLst>
                                          <p:attrName>style.visibility</p:attrName>
                                        </p:attrNameLst>
                                      </p:cBhvr>
                                      <p:to>
                                        <p:strVal val="visible"/>
                                      </p:to>
                                    </p:set>
                                    <p:anim calcmode="lin" valueType="num">
                                      <p:cBhvr additive="base">
                                        <p:cTn id="332" dur="500" fill="hold"/>
                                        <p:tgtEl>
                                          <p:spTgt spid="269"/>
                                        </p:tgtEl>
                                        <p:attrNameLst>
                                          <p:attrName>ppt_x</p:attrName>
                                        </p:attrNameLst>
                                      </p:cBhvr>
                                      <p:tavLst>
                                        <p:tav tm="0">
                                          <p:val>
                                            <p:strVal val="#ppt_x"/>
                                          </p:val>
                                        </p:tav>
                                        <p:tav tm="100000">
                                          <p:val>
                                            <p:strVal val="#ppt_x"/>
                                          </p:val>
                                        </p:tav>
                                      </p:tavLst>
                                    </p:anim>
                                    <p:anim calcmode="lin" valueType="num">
                                      <p:cBhvr additive="base">
                                        <p:cTn id="33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49DE-7C0F-4AA6-95B4-58950CA2BDD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7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73" name="Object 4"/>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Tree>
  </p:cSld>
  <p:transition>
    <p:wipe dir="r"/>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73"/>
                                        </p:tgtEl>
                                        <p:attrNameLst>
                                          <p:attrName>style.visibility</p:attrName>
                                        </p:attrNameLst>
                                      </p:cBhvr>
                                      <p:to>
                                        <p:strVal val="visible"/>
                                      </p:to>
                                    </p:set>
                                    <p:anim calcmode="lin" valueType="num">
                                      <p:cBhvr additive="base">
                                        <p:cTn id="340" dur="500" fill="hold"/>
                                        <p:tgtEl>
                                          <p:spTgt spid="273"/>
                                        </p:tgtEl>
                                        <p:attrNameLst>
                                          <p:attrName>ppt_x</p:attrName>
                                        </p:attrNameLst>
                                      </p:cBhvr>
                                      <p:tavLst>
                                        <p:tav tm="0">
                                          <p:val>
                                            <p:strVal val="#ppt_x"/>
                                          </p:val>
                                        </p:tav>
                                        <p:tav tm="100000">
                                          <p:val>
                                            <p:strVal val="#ppt_x"/>
                                          </p:val>
                                        </p:tav>
                                      </p:tavLst>
                                    </p:anim>
                                    <p:anim calcmode="lin" valueType="num">
                                      <p:cBhvr additive="base">
                                        <p:cTn id="341"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B2AA-095F-483E-92E1-03622C53314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8471-BD50-40F4-A74D-E70C8740958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356A-1750-4562-B4A1-F1F3118B696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EBC1-65A8-4CBE-A552-DC67867C5D3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EFD8-4F25-4900-8DA1-09945A37776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8C47-CD54-4FFC-AE3D-C84BE5E51E9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2"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9:52Z</dcterms:modified>
  <cp:revision>140</cp:revision>
  <dc:subject>Survey of Probability Concepts</dc:subject>
  <dc:title>Chapter 5</dc:title>
</cp:coreProperties>
</file>