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1E4F-B3E3-46BD-B1FF-4A56CB1C5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6739-6755-4323-87D0-7280CA64451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3453-9915-4B60-9800-08A6F5FBFA1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3BC3-6A8E-45F4-BE8C-2838A4847FA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8929-1795-43AD-A163-D6DA49250CF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7EA0-07CE-495F-B961-AF8D1BD9024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4DD7-DDCC-4C60-92AC-60E95E72FD8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7AD0-29CC-4C63-A178-246AB6F7EF2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5D78-8A88-45F3-BCD3-6A738C71E83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3577-49D3-437A-A40C-2AC32914A03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822F-8E65-4C39-94B2-88EE61889FA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B601-6CBC-448E-9845-CD436563753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F073-DE56-4667-83B9-1A5AEFF5CCB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9728-E04A-4749-99E1-A0428ADDC42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0DB9-03B2-4703-9C4A-7556009B937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4CAC-F91A-4B37-88F6-4B1FD761572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8D0E-5DC4-4F8A-8C7B-39D853EF59D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F0DA-B2D4-44E8-8332-BBCCB7CE22E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3572-84E7-4BB7-A33A-292CF379608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7D99-E547-457B-BF9C-083C345BBF1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F642-CEE7-429D-A594-2CE8766ED8F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72A3-99F2-484B-906F-D675CB4B3E1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826C-8669-4440-966A-70A9FFBD609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1C34-52FD-49E8-85F0-43ACFC793B1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96BD-C2D1-4921-A754-A001292994F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440D-1903-44EF-96C0-D7B64C3A5B5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8896-4076-4383-91C8-FFDD60C6FF3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6BE9-D52C-432B-9E25-0AFFE8B3216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B72E-0F5D-4FA8-B8ED-0DEA033A364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DB5D-69FE-41A5-924B-A6598F39B48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92A7-53EA-4163-AA8B-95D800DD130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4B07-D2C8-4CE3-886B-BD0D7A4C72F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CD4D-E280-4CF6-BAA9-E8DA95043DD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B692-4596-40CA-84BE-B109F62DE5E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4F9E-7836-4EA9-ADF8-77115EDAA53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99A2-6A31-4F29-BAC6-86110E7F178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7B6A-A5DD-4A0E-9F12-8979C3A6E3F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1958-6748-4A1C-842B-341719A0D50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45E3-5A3A-4A1E-B014-5052F217D5A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FE04-E899-434F-ACC3-8F2885F9E43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8C38-BFB8-4559-8BB2-1F4D3BB3A9D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E6D8-6E24-46CF-BF86-C7961A426CE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72C8-9BD4-4A6F-89BB-9A9459129DF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32AB-C7FF-44C5-B3AE-C0A0F5EEA14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BE07-F8BC-4EC4-AF41-CB0CFA38634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8BB8-F4C9-40DA-8284-8675A3DCAB3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2F5C10-916A-4C34-97C5-6FE202227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A1520-A50F-414B-A0DE-F797FE2BC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4B913-EA3E-4343-AFC2-DB543D8B84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CF3AF-4C4B-41BD-9FCD-2582D46ACE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E04E9-2D2F-436D-9067-6AA737C2AC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FFAEEE-453F-4D07-9827-C6331AF33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8B85DB-DCC1-4AC1-93FF-416FB23C4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ADED66-10BB-4145-9267-5D7EA91FF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785804-B5EC-4C91-82C7-C04F20592F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11DDC-5797-4138-973B-BE9C95D04D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0DDC5-2092-4509-8AF6-3B839E293F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CBB64E-EA1B-4001-98FA-2B04A8D43E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8219-A762-4CF3-A295-1E1DFE69DA86}"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FD8D-9593-40D8-B76D-7C4B3DE2CF5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985A-C8C5-4DD0-9EF0-33430069714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3644-9D47-485E-8212-52268D2382D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543E-938D-4723-A47F-F771C6972FF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446A-5142-4A0C-BAFB-24F87AA7903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879B-1819-43B6-9014-F9627874F8A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1279-2369-4E8A-9C46-3B44A57F9CA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0DD5-537D-4EDC-A98D-7895BEBA340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F6A6-A7E6-4DEF-91D3-4B8286BA60B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84CD-337C-4254-92D1-21FBDA2564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6CBF-4E76-4C0C-B3C7-42F82F0EEF5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B13E-701F-4196-A5AB-BB87076BEF0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EAD8-D2A2-4F3C-ADB9-AE96975AADB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A344-EBAE-4BEC-B961-BE995D02F40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D049-0CDB-45CE-99DE-8B3B9D69BCC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EEDE-432D-4F1C-B2F0-7E358E805EA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4741-6DDE-4F4D-AF22-D6C7646128E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1EDB-A6DF-4851-AF8B-9BB457AF92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E4D5-CFFE-4E56-B5E9-6ED7C1C8B05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61A5-A7B1-4352-A422-0956D22D7CD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A8C5-569F-4EDE-9DD1-9FF14946233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212"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2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91" dur="500"/>
                                        <p:tgtEl>
                                          <p:spTgt spid="21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96"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A5FA-04DB-4F1F-893A-92CE81D4B48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23DC-0120-435D-BA10-42796DC1300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6"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7859-35EB-483A-A453-8A0896B71AD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19"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1"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3" dur="500"/>
                                        <p:tgtEl>
                                          <p:spTgt spid="21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08" dur="500"/>
                                        <p:tgtEl>
                                          <p:spTgt spid="219">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gtEl>
                                        <p:attrNameLst>
                                          <p:attrName>style.visibility</p:attrName>
                                        </p:attrNameLst>
                                      </p:cBhvr>
                                      <p:to>
                                        <p:strVal val="visible"/>
                                      </p:to>
                                    </p:set>
                                    <p:animEffect filter="wipe(left)" transition="in">
                                      <p:cBhvr additive="repl">
                                        <p:cTn id="31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014A-E178-41B2-9649-BC0456BD250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5"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774-1221-402B-99BC-4CC79775E86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8"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3884-E491-4F13-ADF4-F66FE38CF8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1"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7F95-F256-49B3-9DF9-02E7C363446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4"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4B94-7029-49E1-9669-CF2E3A99AF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37"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F161-59F6-4357-831D-0767B8448E2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40"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910D-CF24-49EB-AEA0-E0432C101BA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243" name="PlaceHolder 1"/>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2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320" dur="500"/>
                                        <p:tgtEl>
                                          <p:spTgt spid="243">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25"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62F0-0368-40B6-BEF3-E0AE40CAAB5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6" name="PlaceHolder 1"/>
          <p:cNvSpPr>
            <a:spLocks noGrp="1"/>
          </p:cNvSpPr>
          <p:nvPr>
            <p:ph/>
          </p:nvPr>
        </p:nvSpPr>
        <p:spPr>
          <a:xfrm>
            <a:off x="837720" y="1904760"/>
            <a:ext cx="3940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48" name="Picture 6" descr="0539"/>
          <p:cNvPicPr/>
          <p:nvPr/>
        </p:nvPicPr>
        <p:blipFill>
          <a:blip r:embed="rId1"/>
          <a:stretch/>
        </p:blipFill>
        <p:spPr>
          <a:xfrm>
            <a:off x="4933800" y="2819520"/>
            <a:ext cx="3762360" cy="2286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53C6-9083-4225-A142-53AB5B36064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E6E5-5BE2-4C53-B54A-86D44F6B661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pic>
        <p:nvPicPr>
          <p:cNvPr id="250" name="Picture 4" descr=""/>
          <p:cNvPicPr/>
          <p:nvPr/>
        </p:nvPicPr>
        <p:blipFill>
          <a:blip r:embed="rId1"/>
          <a:stretch/>
        </p:blipFill>
        <p:spPr>
          <a:xfrm>
            <a:off x="747720" y="2838600"/>
            <a:ext cx="7958160" cy="495000"/>
          </a:xfrm>
          <a:prstGeom prst="rect">
            <a:avLst/>
          </a:prstGeom>
          <a:ln w="0">
            <a:noFill/>
          </a:ln>
        </p:spPr>
      </p:pic>
      <p:pic>
        <p:nvPicPr>
          <p:cNvPr id="251" name="Picture 5" descr=""/>
          <p:cNvPicPr/>
          <p:nvPr/>
        </p:nvPicPr>
        <p:blipFill>
          <a:blip r:embed="rId2"/>
          <a:stretch/>
        </p:blipFill>
        <p:spPr>
          <a:xfrm>
            <a:off x="809640" y="3933720"/>
            <a:ext cx="7800840" cy="924120"/>
          </a:xfrm>
          <a:prstGeom prst="rect">
            <a:avLst/>
          </a:prstGeom>
          <a:ln w="0">
            <a:noFill/>
          </a:ln>
        </p:spPr>
      </p:pic>
      <p:sp>
        <p:nvSpPr>
          <p:cNvPr id="2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6EFD-9659-459D-A8C4-BD3246D4452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55"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6"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57" name="Picture 7" descr=""/>
          <p:cNvPicPr/>
          <p:nvPr/>
        </p:nvPicPr>
        <p:blipFill>
          <a:blip r:embed="rId1"/>
          <a:stretch/>
        </p:blipFill>
        <p:spPr>
          <a:xfrm>
            <a:off x="843120" y="4290840"/>
            <a:ext cx="7537320" cy="163836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F5B7-0377-492A-B20B-143EF045807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6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61"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62" name="Group 9"/>
          <p:cNvGrpSpPr/>
          <p:nvPr/>
        </p:nvGrpSpPr>
        <p:grpSpPr>
          <a:xfrm>
            <a:off x="676440" y="4452840"/>
            <a:ext cx="8181720" cy="1700280"/>
            <a:chOff x="676440" y="4452840"/>
            <a:chExt cx="8181720" cy="1700280"/>
          </a:xfrm>
        </p:grpSpPr>
        <p:pic>
          <p:nvPicPr>
            <p:cNvPr id="263" name="Picture 7" descr=""/>
            <p:cNvPicPr/>
            <p:nvPr/>
          </p:nvPicPr>
          <p:blipFill>
            <a:blip r:embed="rId1"/>
            <a:stretch/>
          </p:blipFill>
          <p:spPr>
            <a:xfrm>
              <a:off x="676440" y="4452840"/>
              <a:ext cx="8181720" cy="752400"/>
            </a:xfrm>
            <a:prstGeom prst="rect">
              <a:avLst/>
            </a:prstGeom>
            <a:ln w="0">
              <a:noFill/>
            </a:ln>
          </p:spPr>
        </p:pic>
        <p:pic>
          <p:nvPicPr>
            <p:cNvPr id="264" name="Picture 8" descr=""/>
            <p:cNvPicPr/>
            <p:nvPr/>
          </p:nvPicPr>
          <p:blipFill>
            <a:blip r:embed="rId2"/>
            <a:stretch/>
          </p:blipFill>
          <p:spPr>
            <a:xfrm>
              <a:off x="766800" y="5276880"/>
              <a:ext cx="4790880" cy="876240"/>
            </a:xfrm>
            <a:prstGeom prst="rect">
              <a:avLst/>
            </a:prstGeom>
            <a:ln w="0">
              <a:noFill/>
            </a:ln>
          </p:spPr>
        </p:pic>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8CB5-7384-4D16-B815-8D02F315DAF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6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67" name="PlaceHolder 1"/>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269" name="Object 6"/>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Tree>
  </p:cSld>
  <p:transition>
    <p:wipe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69"/>
                                        </p:tgtEl>
                                        <p:attrNameLst>
                                          <p:attrName>style.visibility</p:attrName>
                                        </p:attrNameLst>
                                      </p:cBhvr>
                                      <p:to>
                                        <p:strVal val="visible"/>
                                      </p:to>
                                    </p:set>
                                    <p:anim calcmode="lin" valueType="num">
                                      <p:cBhvr additive="base">
                                        <p:cTn id="332" dur="500" fill="hold"/>
                                        <p:tgtEl>
                                          <p:spTgt spid="269"/>
                                        </p:tgtEl>
                                        <p:attrNameLst>
                                          <p:attrName>ppt_x</p:attrName>
                                        </p:attrNameLst>
                                      </p:cBhvr>
                                      <p:tavLst>
                                        <p:tav tm="0">
                                          <p:val>
                                            <p:strVal val="#ppt_x"/>
                                          </p:val>
                                        </p:tav>
                                        <p:tav tm="100000">
                                          <p:val>
                                            <p:strVal val="#ppt_x"/>
                                          </p:val>
                                        </p:tav>
                                      </p:tavLst>
                                    </p:anim>
                                    <p:anim calcmode="lin" valueType="num">
                                      <p:cBhvr additive="base">
                                        <p:cTn id="33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497A-8F33-4865-9446-BF31738BE51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7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73" name="Object 4"/>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Tree>
  </p:cSld>
  <p:transition>
    <p:wipe dir="r"/>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73"/>
                                        </p:tgtEl>
                                        <p:attrNameLst>
                                          <p:attrName>style.visibility</p:attrName>
                                        </p:attrNameLst>
                                      </p:cBhvr>
                                      <p:to>
                                        <p:strVal val="visible"/>
                                      </p:to>
                                    </p:set>
                                    <p:anim calcmode="lin" valueType="num">
                                      <p:cBhvr additive="base">
                                        <p:cTn id="340" dur="500" fill="hold"/>
                                        <p:tgtEl>
                                          <p:spTgt spid="273"/>
                                        </p:tgtEl>
                                        <p:attrNameLst>
                                          <p:attrName>ppt_x</p:attrName>
                                        </p:attrNameLst>
                                      </p:cBhvr>
                                      <p:tavLst>
                                        <p:tav tm="0">
                                          <p:val>
                                            <p:strVal val="#ppt_x"/>
                                          </p:val>
                                        </p:tav>
                                        <p:tav tm="100000">
                                          <p:val>
                                            <p:strVal val="#ppt_x"/>
                                          </p:val>
                                        </p:tav>
                                      </p:tavLst>
                                    </p:anim>
                                    <p:anim calcmode="lin" valueType="num">
                                      <p:cBhvr additive="base">
                                        <p:cTn id="341"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BE47-B237-418A-ACCB-BA3568722E9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DB19-5101-4F89-B048-8C93E4ADC3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9EF1-3A78-4425-85C6-01C9B764888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F8BD-7AFB-4F48-A419-9D75B5D1B75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6855-755D-49C6-BE9E-176ED90A424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8A86-5660-4F81-8624-90B3CE23CAA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26T04:30:23Z</dcterms:modified>
  <cp:revision>139</cp:revision>
  <dc:subject>Survey of Probability Concepts</dc:subject>
  <dc:title>Chapter 5</dc:title>
</cp:coreProperties>
</file>