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8DCD-27E1-456D-8569-351FAEB47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9BBE-3E2B-4C3E-98C7-5431BC97D38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B74F6-C012-4CD2-A8F4-29B0B445CEA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C517-1CE4-476F-A7F4-A8F0E663711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A481-B73D-4EE6-A8CF-53B72D8B693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1529-3B69-4055-AE16-4FD91A79C04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7015B-088C-430D-867E-6905812C90C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01CB-1E9A-4A18-BBD3-B16F41B8225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1D4D-9715-43DA-9F0A-DE449C10788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2DA8-0752-40D9-BB07-FE56A9BF36B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8630-8D6F-49E5-8E0E-6727041ED1D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8F53-8531-436C-BD0D-42B3716FF4F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528E-D140-44A0-AD0C-A6DAEAE88A2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489A-4337-43B6-81F7-90A61F2E36A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A699-9794-4DA6-B61E-7F3FAF43A81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34CC-8858-4D8A-8CAA-98A0667281F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111B-199A-406F-9AD8-CD4713BFF68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375E-F378-4421-AE93-7CA5720062B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124EA-A049-464F-A05A-4BDAD009D17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7028-330C-4BE7-A667-B129349AC3E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F573-82A6-4B3A-8AB5-1B0D171AD8E2}"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96159-DEF0-4F7E-986B-AAB1EAB6F3C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AA68-2875-4784-8D50-FF5FD4797B0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ED21-4340-4D84-ADCE-E8460927639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13F5F-6831-46F2-B004-64FA149F6C47}"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9E69-ED43-4A4E-84F5-09D37F76F02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68A5-BDB9-4DD0-B18E-776BFEB559D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235C8-F257-4D7C-B0C4-C21D165BBB8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5F47-7407-4BD4-84E9-1D6CA5560AD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7F6C5-DAA9-49AC-B819-6712A8F7C6E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96FB-49D1-4D01-8DD9-307E51DC182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C9795-896F-46D7-A9D1-9E2BB79564E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086E-C776-4822-92B4-01EF5200C3D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7307-8B62-4E80-B5E3-CF5A50D01A7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FE40-24A0-470E-98E5-2A6FBA1ACEB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1E8F60-9427-4B3B-B89C-5A65400807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258FA6-E471-4F96-98C3-5EAC4660AD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B32DE8-3540-4637-B659-7F7568E7B5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A3F235-0164-436C-B178-77565DAD5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A22152-F15E-43E5-906C-588AEF9778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5A872E-10C7-4721-8041-E3576A46CD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9829C8-7E07-4F7F-95FB-688FD0F292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F87827-6243-43A4-9489-0A0DC64F72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45B9C6-DF20-4074-99E2-24F68C09C2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3D48DC-EA8E-409F-9FB3-7F4234A20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35AFFE-6AE3-4BFB-8B10-F1D15FE00B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B1692D-DC84-4C13-896C-2288C5D195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CC62-77DD-45BF-BFB8-57D683C94EA5}"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35204-B085-4476-BD8D-66B219CBFC5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8AD5-6294-4A31-AA62-9F31E72D5A9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6"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F1D9-8FF3-4D9F-8BD3-F8413923FDF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9"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0"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C0CE-AFEF-4713-854F-7196058526E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4"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CAE86-C07E-4ECA-A4FD-069083EB1A2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7"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49"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50"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04"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341E-147B-46E4-8959-6682A2B24F4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53"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4"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6F61-5C57-446C-A5AB-29A6E2F902A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7"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8"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111" dur="500"/>
                                        <p:tgtEl>
                                          <p:spTgt spid="157">
                                            <p:txEl>
                                              <p:pRg st="0" end="0"/>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116" dur="500"/>
                                        <p:tgtEl>
                                          <p:spTgt spid="157">
                                            <p:txEl>
                                              <p:pRg st="1" end="1"/>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57">
                                            <p:txEl>
                                              <p:pRg st="2" end="2"/>
                                            </p:txEl>
                                          </p:spTgt>
                                        </p:tgtEl>
                                        <p:attrNameLst>
                                          <p:attrName>style.visibility</p:attrName>
                                        </p:attrNameLst>
                                      </p:cBhvr>
                                      <p:to>
                                        <p:strVal val="visible"/>
                                      </p:to>
                                    </p:set>
                                    <p:animEffect filter="wipe(left)" transition="in">
                                      <p:cBhvr additive="repl">
                                        <p:cTn id="121"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9390C-C224-4A8F-B08F-9A32D9E37EB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61"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128" dur="500"/>
                                        <p:tgtEl>
                                          <p:spTgt spid="161">
                                            <p:txEl>
                                              <p:pRg st="0" end="0"/>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133" dur="500"/>
                                        <p:tgtEl>
                                          <p:spTgt spid="161">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138" dur="500"/>
                                        <p:tgtEl>
                                          <p:spTgt spid="161">
                                            <p:txEl>
                                              <p:pRg st="3" end="3"/>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143" dur="500"/>
                                        <p:tgtEl>
                                          <p:spTgt spid="161">
                                            <p:txEl>
                                              <p:pRg st="4" end="4"/>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148" dur="500"/>
                                        <p:tgtEl>
                                          <p:spTgt spid="161">
                                            <p:txEl>
                                              <p:pRg st="5" end="5"/>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153" dur="500"/>
                                        <p:tgtEl>
                                          <p:spTgt spid="161">
                                            <p:txEl>
                                              <p:pRg st="6" end="6"/>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61">
                                            <p:txEl>
                                              <p:pRg st="8" end="8"/>
                                            </p:txEl>
                                          </p:spTgt>
                                        </p:tgtEl>
                                        <p:attrNameLst>
                                          <p:attrName>style.visibility</p:attrName>
                                        </p:attrNameLst>
                                      </p:cBhvr>
                                      <p:to>
                                        <p:strVal val="visible"/>
                                      </p:to>
                                    </p:set>
                                    <p:animEffect filter="wipe(up)" transition="in">
                                      <p:cBhvr additive="repl">
                                        <p:cTn id="158" dur="500"/>
                                        <p:tgtEl>
                                          <p:spTgt spid="1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581B-24F2-4218-834F-2C467C1C864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64"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6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165" dur="500"/>
                                        <p:tgtEl>
                                          <p:spTgt spid="164">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4">
                                            <p:txEl>
                                              <p:pRg st="1" end="1"/>
                                            </p:txEl>
                                          </p:spTgt>
                                        </p:tgtEl>
                                        <p:attrNameLst>
                                          <p:attrName>style.visibility</p:attrName>
                                        </p:attrNameLst>
                                      </p:cBhvr>
                                      <p:to>
                                        <p:strVal val="visible"/>
                                      </p:to>
                                    </p:set>
                                    <p:animEffect filter="wipe(left)" transition="in">
                                      <p:cBhvr additive="repl">
                                        <p:cTn id="170"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E625-D6C9-4218-AEAA-E7D70BD641B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68"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0"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77" dur="500"/>
                                        <p:tgtEl>
                                          <p:spTgt spid="168">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82" dur="500"/>
                                        <p:tgtEl>
                                          <p:spTgt spid="168">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87" dur="500"/>
                                        <p:tgtEl>
                                          <p:spTgt spid="168">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0"/>
                                        </p:tgtEl>
                                        <p:attrNameLst>
                                          <p:attrName>style.visibility</p:attrName>
                                        </p:attrNameLst>
                                      </p:cBhvr>
                                      <p:to>
                                        <p:strVal val="visible"/>
                                      </p:to>
                                    </p:set>
                                    <p:animEffect filter="wipe(up)" transition="in">
                                      <p:cBhvr additive="repl">
                                        <p:cTn id="19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EE52C-0D15-4937-A91E-54195322F2A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76F3-E6D9-492F-B699-7E848FD69378}"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73"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75"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199" dur="500"/>
                                        <p:tgtEl>
                                          <p:spTgt spid="173">
                                            <p:txEl>
                                              <p:pRg st="0" end="0"/>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204" dur="5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1C12-1792-4C20-A8AD-ED519D10B23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7"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2" presetSubtype="1">
                                  <p:stCondLst>
                                    <p:cond delay="0"/>
                                  </p:stCondLst>
                                  <p:childTnLst>
                                    <p:set>
                                      <p:cBhvr>
                                        <p:cTn id="210"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11" dur="500"/>
                                        <p:tgtEl>
                                          <p:spTgt spid="177">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16" dur="500"/>
                                        <p:tgtEl>
                                          <p:spTgt spid="177">
                                            <p:txEl>
                                              <p:pRg st="1" end="1"/>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221" dur="500"/>
                                        <p:tgtEl>
                                          <p:spTgt spid="1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226"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134DD-4BED-4C7B-93E3-6038A1367F2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81"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2"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233" dur="500"/>
                                        <p:tgtEl>
                                          <p:spTgt spid="181">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81">
                                            <p:txEl>
                                              <p:pRg st="2" end="2"/>
                                            </p:txEl>
                                          </p:spTgt>
                                        </p:tgtEl>
                                        <p:attrNameLst>
                                          <p:attrName>style.visibility</p:attrName>
                                        </p:attrNameLst>
                                      </p:cBhvr>
                                      <p:to>
                                        <p:strVal val="visible"/>
                                      </p:to>
                                    </p:set>
                                    <p:animEffect filter="wipe(up)" transition="in">
                                      <p:cBhvr additive="repl">
                                        <p:cTn id="238" dur="500"/>
                                        <p:tgtEl>
                                          <p:spTgt spid="1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1FB6-774F-47E8-97D3-5A77C8DC1AE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85"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86"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1491-43A5-4B40-AAF3-28DA947D06D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8"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90"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245" dur="500"/>
                                        <p:tgtEl>
                                          <p:spTgt spid="188">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250" dur="500"/>
                                        <p:tgtEl>
                                          <p:spTgt spid="188">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255" dur="500"/>
                                        <p:tgtEl>
                                          <p:spTgt spid="188">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190"/>
                                        </p:tgtEl>
                                        <p:attrNameLst>
                                          <p:attrName>style.visibility</p:attrName>
                                        </p:attrNameLst>
                                      </p:cBhvr>
                                      <p:to>
                                        <p:strVal val="visible"/>
                                      </p:to>
                                    </p:set>
                                    <p:animEffect filter="wipe(up)" transition="in">
                                      <p:cBhvr additive="repl">
                                        <p:cTn id="26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19F8-4945-40D4-AD10-83DE51564DC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93" name="PlaceHolder 1"/>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9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67" dur="500"/>
                                        <p:tgtEl>
                                          <p:spTgt spid="193">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272"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5D61-8CA2-47F5-94FF-E5BA30C4474D}"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197" name="Picture 5" descr="0530"/>
          <p:cNvPicPr/>
          <p:nvPr/>
        </p:nvPicPr>
        <p:blipFill>
          <a:blip r:embed="rId1"/>
          <a:stretch/>
        </p:blipFill>
        <p:spPr>
          <a:xfrm>
            <a:off x="1638360" y="1695600"/>
            <a:ext cx="5781600" cy="51019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C6F7-8A33-4E49-8316-937592659A1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20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02" name="Picture 6" descr=""/>
          <p:cNvPicPr/>
          <p:nvPr/>
        </p:nvPicPr>
        <p:blipFill>
          <a:blip r:embed="rId1"/>
          <a:stretch/>
        </p:blipFill>
        <p:spPr>
          <a:xfrm>
            <a:off x="685800" y="4776840"/>
            <a:ext cx="8172360" cy="790560"/>
          </a:xfrm>
          <a:prstGeom prst="rect">
            <a:avLst/>
          </a:prstGeom>
          <a:ln w="0">
            <a:noFill/>
          </a:ln>
        </p:spPr>
      </p:pic>
    </p:spTree>
  </p:cSld>
  <p:transition>
    <p:wipe dir="r"/>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279" dur="500"/>
                                        <p:tgtEl>
                                          <p:spTgt spid="200">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200">
                                            <p:txEl>
                                              <p:pRg st="1" end="1"/>
                                            </p:txEl>
                                          </p:spTgt>
                                        </p:tgtEl>
                                        <p:attrNameLst>
                                          <p:attrName>style.visibility</p:attrName>
                                        </p:attrNameLst>
                                      </p:cBhvr>
                                      <p:to>
                                        <p:strVal val="visible"/>
                                      </p:to>
                                    </p:set>
                                    <p:animEffect filter="wipe(left)" transition="in">
                                      <p:cBhvr additive="repl">
                                        <p:cTn id="284" dur="500"/>
                                        <p:tgtEl>
                                          <p:spTgt spid="200">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02"/>
                                        </p:tgtEl>
                                        <p:attrNameLst>
                                          <p:attrName>style.visibility</p:attrName>
                                        </p:attrNameLst>
                                      </p:cBhvr>
                                      <p:to>
                                        <p:strVal val="visible"/>
                                      </p:to>
                                    </p:set>
                                    <p:animEffect filter="wipe(left)" transition="in">
                                      <p:cBhvr additive="repl">
                                        <p:cTn id="28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1785-CACF-4F50-ADB6-9B7D8D109CF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20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206" name="Picture 8" descr="0532"/>
          <p:cNvPicPr/>
          <p:nvPr/>
        </p:nvPicPr>
        <p:blipFill>
          <a:blip r:embed="rId1"/>
          <a:stretch/>
        </p:blipFill>
        <p:spPr>
          <a:xfrm>
            <a:off x="990720" y="2057400"/>
            <a:ext cx="7686720" cy="41814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44F7-3D24-4D50-8B9E-DE45570C283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09" name="Picture 8" descr="0533"/>
          <p:cNvPicPr/>
          <p:nvPr/>
        </p:nvPicPr>
        <p:blipFill>
          <a:blip r:embed="rId1"/>
          <a:stretch/>
        </p:blipFill>
        <p:spPr>
          <a:xfrm>
            <a:off x="743040" y="1924200"/>
            <a:ext cx="8096040" cy="44193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2BB3-102A-42BC-B5DE-BC5AE031B63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81E2-45BA-4751-AD8B-E92915DA1EC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12" name="Picture 7" descr="0534"/>
          <p:cNvPicPr/>
          <p:nvPr/>
        </p:nvPicPr>
        <p:blipFill>
          <a:blip r:embed="rId1"/>
          <a:stretch/>
        </p:blipFill>
        <p:spPr>
          <a:xfrm>
            <a:off x="533520" y="2457360"/>
            <a:ext cx="8372520" cy="35434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015C-D866-4E4D-A170-63A83A2066E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15" name="Picture 6" descr="0535"/>
          <p:cNvPicPr/>
          <p:nvPr/>
        </p:nvPicPr>
        <p:blipFill>
          <a:blip r:embed="rId1"/>
          <a:stretch/>
        </p:blipFill>
        <p:spPr>
          <a:xfrm>
            <a:off x="762120" y="3067200"/>
            <a:ext cx="7943760" cy="228600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F4C9-3C3C-401B-8685-3A449976C1A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218" name="Picture 5" descr="0536"/>
          <p:cNvPicPr/>
          <p:nvPr/>
        </p:nvPicPr>
        <p:blipFill>
          <a:blip r:embed="rId1"/>
          <a:stretch/>
        </p:blipFill>
        <p:spPr>
          <a:xfrm>
            <a:off x="1162080" y="1676520"/>
            <a:ext cx="6838920" cy="51418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EE2F-D09B-43AD-8C10-D3B5BAD0E2A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221" name="Picture 6" descr="0537"/>
          <p:cNvPicPr/>
          <p:nvPr/>
        </p:nvPicPr>
        <p:blipFill>
          <a:blip r:embed="rId1"/>
          <a:stretch/>
        </p:blipFill>
        <p:spPr>
          <a:xfrm>
            <a:off x="1066680" y="3143160"/>
            <a:ext cx="7277400" cy="202896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E641-1E43-4022-B494-ECBC4688C34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23"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3AED-964C-468F-8D29-55B2CC38B9C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685800" y="1619280"/>
            <a:ext cx="8077320" cy="48387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E018-CD19-47FC-83EA-43F360D55F6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5120"/>
            <a:ext cx="7693200" cy="4952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xperiment</a:t>
            </a:r>
            <a:r>
              <a:rPr b="0" lang="en-US" sz="2800" spc="-1" strike="noStrike">
                <a:solidFill>
                  <a:srgbClr val="4db14b"/>
                </a:solidFill>
                <a:latin typeface="Arial"/>
              </a:rPr>
              <a:t> </a:t>
            </a:r>
            <a:r>
              <a:rPr b="0" lang="en-US" sz="2800" spc="-1" strike="noStrike">
                <a:solidFill>
                  <a:srgbClr val="003366"/>
                </a:solidFill>
                <a:latin typeface="Arial"/>
              </a:rPr>
              <a:t>is the observation of some activity or the act of taking some measur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eriment A process that leads to the occurrence of one and only one of several possible observations          </a:t>
            </a:r>
            <a:r>
              <a:rPr b="0" lang="en-US" sz="2800" spc="-1" strike="noStrike" u="sng">
                <a:solidFill>
                  <a:srgbClr val="ff0000"/>
                </a:solidFill>
                <a:uFillTx/>
                <a:latin typeface="Arial"/>
              </a:rPr>
              <a:t>(</a:t>
            </a:r>
            <a:r>
              <a:rPr b="0" lang="en-US" sz="2800" spc="-1" strike="noStrike" u="sng">
                <a:solidFill>
                  <a:srgbClr val="003366"/>
                </a:solidFill>
                <a:uFillTx/>
                <a:latin typeface="Arial"/>
              </a:rPr>
              <a:t>Reference 14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outcome</a:t>
            </a:r>
            <a:r>
              <a:rPr b="0" lang="en-US" sz="2800" spc="-1" strike="noStrike">
                <a:solidFill>
                  <a:srgbClr val="003366"/>
                </a:solidFill>
                <a:latin typeface="Arial"/>
              </a:rPr>
              <a:t> is the particular result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 </a:t>
            </a:r>
            <a:r>
              <a:rPr b="0" lang="en-US" sz="2800" spc="-1" strike="noStrike">
                <a:solidFill>
                  <a:srgbClr val="33cccc"/>
                </a:solidFill>
                <a:latin typeface="Arial"/>
              </a:rPr>
              <a:t>event</a:t>
            </a:r>
            <a:r>
              <a:rPr b="0" lang="en-US" sz="2800" spc="-1" strike="noStrike">
                <a:solidFill>
                  <a:srgbClr val="003366"/>
                </a:solidFill>
                <a:latin typeface="Arial"/>
              </a:rPr>
              <a:t> is the collection of one or more outcomes of an experiment.</a:t>
            </a:r>
            <a:endParaRPr b="0" lang="en-US" sz="28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4">
                                            <p:txEl>
                                              <p:pRg st="3" end="3"/>
                                            </p:txEl>
                                          </p:spTgt>
                                        </p:tgtEl>
                                        <p:attrNameLst>
                                          <p:attrName>style.visibility</p:attrName>
                                        </p:attrNameLst>
                                      </p:cBhvr>
                                      <p:to>
                                        <p:strVal val="visible"/>
                                      </p:to>
                                    </p:set>
                                    <p:animEffect filter="wipe(left)" transition="in">
                                      <p:cBhvr additive="repl">
                                        <p:cTn id="85" dur="5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67DC-DEC3-40C7-B668-C929391F192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6F8E-455D-496E-B5AF-17B7E7A0AF7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1378-CA89-4016-9D54-BBCA9E14A3F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    </a:t>
            </a:r>
            <a:r>
              <a:rPr b="1" lang="en-US" sz="3600" spc="-1" strike="noStrike">
                <a:solidFill>
                  <a:srgbClr val="ff0000"/>
                </a:solidFill>
                <a:latin typeface="Arial"/>
              </a:rPr>
              <a:t>(Page 142)  </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C462-F265-4F78-995A-187454B1AFE1}"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5120"/>
            <a:ext cx="7547040" cy="41148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r>
              <a:rPr b="0" lang="en-US" sz="3200" spc="-1" strike="noStrike">
                <a:solidFill>
                  <a:srgbClr val="ff0000"/>
                </a:solidFill>
                <a:latin typeface="Arial"/>
              </a:rPr>
              <a:t>(Page 142)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92" dur="500"/>
                                        <p:tgtEl>
                                          <p:spTgt spid="128">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09:56:39Z</dcterms:modified>
  <cp:revision>150</cp:revision>
  <dc:subject>Survey of Probability Concepts</dc:subject>
  <dc:title>Chapter 5</dc:title>
</cp:coreProperties>
</file>