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BEA5-CB82-4A79-BF7B-6F9550C3F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6F21-9ABA-4110-B4FC-EC88E83E34A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ABAF-3728-482F-B55D-9D58F9D516B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8CDF-608B-4D25-AE45-BF79F0CC7F7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DDB2-C162-47CC-99BC-391732EFB4E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2A40-3C21-417C-9EBF-46A323D6448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EC61-FE3E-4C59-9ED6-7B3E68B1A09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C0DD-E3E1-4319-9B01-A245ED6D5EC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7F1D-C6FE-446B-A750-D2C4E037AC4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75E0-BA77-4FE2-A340-92830C5D6F4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51D8-15E1-4222-9B7E-515FD1E7B6B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6549-427F-4FA2-98F5-CF3A8C9FBB2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D83E-DECF-416A-AD3F-1EEFDCB53FD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186B-EBD2-4424-B50B-48AC13349FE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CD34-9424-4B66-B0D9-00BB70142A5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1674-545E-4BB7-851D-818B7DB03BA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20D6-FF8B-4157-A0C3-46866672580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6738-4BA1-47D7-80AD-24ADCED86FC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0F6-6901-426C-B489-A1C23F652AB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F0D7-9826-4F0F-8C52-E2F32BBFDA7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1F0F-4B58-4187-AD7A-D029FAA6574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B136-03AA-472B-9186-646AFB28CD1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6FA9-38C4-4F7F-A476-E15C316A734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2F84-F8FD-4A7F-8514-0F50101487D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4B42-EBD9-4917-83A7-6AB7E577A7D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140F-28A9-4250-8C13-8110A773BBB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9B4598-0E0A-4718-B1C2-0B6BF6495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F49883-19DD-43DE-8C1B-4AFA81471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DC0D4C-A798-4A97-91C6-74B2416F91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4EF26F-58C8-4FA5-AB02-E759D556D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5123A-A114-45AF-AD8D-CB79812B5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3D7A3-D9B3-4E90-9CB1-6DFF45DC66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97F41-FF54-4162-870D-8743B018A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D8DB1-A4DA-4912-8588-B6AB160FD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9F959B-3A4C-4D41-8A7E-3E8B26E700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CF8F42-7DA4-43AE-9C57-C2F7B725F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5C7702-5C90-4B92-96D9-AF7277C55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25045-B794-46EF-99AF-BD41F8044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14E8-E295-4F87-8757-E7C1D979E4D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38D4-002F-4159-8B58-EC0DB22DB2C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C0A1-D482-45C5-8D3C-EFF53C6263D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8D0F-5135-4BC2-9942-6DFAA0D57DC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BA91-91A0-4F7A-8FA6-642E2406068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F3D2-CE74-48B3-AF82-A3244BF68C1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CCAA-8F9C-4BB8-92A2-AA0E5D495B9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F17B-BBE7-4168-9D1B-A4C5CA8E639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2C13-0C2C-4864-A595-DB584596199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250C-3E41-4A96-9F2F-5F23D8FE508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13FB-0286-4A7C-A97F-EA890B1E08A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3161-2FFE-42FC-85B3-E5D30ACF037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EACF-0283-4B03-9AA4-F6642EFCD40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4A0E-933D-4FDD-A22E-481BFF7A3CE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0321-2C74-47F4-AE11-54AB6D05D9C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8202-6AAE-4144-BD50-084CC3F5FCB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B049-8FFB-4A18-90BF-D8E8D456B86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6462-0783-4672-83DB-171CA16AA94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8833-E4ED-4B14-9200-92DD1B63E99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46D1-322D-40A3-AA38-5FF4B693272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A4F7-2C2A-41B1-81C7-BC34D225F6B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6035-3D8E-445D-B5CF-72FF77DFA33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727D-5B24-4292-B3E4-0CF191D10B7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DA5E-FE32-4DE1-8F84-1711B1A8032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58E3-12E8-44DD-B8E9-A8B16D3C935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1:14Z</dcterms:modified>
  <cp:revision>152</cp:revision>
  <dc:subject>Survey of Probability Concepts</dc:subject>
  <dc:title>Chapter 5</dc:title>
</cp:coreProperties>
</file>