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26F9-DD30-4A84-9E2C-2C79C8AFB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75E4-D099-4EF1-84C7-2B52CE13E25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0E75-4034-4CCE-AC3E-B511EC56FD06}"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E368-8F52-49F7-BE52-28EFEC54A00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30B7-D9CD-4311-BA89-1C26137EF01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85AF-B90F-4AE7-BB18-1BFEEBE844B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68E1-52B1-4B4D-A71E-B5EADA24BB6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8545-1E4A-4BBF-92AF-05763913380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002E-0095-4DAF-9F70-7F10D0EF77A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2ED1-A8E3-4DF8-B663-E24E98220AD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DD42-EAE0-40EB-ADBE-E8562F031AA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F489-D7F5-43B3-8C77-A073FF97A82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7F00-9BEC-4581-A8F0-558DA39A20B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F0EB-1A48-4C76-88F0-19407A59F4D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B7C5-4A4E-4451-9D64-F78D9DB643F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243F-78D1-4571-991C-6731F857E10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1E3E-86C9-4CAF-82E5-2A42C0F2959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F124-5E33-4581-BB03-E60CF6D545E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4086-FF11-4E92-B34D-6B848174AE1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B850-FA22-4827-B650-93CAC3560C5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8688-81B7-449B-A750-9896E2142B4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1EC4-C980-4BCB-971E-F7641C2DC81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1F27-D91D-4F67-B044-41EF9BCD66F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59ED-D258-420C-8462-50885D503C4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E9BA-BBA2-4127-BB4E-4C855B546FB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2E57-2C7B-4ED3-964B-3E3929304B8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47D912-2B67-49D6-8FCB-9BF69642DF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50741B-9BCD-44A6-B7EC-C76C3A28A5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2D657A-0126-4174-8C41-CB605ABDC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2A3009-D0EB-422A-B9D3-338CDC5F6C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A1E28A-7837-43C3-BED7-E23DC8DEC2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9617FD-108E-4C97-85C3-F7901DA38A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D3EA28-8084-458F-B4CB-F662B32750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1016EB-0567-4BE7-A15A-E5174146D7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684FEE-EC73-49B0-8AD2-B93BAACC1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62C222-AE2D-4B6B-BBC6-DD6A5EB604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F698EF-9AC6-422F-ADCE-6D8DD71DAA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376865-E005-4878-9941-81E3BD23C0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8906-C252-46FB-AFBF-EEEBBD41FC8E}"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B795-B926-417E-8D8F-C7030B5B5E6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74F5-8C04-47DD-8D50-A137EBA4A53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982F-8C5C-4C80-9ABC-AD37A477CAD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3C63-93D5-4114-A8CB-E3DAB954126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DE97-6A45-456C-AD66-27BBDE41864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465F-B1AD-4269-9510-E8B80664BA3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04FE-0DA0-4D89-A07A-21687DC8375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7C0A-012E-4A3B-8969-5375852E037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E1A3-3EC2-41A9-89F3-66D73A75ED2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BAB9-26C5-4D7C-AF8D-3CF14F9AF6D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6FCE-7E9D-4A8F-A7D6-981B90E7996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5845-317A-4DDB-9ABC-2762C5393BE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BF67-9CA3-4E44-8944-1C128A19353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1F57-5AD3-436F-A34C-AECD634DE74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6989-EE85-4FE8-A787-B0608DF99EA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5E75-7BAD-456C-B394-83A07881C19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ED0B-F51D-46DB-8BDB-1AA323DF084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F152-2480-445D-9786-C010BC625B7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40CF-720A-4935-A573-E447AA8AC49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3677-3912-4DEF-9ABA-CB0F462B4EB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1A77-AEF0-4EE7-81A9-0417716000C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258A-105B-490E-AEB3-C8870A30B7F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7AB6-936B-4926-B59A-EEA8C1401A8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41D0-0504-4E78-8862-43DE7275C59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8:31:14Z</dcterms:modified>
  <cp:revision>152</cp:revision>
  <dc:subject>Survey of Probability Concepts</dc:subject>
  <dc:title>Chapter 5</dc:title>
</cp:coreProperties>
</file>