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E4B1-0696-449C-94AE-8A22563AF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FD6B-D773-45D2-8D00-7B8537C8E92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13C0-1CE1-4448-86DB-FC45A625D17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BD0F-D556-4823-AB13-3AAA0BB6E2F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68E7-BA89-4E94-BC9B-4E399E635FB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C0DD-58E3-4109-9279-C84B1A4F22F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3AF2-659E-4BEA-A4C3-050B451110A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D4F9-B307-4769-8B3E-8F0ACAF2C15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9C9D-031C-42E3-A4AA-9BDE4D6B6FD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88D8-34CC-4D38-9B65-85B32297955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8B04-CCB0-49BC-B09F-0B8265F0FDC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790E-995A-4C19-9F3B-BB921B0CC64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0FA9-51E5-4B97-BDC0-4FF7EE71807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95AE-C0D7-4BC5-8F30-BF039D84D91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1AE7-9BD1-46CB-A4AB-E0FC450FAA9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70BD-5225-4DF0-9EDA-BDE96D8D7EC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8A14-CC7B-4999-B032-80F2C0B4A06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F1C9-14F3-4256-944B-4FD53467AE4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650B-FDB5-4D8B-8831-C72403D857C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A3A1-EDAB-4FE5-B796-46E3F43F272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7B65-C328-464F-A57F-7440D509B7F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1FBE-4A12-4942-A4EE-F5D2C3250D3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9AA9-8615-4C6A-9FA6-0EDBE919503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4531-349C-4016-8EB9-AF076FC9E35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B1D8-031B-4E89-82E1-79670FD4D53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53ED-7E3F-47E0-8571-DDF58F75A48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8EB935-B384-41FE-B792-0B49E2A90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A6D263-0570-4AAA-9782-6AE89ED2BD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2BB930-C1F0-44C1-B04D-425E567ED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8C194F-FD92-4C54-BCD9-8CEE7D65BA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5C6474-5EBA-4A75-87A3-9B5644122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5C2350-908C-4802-B339-66C82671E9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7AA25D-33B3-46E3-BD26-C9858125B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0930E0-D354-4300-87CC-5E94B2AB86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0F4CE6-2C27-45C7-BF36-D10B31E2D6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7F5A3-2D3A-48F9-AF20-2BB1B42CA3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FF81E-836B-44C5-A69D-C998A7A98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26BB92-D506-4294-80DC-2F44E2883C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29E6-9BA1-421C-B60F-C6B6BBED048E}"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E264-EED0-4895-9694-741895B5821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C330-F328-4EAE-8054-D3A7B291727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9AA1-7FAD-42C7-A5CD-44AB0268CFD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93B0-D17E-47EC-9888-6ABFF41CE72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5F06-6B6C-4626-9010-6BF50BE6DDD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0564-3CB8-4ED5-87A0-5BD7B4E98E9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FD11-128A-49BB-B8C6-D5344B84BC4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5CD0-7126-41A7-8851-10539E1BD99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01D3-703B-4AB7-AA7B-DDE1EC6FE54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6806-A1DC-46D9-BF11-5D280B62980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A97C-5BB1-40B8-A1B0-4DACEB7A1A4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DA8B-75B0-47EE-9571-A588F529A7D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1576-2518-48B9-AA30-55BF9BA0C04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2EA7-EA72-46C3-BA0D-CBACE1C5689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A010-71E2-4BEB-9E2C-5A3E046A2F5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BB9D-C590-4D8F-8B4E-D2F8D33BDED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86AE-FC3D-41A0-AD92-55D0D3A3AA0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DF07-CA98-4115-A203-6C9AC6B89D3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44C4-8796-4D1D-84D4-8E37A93D72F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9221-E396-459E-9C4A-B4F8F970CED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08C9-460D-45E4-97DC-8AE23B377CE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2AD0-7DC2-4397-8B8F-4F3B024EFD9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C020-3527-449C-9E73-E2A6767CCFC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F159-0654-4F3A-BBCF-EAA63DDDE4E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3:58Z</dcterms:modified>
  <cp:revision>152</cp:revision>
  <dc:subject>Survey of Probability Concepts</dc:subject>
  <dc:title>Chapter 5</dc:title>
</cp:coreProperties>
</file>