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6D76-CBAD-40D7-9219-F733915C4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081B-FC25-4DC8-8814-931844912A6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2798-73E5-4497-9B38-777A5844625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3B6A-DDB6-4DC6-97AD-0252BFB59CC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E2DA-06F1-4084-BC7B-914596C9A02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9577-0CAD-41FE-8860-3396C694CB8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B625-287E-4775-9AA1-E1E5DA7D63A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2591-1FB0-41FD-A0B7-DF5440D4183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E5C2-C308-4A5B-87D6-713D4FA024D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51A7-5658-4D9D-9CCE-081BC7E12D3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5ED2-5352-4963-B6C2-6AA0AFC4414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1CD2-CF17-4555-BAE4-848840E6509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1D33-F73D-4162-8D1A-52F6D1DA911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57D7-5CB7-4411-A82F-BD9A2FCECFC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E1BE-07D4-455A-B89E-3DA6872176E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8696-048E-457A-88D7-7E448DD7F0D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F73F-8499-4877-AFF3-3C4E2D6CF23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0AE9-6191-4E17-9C6F-9B0FE6167ED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192A-5BB4-44A1-8BD8-07CDF02D1C1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182B-8EF1-4512-B24E-79847604FFC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14F4-CED2-4986-B887-D9FC68747A3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F675-7906-4796-9085-ED1B8C735D3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1E96-C690-4713-9F30-6A82CA779B6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7509-B291-4A88-97DD-0E029065314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68B0-64F0-4DD2-AC73-10F55C00B02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04C7-48D4-4AF4-AAE1-7491E7A9119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476471-041A-4EAE-8946-CBC576B4FB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B76EDB-567B-405B-88B3-8058AA2345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F1E31C-2529-4D42-AE18-804377678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30BA25-8857-4F3A-B3BE-FCE97DE855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73EFB4-CABF-4443-8671-B3F078BA2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E076FF-BEDD-43EC-894F-C672BE74E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2FB2AF-212C-43D2-9D65-BABE83C1D7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1E1295-1B09-4ED5-9937-E13FAF449E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D373AD-658F-4419-B9CA-EE08F9C51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40CC6-9973-461F-8A74-A8C6CE0E11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61745B-F595-4D76-B864-70C049AA98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4E9411-F656-4E2C-B84F-DBC9DC933D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34E7-DF80-4654-831D-647D54B0FE08}"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89C2-EB09-4833-B65F-9951717B584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20D5-3565-4D0E-89B2-D476F7F573F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CD9E-79F9-403C-8903-0C6D5511F53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B935-7D0D-4F93-AB39-0E39B8808BD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F885-BE17-45FC-AB3E-C617D54B4EA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9072-E844-4F04-A48A-D4FBA7063DF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8FD0-6BB3-4DCD-A579-0DE9F5DED7F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BD4C-38E1-4A1E-ADB8-4F724726337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C24E-7D92-486A-81FC-A29FE28281D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B356-A286-4883-91F1-45A4E002752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B81A-3A16-4D45-8FF3-6646C36DB8B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B47E-9B36-42B6-876B-92A5E14A320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C07D-88ED-41F5-9FB5-3A5EEA1D57B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7C8D-0586-4290-A99A-5F0DFE851CA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46F9-CD8D-4564-BC28-B7A1DA46F53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1017-C0A4-4D7C-BFF5-1894640C681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CB5D-1358-4069-9D2B-21AF7265BF8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15E9-BA1B-4E41-B58D-6086F44C808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9206-3D46-4567-AE1B-90E60D5532D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265B-D46D-4C77-AF27-3C196D9482C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1807-00D7-4743-ABE7-E684B99FE90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6EFC-2D47-4EAD-B7B3-52EDE82F645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0D87-1E78-4F59-B9D0-58E8B771D2D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9657-9F81-4507-B445-981DC556564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3:58Z</dcterms:modified>
  <cp:revision>152</cp:revision>
  <dc:subject>Survey of Probability Concepts</dc:subject>
  <dc:title>Chapter 5</dc:title>
</cp:coreProperties>
</file>