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9226-0577-49B9-B309-A52933D8A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B676-3897-40AA-AC84-D345B03AD83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7D5E-A3B9-4093-8DBE-F043697DD03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2A36-F5B2-4BDF-818E-F49B177DDD0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49CF-6C21-4B07-9E59-1129099B334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5049-ACAD-40AD-A5DD-930E922FF80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2C31-0983-4194-BB8F-AC8871BBF51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93EB-3F9A-48D1-A8CD-8F00F8A3FD2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CA75-2846-4045-AD4C-2204C8F71A5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2EFE-C723-4C45-879A-A84A645E290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F83A-1B16-4BCD-A10A-96C0D0A3E77A}"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101C-C626-46D3-996C-58D671D92DE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DAD9-C79E-4315-A99B-F3DCC5308F1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5214-AF61-45D7-A703-B9A8989A745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0E2F-1684-4F5B-B7F7-B59B33CA344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2544-56BF-46E9-B252-60AF412572A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7529-2A19-40FE-8036-8CA51DE47BD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CE14-A297-473A-9A0F-56FF5588619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B8B7-09C3-4893-A607-F2B623DF33E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108B-6987-459A-92BD-81CCB164F43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E2F7-3A6C-4DA0-9E92-260FDAA1ADD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1A99-759C-40EA-A9A0-1A34D341C88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7A12-A971-4F7B-873E-A066473A056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AF25-2060-43EC-AB65-04C9894B4C4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7986-577D-4A0F-A15D-500EAB26015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B0E5-555E-4839-98E4-A175765D53C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FA35B2-4C8E-47C0-8049-1444584AB1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0FA8B4-F221-4B4B-BCD8-60CBEE5D70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AE23B4-5FBC-434D-A125-2F0B60E350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7CC134-C6C1-4E97-B5A4-8E07DACC21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406611-011B-41FC-B8F9-44511EDFE8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B71CF0-09B8-4608-A658-AF6C7A62F7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C10175-4CB4-4B30-9230-B83BA41E86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63D8CF-BF20-448E-BF80-9400860C9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C40370-62CB-4110-9583-C704A0609A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4EAA9-B0EA-47BE-A996-A88EC37ED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38A04-B9BA-4DA4-BD47-BF3E73EFA3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5930AD-021C-4995-AFBC-13D0160B52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035B-F83A-4AF0-B0F4-1194AA29519F}"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1428-8A44-43CA-9805-0C282E08A21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5F59-17C6-4FEA-89F7-54461D7737C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3CD2-8DD0-4C96-B2DD-1DBD6ED8786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40CB-697E-4F78-858C-521E6242016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792D-6AE2-4C04-AFD2-7A75A547857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0300-3E7B-4799-813E-B2AADEE06FC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7DD5-AC67-4808-AFFF-790858C5743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8ED9-4921-4F92-9FD9-6A1AA404063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B6B4-BD21-430D-958C-E4F35B05038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6EC3-C405-466D-870B-86A83F7F639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F977-2784-4C67-9DB3-2FF951DDC6C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FC26-5F2D-479C-88E2-FF727C6F867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741F-879F-4884-875F-304473545CC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DB10-D94D-4BEF-B75B-B8A9DA89395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5515-7627-4CA4-82FC-93688AED98A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07DA-DAF0-490C-AD7B-4361DB21230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0A06-03DE-4356-87EE-E2CE57CEB43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AF8C-4A49-485C-A555-72ED69BC3B1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8894-F84E-47B1-A3EE-F0DEC687B38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E2D3-5761-4136-9A1B-A728F6E9726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1417-8FEF-4839-AADB-1A0AD5F08CC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4B4B-F5E9-4AB2-B9FD-A64CF12B498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E705-5BBF-46C1-8DC7-CE4E0CA955B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09E3-4768-468C-9994-CCB93181136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3:58Z</dcterms:modified>
  <cp:revision>152</cp:revision>
  <dc:subject>Survey of Probability Concepts</dc:subject>
  <dc:title>Chapter 5</dc:title>
</cp:coreProperties>
</file>