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9AC5-CAE1-4DB5-8ED4-9B5FCE876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6C15-3A62-400E-B28E-278BDECE3EE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9EB6-99CA-4675-9D17-5E9280E81E9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F673-0D0A-4B3C-A3CB-A12CE508224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B015-BF90-4DB8-A89B-BB354867212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13DC-BEAF-4732-960F-BDF2C4B5587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82F9-743E-4045-882A-E5F29075D94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20E2-BBC7-4522-BF2B-97C4B7CDF28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7B51-6BEC-4CEC-A86C-FB48D508E41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7FFC-3434-4049-83BA-90158BA7B84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102D-1B3D-4103-BD07-E0F465E8EA1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BDF9-E29D-4DCA-A790-4FE0B30BE56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158D-E1EE-4C23-90E0-E32EE08EA64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FB79-4BC1-4A75-9B0C-F279EACCD9F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5E79-EDC9-462D-8579-5B2354E126C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2464-333E-493F-B033-E50413E0506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8864-34CD-49B3-99DD-EA2131A1300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C879-3C09-4CF2-AD63-273CEB203F8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724D-3D02-42C2-ADC0-952815FD543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1462-9D5C-4491-8AAF-75531A5804F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6529-841D-44EE-B6A7-E64278D8E61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188F-6F51-4198-8326-46FA61ADEA2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3981-F24B-4D92-8887-2C7A6D00679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667D-9F17-4F30-9298-B188ACEC661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2A3E-6819-4058-9B14-997C8A02806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34CC-98BB-4CEB-B241-F41A97733F4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5D1664-A04E-4B57-B321-BD3F4F68B3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D2B5B0-422D-4E1E-B859-30AD489B23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089405-F0D9-4A84-A1AA-2270317B94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AD368F-53C9-4DC3-BDCA-E2D03BF26B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C1E2B2-F28E-4105-A8C2-3A1130F715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955F63-C5B4-4773-ABB7-A19563F0F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5F6C98-E035-4692-9230-D183F0E4D5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8831C-1B7F-4709-A894-65CF365A9B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8E9677-0C9A-47C8-91E1-7AA09F9B5D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A300B-7B27-47BE-A757-838FC047EC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9D1746-1C72-4331-80C7-F294B318E4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02715C-1F52-42EF-9688-74BCC8390D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D883-D1C7-4877-9FFE-B621E54F7EE6}"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143F-23EC-41E3-9136-9FE89BC163F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D3DE-33DC-4B09-A3FB-56B948C9E75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53B2-292C-4CCF-8948-3BD5B833481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B81F-AA68-4283-BB47-3752FE1819A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5224-0275-4AAB-8433-8A320209BDA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FD61-E23A-4E61-B10B-721D9EFC328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04A4-1C5D-4AA3-87B8-7F19EC4EC42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7CC2-E34D-4302-B0AF-FBCC30D0576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6D1A-3BD8-4044-B336-B775774850D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6759-73C5-4B84-8B4D-A0EE964A3C9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D29-325E-4D3F-9CA1-42E1CB6ED6F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9DB7-B4E8-407F-AB31-4CA0E9F2881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46C7-1BC0-4E7A-A280-DE89296C2DC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933B-9F85-496C-9AB9-37ABBC7F331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1931-399D-4AAB-ADCD-FE02046F454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B984-89C0-479F-A151-8666B4C2733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FC83-BE2F-4E33-81E9-A9ACBF6F919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9300-292A-4383-87E6-A6AB1873FEC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CEA3-D0A2-4EDD-8DC2-F6FA572F1F0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8F0B-F859-472C-8B8B-B189AE041A7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99D5-A8EB-428E-B870-068AF95E466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E22D-51D1-4F80-8802-6D6025E2663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C6E5-4EDD-4D29-9300-69BAF6C6190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1FD3-A322-4039-9F49-F558286A4AA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3:58Z</dcterms:modified>
  <cp:revision>152</cp:revision>
  <dc:subject>Survey of Probability Concepts</dc:subject>
  <dc:title>Chapter 5</dc:title>
</cp:coreProperties>
</file>