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56CF-3FF3-4F88-A780-296F9D737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026F-36E8-41D6-BD59-B1407BAC45C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D035-169B-43B8-AAC7-E8AA9F69979A}"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C1FD-CBA6-4AE8-9091-AED561D2C9C9}"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D5B8-3B41-44AE-942E-BD97DFBBFA9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E064-AEFF-4F1E-AB83-92C1C3C3ED2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D127-2158-4D50-A267-1EE3A1E4FB86}"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8704-8831-44F5-B43F-3272242BA21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90AE-7AFF-40B1-8753-A304080C8CD8}"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B001-3A59-499F-925F-36DE27877026}"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9418-7F88-47C2-9960-0A96C77A377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3E4A-1B0E-4192-9335-2752121570C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FD0F-ACA8-479D-B61E-482154E2C1A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D042-15A5-41EC-9B1D-F097CEFD748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0374-ED15-42E2-82F3-B3829AFE77D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572E-AF2D-436D-A98D-E7115A78442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DE6B-924A-4D71-B9B8-E7C926569DF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9B19-F846-499C-AEB9-954476C6F62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F908-BAE2-48B3-8AC4-3957E82D4AB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D72C-E2DF-4014-BEB3-A46CE907754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C47A-D15B-4716-87A4-021F182932F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FA289-3A52-44E8-B7A2-A4B9F3611AF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6367-B119-484F-BE77-41F73DF22CF9}"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517B-9D11-4DF2-9119-5095A87045DA}"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889A-2590-4996-B4E3-C3E70BED7A3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71E5-B10C-4FC6-B2A8-95924C28C1C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D20DC5-EE59-4004-A77E-1745CE6FE6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DD78D0-0B16-409D-A8BA-100E6F6380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C6C4B0-C44B-4D4A-B82F-4653F993F2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EDDE18-AAC3-46D9-B22B-04D0F81C48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625AD3-C0D5-4F4E-A9F3-E797CACD6B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6548BA-56F2-4058-A2A5-8D87E3588A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11C79E-73E8-481D-AE76-4738BF2F07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95E168-7B44-4EB0-9D1C-3F30018ACC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F3AE9B-C7E4-40BD-A18E-C1BB6BF31A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22A5F5-435D-4F81-9710-8C76AD88FC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6A582C-824D-4EAE-8C2E-1568AD0809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DC3194-FD3F-41DA-A4BC-701BFC7CC6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8B62-EA23-430E-99E4-D3B93D72357D}"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BA75-24BA-4E47-A9C7-05BAE37053E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8214-F176-482C-9BB6-297D2FE10F7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6"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4557-2FE0-4CFC-BC20-C9CFB478FC2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9"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0"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150E-84CE-4BE3-849F-E238F08A126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4"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314C-DF2F-4147-8139-D59F26255F6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7"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49"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50"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4"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013F-A02F-4FE0-AAF8-6A7051503D2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53"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4"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3ABA-6F61-4DAF-8D37-8DAEB27F3DC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7"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8"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11" dur="500"/>
                                        <p:tgtEl>
                                          <p:spTgt spid="157">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116" dur="500"/>
                                        <p:tgtEl>
                                          <p:spTgt spid="157">
                                            <p:txEl>
                                              <p:pRg st="1" end="1"/>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121"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A85D-1AD4-4534-9BD5-04E0D47F0F9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61"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128" dur="500"/>
                                        <p:tgtEl>
                                          <p:spTgt spid="161">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133" dur="500"/>
                                        <p:tgtEl>
                                          <p:spTgt spid="161">
                                            <p:txEl>
                                              <p:pRg st="2" end="2"/>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138" dur="500"/>
                                        <p:tgtEl>
                                          <p:spTgt spid="161">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143" dur="500"/>
                                        <p:tgtEl>
                                          <p:spTgt spid="161">
                                            <p:txEl>
                                              <p:pRg st="4" end="4"/>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Effect filter="wipe(up)" transition="in">
                                      <p:cBhvr additive="repl">
                                        <p:cTn id="148" dur="500"/>
                                        <p:tgtEl>
                                          <p:spTgt spid="161">
                                            <p:txEl>
                                              <p:pRg st="5" end="5"/>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161">
                                            <p:txEl>
                                              <p:pRg st="6" end="6"/>
                                            </p:txEl>
                                          </p:spTgt>
                                        </p:tgtEl>
                                        <p:attrNameLst>
                                          <p:attrName>style.visibility</p:attrName>
                                        </p:attrNameLst>
                                      </p:cBhvr>
                                      <p:to>
                                        <p:strVal val="visible"/>
                                      </p:to>
                                    </p:set>
                                    <p:animEffect filter="wipe(up)" transition="in">
                                      <p:cBhvr additive="repl">
                                        <p:cTn id="153" dur="500"/>
                                        <p:tgtEl>
                                          <p:spTgt spid="161">
                                            <p:txEl>
                                              <p:pRg st="6" end="6"/>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61">
                                            <p:txEl>
                                              <p:pRg st="8" end="8"/>
                                            </p:txEl>
                                          </p:spTgt>
                                        </p:tgtEl>
                                        <p:attrNameLst>
                                          <p:attrName>style.visibility</p:attrName>
                                        </p:attrNameLst>
                                      </p:cBhvr>
                                      <p:to>
                                        <p:strVal val="visible"/>
                                      </p:to>
                                    </p:set>
                                    <p:animEffect filter="wipe(up)" transition="in">
                                      <p:cBhvr additive="repl">
                                        <p:cTn id="158" dur="5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5C48-7BA3-4069-86E1-A65F5CB0E46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64"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6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165" dur="500"/>
                                        <p:tgtEl>
                                          <p:spTgt spid="164">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64">
                                            <p:txEl>
                                              <p:pRg st="1" end="1"/>
                                            </p:txEl>
                                          </p:spTgt>
                                        </p:tgtEl>
                                        <p:attrNameLst>
                                          <p:attrName>style.visibility</p:attrName>
                                        </p:attrNameLst>
                                      </p:cBhvr>
                                      <p:to>
                                        <p:strVal val="visible"/>
                                      </p:to>
                                    </p:set>
                                    <p:animEffect filter="wipe(left)" transition="in">
                                      <p:cBhvr additive="repl">
                                        <p:cTn id="170"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C9152-47BF-4C24-8AD1-92D0D6B58FE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68"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0"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77" dur="500"/>
                                        <p:tgtEl>
                                          <p:spTgt spid="168">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82" dur="500"/>
                                        <p:tgtEl>
                                          <p:spTgt spid="168">
                                            <p:txEl>
                                              <p:pRg st="1" end="1"/>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87" dur="500"/>
                                        <p:tgtEl>
                                          <p:spTgt spid="168">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70"/>
                                        </p:tgtEl>
                                        <p:attrNameLst>
                                          <p:attrName>style.visibility</p:attrName>
                                        </p:attrNameLst>
                                      </p:cBhvr>
                                      <p:to>
                                        <p:strVal val="visible"/>
                                      </p:to>
                                    </p:set>
                                    <p:animEffect filter="wipe(up)" transition="in">
                                      <p:cBhvr additive="repl">
                                        <p:cTn id="19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1E5D-AAF6-4B49-937A-A9B3B9B5D89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A651-F5F2-4C4D-9110-8800D791719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73"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5"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199" dur="500"/>
                                        <p:tgtEl>
                                          <p:spTgt spid="173">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204"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BFC3-D9AB-4002-9943-4BE81ED70EA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7"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211" dur="500"/>
                                        <p:tgtEl>
                                          <p:spTgt spid="177">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77">
                                            <p:txEl>
                                              <p:pRg st="1" end="1"/>
                                            </p:txEl>
                                          </p:spTgt>
                                        </p:tgtEl>
                                        <p:attrNameLst>
                                          <p:attrName>style.visibility</p:attrName>
                                        </p:attrNameLst>
                                      </p:cBhvr>
                                      <p:to>
                                        <p:strVal val="visible"/>
                                      </p:to>
                                    </p:set>
                                    <p:animEffect filter="wipe(up)" transition="in">
                                      <p:cBhvr additive="repl">
                                        <p:cTn id="216" dur="500"/>
                                        <p:tgtEl>
                                          <p:spTgt spid="177">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221" dur="500"/>
                                        <p:tgtEl>
                                          <p:spTgt spid="177">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Effect filter="wipe(up)" transition="in">
                                      <p:cBhvr additive="repl">
                                        <p:cTn id="226"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A360-2A06-4025-8EB5-8BAD103FF24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81"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2"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233" dur="500"/>
                                        <p:tgtEl>
                                          <p:spTgt spid="181">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81">
                                            <p:txEl>
                                              <p:pRg st="2" end="2"/>
                                            </p:txEl>
                                          </p:spTgt>
                                        </p:tgtEl>
                                        <p:attrNameLst>
                                          <p:attrName>style.visibility</p:attrName>
                                        </p:attrNameLst>
                                      </p:cBhvr>
                                      <p:to>
                                        <p:strVal val="visible"/>
                                      </p:to>
                                    </p:set>
                                    <p:animEffect filter="wipe(up)" transition="in">
                                      <p:cBhvr additive="repl">
                                        <p:cTn id="238"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44F8-5CDB-4474-85C3-6B5D3C1AF88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85"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86"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4C48-305C-42F7-A4C8-DE5AA5673A8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8"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90"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245" dur="500"/>
                                        <p:tgtEl>
                                          <p:spTgt spid="188">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250" dur="500"/>
                                        <p:tgtEl>
                                          <p:spTgt spid="188">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188">
                                            <p:txEl>
                                              <p:pRg st="2" end="2"/>
                                            </p:txEl>
                                          </p:spTgt>
                                        </p:tgtEl>
                                        <p:attrNameLst>
                                          <p:attrName>style.visibility</p:attrName>
                                        </p:attrNameLst>
                                      </p:cBhvr>
                                      <p:to>
                                        <p:strVal val="visible"/>
                                      </p:to>
                                    </p:set>
                                    <p:animEffect filter="wipe(up)" transition="in">
                                      <p:cBhvr additive="repl">
                                        <p:cTn id="255" dur="500"/>
                                        <p:tgtEl>
                                          <p:spTgt spid="188">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90"/>
                                        </p:tgtEl>
                                        <p:attrNameLst>
                                          <p:attrName>style.visibility</p:attrName>
                                        </p:attrNameLst>
                                      </p:cBhvr>
                                      <p:to>
                                        <p:strVal val="visible"/>
                                      </p:to>
                                    </p:set>
                                    <p:animEffect filter="wipe(up)" transition="in">
                                      <p:cBhvr additive="repl">
                                        <p:cTn id="26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2A58-A82C-4D3C-955B-805636D49E4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2"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020C-3ECE-400B-B660-507C1CD784C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2B6B-CFC3-4E63-B696-889E91B25EE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685800" y="1619280"/>
            <a:ext cx="8077320" cy="48387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D2C0-5952-4FAC-81D0-340396ADC5B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5120"/>
            <a:ext cx="7693200" cy="49528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xperiment</a:t>
            </a:r>
            <a:r>
              <a:rPr b="0" lang="en-US" sz="2800" spc="-1" strike="noStrike">
                <a:solidFill>
                  <a:srgbClr val="4db14b"/>
                </a:solidFill>
                <a:latin typeface="Arial"/>
              </a:rPr>
              <a:t> </a:t>
            </a:r>
            <a:r>
              <a:rPr b="0" lang="en-US" sz="2800" spc="-1" strike="noStrike">
                <a:solidFill>
                  <a:srgbClr val="003366"/>
                </a:solidFill>
                <a:latin typeface="Arial"/>
              </a:rPr>
              <a:t>is the observation of some activity or the act of taking some measur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eriment A process that leads to the occurrence of one and only one of several possible observations          </a:t>
            </a:r>
            <a:r>
              <a:rPr b="0" lang="en-US" sz="2800" spc="-1" strike="noStrike" u="sng">
                <a:solidFill>
                  <a:srgbClr val="ff0000"/>
                </a:solidFill>
                <a:uFillTx/>
                <a:latin typeface="Arial"/>
              </a:rPr>
              <a:t>(</a:t>
            </a:r>
            <a:r>
              <a:rPr b="0" lang="en-US" sz="2800" spc="-1" strike="noStrike" u="sng">
                <a:solidFill>
                  <a:srgbClr val="003366"/>
                </a:solidFill>
                <a:uFillTx/>
                <a:latin typeface="Arial"/>
              </a:rPr>
              <a:t>Reference 14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outcome</a:t>
            </a:r>
            <a:r>
              <a:rPr b="0" lang="en-US" sz="2800" spc="-1" strike="noStrike">
                <a:solidFill>
                  <a:srgbClr val="003366"/>
                </a:solidFill>
                <a:latin typeface="Arial"/>
              </a:rPr>
              <a:t> is the particular result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vent</a:t>
            </a:r>
            <a:r>
              <a:rPr b="0" lang="en-US" sz="2800" spc="-1" strike="noStrike">
                <a:solidFill>
                  <a:srgbClr val="003366"/>
                </a:solidFill>
                <a:latin typeface="Arial"/>
              </a:rPr>
              <a:t> is the collection of one or more outcomes of an experiment.</a:t>
            </a:r>
            <a:endParaRPr b="0" lang="en-US" sz="28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85"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8850-9DE6-474B-A1D6-39EA42D1D37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2E11-94CE-4C8D-9291-5323C9BF9D6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FFE6-A633-4C57-9988-5E47EA5C936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    </a:t>
            </a:r>
            <a:r>
              <a:rPr b="1" lang="en-US" sz="3600" spc="-1" strike="noStrike">
                <a:solidFill>
                  <a:srgbClr val="ff0000"/>
                </a:solidFill>
                <a:latin typeface="Arial"/>
              </a:rPr>
              <a:t>(Page 142)  </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48E9-625B-4D0B-B7F7-2D228AD85D1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5120"/>
            <a:ext cx="7547040" cy="41148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r>
              <a:rPr b="0" lang="en-US" sz="3200" spc="-1" strike="noStrike">
                <a:solidFill>
                  <a:srgbClr val="ff0000"/>
                </a:solidFill>
                <a:latin typeface="Arial"/>
              </a:rPr>
              <a:t>(Page 142)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92" dur="500"/>
                                        <p:tgtEl>
                                          <p:spTgt spid="128">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7"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3:58Z</dcterms:modified>
  <cp:revision>152</cp:revision>
  <dc:subject>Survey of Probability Concepts</dc:subject>
  <dc:title>Chapter 5</dc:title>
</cp:coreProperties>
</file>