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31DF-D16E-4D4B-BF90-42A76206F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805B-7F8F-47D4-8C0C-89F7CDBAD3E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45EF-E932-40AD-921A-336BA4CD57E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75F7-023E-4F76-8D1B-546C9CBA5E0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0BAA-02C5-42FB-96ED-36CBEFBE83F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C739-8AA2-47AD-BE12-A1E334F8662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F974-1CCC-4797-BB20-10C8197DD88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4351-E45D-4AC1-8309-061E060815A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BAED-B62E-4E4C-8C0B-7C2587FCF43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9DF0-782D-4228-93F9-ADAEE85FCFD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5923-B2EB-4647-A8E6-70C91D4D7E3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3857-4641-4E81-BF66-0AA0FFCE5DA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F2D7-3C22-4CC0-9F2C-6BCCEA88303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329A-F0CE-4A43-A543-6EFF08E5FE0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92B8-0E7B-4EE9-95D7-3D406CE6CE8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D489-650C-435F-957E-5D80044D4C4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591F-F4AF-41BE-8097-B04D604F91F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516A-2688-4F20-87A4-7DA658F4E4F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9730-2866-419D-A94D-D5798F3F044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5656-00DB-4267-9E22-1B15D328009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2896-26EA-46CB-97B4-76BF69339C8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1A8B-182F-4C52-A2B8-D956D5FF37D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D995-FA48-4371-9FA9-979C75B8876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F0B2-E5FA-4F9E-81B9-EB4912B25AD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252F-6537-4729-B986-13D2A977085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6977-10D7-401A-A9A2-7CB3E0F0098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C6D2-901D-496F-9978-B511511BD59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068E-9CBF-480B-A2BD-A05B2C8644D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56B2-A835-43A3-8DEB-3684F4917DC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32F3-0B7A-454C-8CBA-9ADD5D26143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D151-A7A0-4FAB-B956-452651F440F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9A57-0CB7-459B-A395-E5CA5294B82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01D4A0-EE53-439E-9F49-01137DBFFA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33852-D405-4335-8D09-249D0D124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1369BB-D9C6-47C0-8798-4F280A2B6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8E7216-89D0-409F-93C2-22F461C0F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DA1B6C-054F-4922-B3FF-C3C05A458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B3EACA-FD08-4CF4-8168-2608780F5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F941CB-B30B-4B7E-AF6B-0A02B91E2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C35EF5-B887-4555-919E-D1A4CB33D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F0FEE7-9049-4832-ACFF-47DF3E238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6A098-33B4-4027-9667-791B01A85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068F2-8FC7-449B-9433-3C8782E709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00159A-4E9F-4C15-87C8-5356E6312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3599-9EFC-4683-9446-D7CD5CD84D10}"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3E3B-54C9-40ED-9534-905C854C3E8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391520" cy="4181400"/>
          </a:xfrm>
          <a:prstGeom prst="rect">
            <a:avLst/>
          </a:prstGeom>
          <a:noFill/>
          <a:ln w="0">
            <a:noFill/>
          </a:ln>
        </p:spPr>
        <p:txBody>
          <a:bodyPr lIns="92160" rIns="92160" tIns="46080" bIns="46080" anchor="t">
            <a:normAutofit/>
          </a:bodyPr>
          <a:p>
            <a:pPr marL="343080" indent="-343080" algn="just">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1815-C57D-4FFB-9E87-82E5B3CA4E2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480"/>
            <a:ext cx="7807320" cy="1866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B0C0-1854-4F54-BBD0-8C572D95F45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EB23-BB39-4958-8E17-DF6FB24D197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07CB-66EF-4FBC-8650-19FFD959E00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9"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51"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1"/>
                                        </p:tgtEl>
                                        <p:attrNameLst>
                                          <p:attrName>style.visibility</p:attrName>
                                        </p:attrNameLst>
                                      </p:cBhvr>
                                      <p:to>
                                        <p:strVal val="visible"/>
                                      </p:to>
                                    </p:set>
                                    <p:anim calcmode="lin" valueType="num">
                                      <p:cBhvr additive="base">
                                        <p:cTn id="99" dur="500" fill="hold"/>
                                        <p:tgtEl>
                                          <p:spTgt spid="151"/>
                                        </p:tgtEl>
                                        <p:attrNameLst>
                                          <p:attrName>ppt_x</p:attrName>
                                        </p:attrNameLst>
                                      </p:cBhvr>
                                      <p:tavLst>
                                        <p:tav tm="0">
                                          <p:val>
                                            <p:strVal val="#ppt_x"/>
                                          </p:val>
                                        </p:tav>
                                        <p:tav tm="100000">
                                          <p:val>
                                            <p:strVal val="#ppt_x"/>
                                          </p:val>
                                        </p:tav>
                                      </p:tavLst>
                                    </p:anim>
                                    <p:anim calcmode="lin" valueType="num">
                                      <p:cBhvr additive="base">
                                        <p:cTn id="10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260E-03DD-489A-A523-799963D1407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4"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p:txBody>
      </p:sp>
      <p:sp>
        <p:nvSpPr>
          <p:cNvPr id="15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6"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107" dur="500"/>
                                        <p:tgtEl>
                                          <p:spTgt spid="154">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112" dur="500"/>
                                        <p:tgtEl>
                                          <p:spTgt spid="154">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115" dur="500"/>
                                        <p:tgtEl>
                                          <p:spTgt spid="154">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11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FB3A-D8BA-462B-9617-498C2F2CC0C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9"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20AF-36CC-4753-80E3-AEF24D390E4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62"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a:t>
            </a:r>
            <a:r>
              <a:rPr b="0" lang="en-US" sz="2000" spc="-1" strike="noStrike">
                <a:solidFill>
                  <a:srgbClr val="ff0000"/>
                </a:solidFill>
                <a:latin typeface="Arial"/>
              </a:rPr>
              <a:t>mutually exclusive</a:t>
            </a:r>
            <a:r>
              <a:rPr b="0" lang="en-US" sz="2000" spc="-1" strike="noStrike">
                <a:solidFill>
                  <a:srgbClr val="003366"/>
                </a:solidFill>
                <a:latin typeface="Arial"/>
              </a:rPr>
              <a:t>,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a:t>
            </a:r>
            <a:r>
              <a:rPr b="0" lang="en-US" sz="2000" spc="-1" strike="noStrike">
                <a:solidFill>
                  <a:srgbClr val="ff0000"/>
                </a:solidFill>
                <a:latin typeface="Arial"/>
              </a:rPr>
              <a:t>not</a:t>
            </a:r>
            <a:r>
              <a:rPr b="0" lang="en-US" sz="2000" spc="-1" strike="noStrike">
                <a:solidFill>
                  <a:srgbClr val="003366"/>
                </a:solidFill>
                <a:latin typeface="Arial"/>
              </a:rPr>
              <a:t> mutually exclusive, then P(A or B) is given by the following formula:</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3B01-E98C-4F5D-8A60-0008CF8AF48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46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4E62-022E-4076-963F-ABD38DE280B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9"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70"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27DD-73A8-41A3-812E-521FDC45B0F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90DA-633A-49A2-B70C-D75598C8B8B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73"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5"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76"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125"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192B-6F7C-479C-87BA-6387973A5B3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9"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9B2C-6EFF-467D-87BB-1BDE72B9BBF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83"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4"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32" dur="500"/>
                                        <p:tgtEl>
                                          <p:spTgt spid="183">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37" dur="500"/>
                                        <p:tgtEl>
                                          <p:spTgt spid="183">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142"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ED0D-97D1-4401-9181-6D4B1B96B50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7"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149" dur="500"/>
                                        <p:tgtEl>
                                          <p:spTgt spid="187">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87">
                                            <p:txEl>
                                              <p:pRg st="2" end="2"/>
                                            </p:txEl>
                                          </p:spTgt>
                                        </p:tgtEl>
                                        <p:attrNameLst>
                                          <p:attrName>style.visibility</p:attrName>
                                        </p:attrNameLst>
                                      </p:cBhvr>
                                      <p:to>
                                        <p:strVal val="visible"/>
                                      </p:to>
                                    </p:set>
                                    <p:animEffect filter="wipe(up)" transition="in">
                                      <p:cBhvr additive="repl">
                                        <p:cTn id="154" dur="500"/>
                                        <p:tgtEl>
                                          <p:spTgt spid="187">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87">
                                            <p:txEl>
                                              <p:pRg st="3" end="3"/>
                                            </p:txEl>
                                          </p:spTgt>
                                        </p:tgtEl>
                                        <p:attrNameLst>
                                          <p:attrName>style.visibility</p:attrName>
                                        </p:attrNameLst>
                                      </p:cBhvr>
                                      <p:to>
                                        <p:strVal val="visible"/>
                                      </p:to>
                                    </p:set>
                                    <p:animEffect filter="wipe(up)" transition="in">
                                      <p:cBhvr additive="repl">
                                        <p:cTn id="159" dur="500"/>
                                        <p:tgtEl>
                                          <p:spTgt spid="187">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87">
                                            <p:txEl>
                                              <p:pRg st="4" end="4"/>
                                            </p:txEl>
                                          </p:spTgt>
                                        </p:tgtEl>
                                        <p:attrNameLst>
                                          <p:attrName>style.visibility</p:attrName>
                                        </p:attrNameLst>
                                      </p:cBhvr>
                                      <p:to>
                                        <p:strVal val="visible"/>
                                      </p:to>
                                    </p:set>
                                    <p:animEffect filter="wipe(up)" transition="in">
                                      <p:cBhvr additive="repl">
                                        <p:cTn id="164" dur="500"/>
                                        <p:tgtEl>
                                          <p:spTgt spid="187">
                                            <p:txEl>
                                              <p:pRg st="4" end="4"/>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87">
                                            <p:txEl>
                                              <p:pRg st="5" end="5"/>
                                            </p:txEl>
                                          </p:spTgt>
                                        </p:tgtEl>
                                        <p:attrNameLst>
                                          <p:attrName>style.visibility</p:attrName>
                                        </p:attrNameLst>
                                      </p:cBhvr>
                                      <p:to>
                                        <p:strVal val="visible"/>
                                      </p:to>
                                    </p:set>
                                    <p:animEffect filter="wipe(up)" transition="in">
                                      <p:cBhvr additive="repl">
                                        <p:cTn id="169" dur="500"/>
                                        <p:tgtEl>
                                          <p:spTgt spid="187">
                                            <p:txEl>
                                              <p:pRg st="5" end="5"/>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87">
                                            <p:txEl>
                                              <p:pRg st="6" end="6"/>
                                            </p:txEl>
                                          </p:spTgt>
                                        </p:tgtEl>
                                        <p:attrNameLst>
                                          <p:attrName>style.visibility</p:attrName>
                                        </p:attrNameLst>
                                      </p:cBhvr>
                                      <p:to>
                                        <p:strVal val="visible"/>
                                      </p:to>
                                    </p:set>
                                    <p:animEffect filter="wipe(up)" transition="in">
                                      <p:cBhvr additive="repl">
                                        <p:cTn id="174" dur="500"/>
                                        <p:tgtEl>
                                          <p:spTgt spid="187">
                                            <p:txEl>
                                              <p:pRg st="6" end="6"/>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87">
                                            <p:txEl>
                                              <p:pRg st="8" end="8"/>
                                            </p:txEl>
                                          </p:spTgt>
                                        </p:tgtEl>
                                        <p:attrNameLst>
                                          <p:attrName>style.visibility</p:attrName>
                                        </p:attrNameLst>
                                      </p:cBhvr>
                                      <p:to>
                                        <p:strVal val="visible"/>
                                      </p:to>
                                    </p:set>
                                    <p:animEffect filter="wipe(up)" transition="in">
                                      <p:cBhvr additive="repl">
                                        <p:cTn id="179" dur="500"/>
                                        <p:tgtEl>
                                          <p:spTgt spid="1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D47F-8A2F-45FF-A5F2-52394E6DD0B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9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186" dur="500"/>
                                        <p:tgtEl>
                                          <p:spTgt spid="19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19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3D26-A0F7-429B-90F3-FB0C5255FF9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94"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6"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98" dur="500"/>
                                        <p:tgtEl>
                                          <p:spTgt spid="194">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203" dur="500"/>
                                        <p:tgtEl>
                                          <p:spTgt spid="194">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208" dur="500"/>
                                        <p:tgtEl>
                                          <p:spTgt spid="194">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96"/>
                                        </p:tgtEl>
                                        <p:attrNameLst>
                                          <p:attrName>style.visibility</p:attrName>
                                        </p:attrNameLst>
                                      </p:cBhvr>
                                      <p:to>
                                        <p:strVal val="visible"/>
                                      </p:to>
                                    </p:set>
                                    <p:animEffect filter="wipe(up)" transition="in">
                                      <p:cBhvr additive="repl">
                                        <p:cTn id="21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B73C-147E-4724-AC99-E1FCB65ABDA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9"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01"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20" dur="500"/>
                                        <p:tgtEl>
                                          <p:spTgt spid="199">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225"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C7E5-59A7-4141-AFBF-472E05B2021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203">
                                            <p:txEl>
                                              <p:pRg st="0" end="0"/>
                                            </p:txEl>
                                          </p:spTgt>
                                        </p:tgtEl>
                                        <p:attrNameLst>
                                          <p:attrName>style.visibility</p:attrName>
                                        </p:attrNameLst>
                                      </p:cBhvr>
                                      <p:to>
                                        <p:strVal val="visible"/>
                                      </p:to>
                                    </p:set>
                                    <p:animEffect filter="wipe(up)" transition="in">
                                      <p:cBhvr additive="repl">
                                        <p:cTn id="232" dur="500"/>
                                        <p:tgtEl>
                                          <p:spTgt spid="203">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203">
                                            <p:txEl>
                                              <p:pRg st="1" end="1"/>
                                            </p:txEl>
                                          </p:spTgt>
                                        </p:tgtEl>
                                        <p:attrNameLst>
                                          <p:attrName>style.visibility</p:attrName>
                                        </p:attrNameLst>
                                      </p:cBhvr>
                                      <p:to>
                                        <p:strVal val="visible"/>
                                      </p:to>
                                    </p:set>
                                    <p:animEffect filter="wipe(up)" transition="in">
                                      <p:cBhvr additive="repl">
                                        <p:cTn id="237" dur="500"/>
                                        <p:tgtEl>
                                          <p:spTgt spid="203">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203">
                                            <p:txEl>
                                              <p:pRg st="2" end="2"/>
                                            </p:txEl>
                                          </p:spTgt>
                                        </p:tgtEl>
                                        <p:attrNameLst>
                                          <p:attrName>style.visibility</p:attrName>
                                        </p:attrNameLst>
                                      </p:cBhvr>
                                      <p:to>
                                        <p:strVal val="visible"/>
                                      </p:to>
                                    </p:set>
                                    <p:animEffect filter="wipe(up)" transition="in">
                                      <p:cBhvr additive="repl">
                                        <p:cTn id="242" dur="500"/>
                                        <p:tgtEl>
                                          <p:spTgt spid="203">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203">
                                            <p:txEl>
                                              <p:pRg st="3" end="3"/>
                                            </p:txEl>
                                          </p:spTgt>
                                        </p:tgtEl>
                                        <p:attrNameLst>
                                          <p:attrName>style.visibility</p:attrName>
                                        </p:attrNameLst>
                                      </p:cBhvr>
                                      <p:to>
                                        <p:strVal val="visible"/>
                                      </p:to>
                                    </p:set>
                                    <p:animEffect filter="wipe(up)" transition="in">
                                      <p:cBhvr additive="repl">
                                        <p:cTn id="247"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E8FA-6BD7-415F-8D14-E1B9F3B8645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7"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8"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54" dur="500"/>
                                        <p:tgtEl>
                                          <p:spTgt spid="207">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59"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E145-F061-42BB-AECE-79D58801E7E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11"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12"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C34E-DA33-43FB-9F5E-CEBA9A76B8B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886040"/>
            <a:ext cx="8058240" cy="46101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will happen in the future. </a:t>
            </a:r>
            <a:r>
              <a:rPr b="0" lang="en-US" sz="2800" spc="-1" strike="noStrike">
                <a:solidFill>
                  <a:srgbClr val="003366"/>
                </a:solidFill>
                <a:latin typeface="Arial"/>
              </a:rPr>
              <a:t>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4980-D5D0-4383-B8F5-E25E96EDCDC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4"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16"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266" dur="500"/>
                                        <p:tgtEl>
                                          <p:spTgt spid="214">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271" dur="500"/>
                                        <p:tgtEl>
                                          <p:spTgt spid="214">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276" dur="500"/>
                                        <p:tgtEl>
                                          <p:spTgt spid="214">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16"/>
                                        </p:tgtEl>
                                        <p:attrNameLst>
                                          <p:attrName>style.visibility</p:attrName>
                                        </p:attrNameLst>
                                      </p:cBhvr>
                                      <p:to>
                                        <p:strVal val="visible"/>
                                      </p:to>
                                    </p:set>
                                    <p:animEffect filter="wipe(up)" transition="in">
                                      <p:cBhvr additive="repl">
                                        <p:cTn id="28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0BC8-9D11-4F01-B2E7-AA50F8B0F5B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D254-2F58-4B0E-B820-34989D21E49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6AFD-E594-40DB-90B5-2BCBF0158DA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FE35-C340-4863-8BD8-3C6E1ECEE8A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3A1F-2828-40FA-BFA9-08F35003900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F127-B43A-4042-A19B-6EB2D04A39D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3E1A-8439-49AC-AE59-AB6E50B6A65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6801120" cy="3962160"/>
          </a:xfrm>
          <a:prstGeom prst="rect">
            <a:avLst/>
          </a:prstGeom>
          <a:noFill/>
          <a:ln w="0">
            <a:noFill/>
          </a:ln>
        </p:spPr>
        <p:txBody>
          <a:bodyPr lIns="92160" rIns="92160" tIns="46080" bIns="46080" anchor="t">
            <a:normAutofit fontScale="94000"/>
          </a:bodyPr>
          <a:p>
            <a:pPr marL="322200" indent="-32220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22200" indent="-32220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9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11-12T16:15:16Z</dcterms:modified>
  <cp:revision>143</cp:revision>
  <dc:subject>Survey of Probability Concepts</dc:subject>
  <dc:title>Chapter 5</dc:title>
</cp:coreProperties>
</file>