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F782-E1A3-4754-AC84-D08459309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CFE9-3048-4898-B8D8-854399C8332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DC76-9837-497A-A41F-AF797BB0A0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5785-903F-4015-9805-498D76C11E4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1237-D22A-4781-B2FE-C46293AEF7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609B-10FA-498A-9375-7F0E568428A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D229-6E6A-4EB5-B2CF-024EEF6F833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80D6-AB3D-46C1-9FFC-452BE1117E8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4EC9-DD30-4391-B756-09A0CCE8206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9269-1CF8-482D-9604-B7957B9C63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9749-B4F4-4053-9AF0-5FFE309D381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31D4-891B-499B-847F-1768F0B5F15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A37B-1290-4DC4-AAC0-9FAEA88EA8F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18A4-9AEF-4DA6-B07F-13A8EC312A6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7252-C27F-47C3-B5D1-085A61C0722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AEE3-5DF3-44A3-AB76-6C3716E3B74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BF05-4ECD-417B-92DB-808E562A48F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DA6F-F338-4296-B7AD-427E3A8945A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0B69-2566-41ED-8DFA-A30FBAD7AD2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F45C-1FEF-4870-806B-99765FB70EB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B637-9C02-4A98-907F-21E6C87494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D13D-205D-402D-8C66-467300A593A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CBAB-3F91-42CB-8D34-7498D29DA0D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5BBA-2D29-40AA-8D07-5DF5C68265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7479-CDF4-459D-BE80-6505C21C11F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0097-A0C2-4F17-B922-12D7E57FAC0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D186-41AF-4982-82FC-03FE9C46DB2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A176-4B81-441E-BA2A-47CD53F0013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A13D-E1EB-48AC-93B6-8A606D84ADD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BFB5-1A8F-4F9D-B310-BE21F25627C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E0C5-277A-46A8-ABCE-EF4FC86F916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F061-175D-444F-B3D5-B1745C668B1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E67E-C5AA-46BC-843F-8B0C015AD43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0040-8633-4E9F-8270-F7157F001FB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71E5-C029-4CCB-AC4F-79CBDC26611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F6A3-8B2A-4A16-B307-84F0973B11F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73DF-BA79-4D5D-B407-36077B83F0D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77EC-7D43-4C4E-9F54-800E66BB5E6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8497-023B-485B-98ED-67FF037AB4D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F0C5-835D-457C-8492-A59D332FBEA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091C-B9F4-4A01-866C-3938765E44F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8110-4AEF-4C91-8E4C-5F89ED0CEFA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614EF9-ABA2-4187-B65E-DD92908FE8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B703D1-1B33-41C2-8202-C9C7CAED27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D974E3-7CB4-49DF-87A1-7D546E0857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07E34F-27F8-46BA-9495-6ABBF29D47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1CA057-0A0F-4E37-A002-F7CA1EC529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F67D1E-CE1B-40E0-94EE-6089633A41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82070A-C8E3-495C-8864-2ADCC2B0E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477ED6-41E4-4CC4-B8C3-C6F327301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C3AB24-1435-40FC-A35F-5E27B39C39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3744EF-3376-4502-A3F2-AC9AFD6D1D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A9272A-B3F1-428E-9579-66F0F49123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58D1A4-F5CC-41BB-9BFC-47546219C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6ADC-54B8-4DB5-909D-7A1F00D4199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FF01-6046-4F3F-B18E-59E0E9BF206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4B9A-E661-4837-8245-634CB3EB79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FD83-AF74-4314-B87E-263B009642C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7C1F-012F-477D-9070-05D8A385365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E021-0AA8-4C94-832E-AD41D89B0ED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7B6E-5969-418A-8E46-4ACA1FD1910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6F4E-4215-48A9-BB4F-D4E6735F5A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CB85-92C3-492A-9362-BE2E0D48300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A57D-3CCD-46B4-90F4-DC7B0FBB0A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DE1E-D134-459E-B6B1-FAAE88223B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64" name="Picture 8" descr="0619"/>
          <p:cNvPicPr/>
          <p:nvPr/>
        </p:nvPicPr>
        <p:blipFill>
          <a:blip r:embed="rId1"/>
          <a:stretch/>
        </p:blipFill>
        <p:spPr>
          <a:xfrm>
            <a:off x="1695600" y="2171880"/>
            <a:ext cx="5886360" cy="44193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CBA5-0D21-4F14-AD6B-91329307614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AE2B-4D30-4548-ADDE-07B0121F79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7"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AB4A-86D5-416F-A656-4CCE7BDBF4D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0"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71"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FAA6-3ED4-47B8-A32C-31B3610046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4"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A158-3DB6-4BC3-BC27-937FDB926C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8"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9"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3B15-6FFF-42E4-A4DF-9EF492336DB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82"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3"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CF25-1E53-41B7-8C74-668269C3DA7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6" name="Picture 7" descr=""/>
          <p:cNvPicPr/>
          <p:nvPr/>
        </p:nvPicPr>
        <p:blipFill>
          <a:blip r:embed="rId1"/>
          <a:stretch/>
        </p:blipFill>
        <p:spPr>
          <a:xfrm>
            <a:off x="912960" y="1905120"/>
            <a:ext cx="4894200" cy="331560"/>
          </a:xfrm>
          <a:prstGeom prst="rect">
            <a:avLst/>
          </a:prstGeom>
          <a:ln w="0">
            <a:noFill/>
          </a:ln>
        </p:spPr>
      </p:pic>
      <p:pic>
        <p:nvPicPr>
          <p:cNvPr id="187"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5BC5-4FE0-402D-9DAB-B79706E3E1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90"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9FA4-4582-488A-BD8C-9F9B95B5759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3"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4"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C898-6D16-4F33-9979-CB9ACD8B6AD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97" name="Picture 10" descr="0628"/>
          <p:cNvPicPr/>
          <p:nvPr/>
        </p:nvPicPr>
        <p:blipFill>
          <a:blip r:embed="rId1"/>
          <a:stretch/>
        </p:blipFill>
        <p:spPr>
          <a:xfrm>
            <a:off x="1962000" y="2076480"/>
            <a:ext cx="5477040" cy="41814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3A65-240A-42E3-AD8A-2142FEB297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200"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0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7623-6763-403D-AB73-C772DC3B628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A3EB-D34C-4AA9-88A1-23E92E18C02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163" dur="500"/>
                                        <p:tgtEl>
                                          <p:spTgt spid="20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168" dur="500"/>
                                        <p:tgtEl>
                                          <p:spTgt spid="204">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173" dur="500"/>
                                        <p:tgtEl>
                                          <p:spTgt spid="204">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178"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800F-A965-422C-B04C-3641144182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07"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2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185" dur="500"/>
                                        <p:tgtEl>
                                          <p:spTgt spid="207">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188" dur="500"/>
                                        <p:tgtEl>
                                          <p:spTgt spid="207">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19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2106-6500-4983-9D1A-7E0BD04B449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1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12" name="Picture 9" descr="0632"/>
          <p:cNvPicPr/>
          <p:nvPr/>
        </p:nvPicPr>
        <p:blipFill>
          <a:blip r:embed="rId1"/>
          <a:stretch/>
        </p:blipFill>
        <p:spPr>
          <a:xfrm>
            <a:off x="800280" y="2743200"/>
            <a:ext cx="7934040" cy="292428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180F-B92C-45DC-A7FB-2AE95ABBE59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215"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2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17" name="Picture 14" descr="0633"/>
          <p:cNvPicPr/>
          <p:nvPr/>
        </p:nvPicPr>
        <p:blipFill>
          <a:blip r:embed="rId1"/>
          <a:stretch/>
        </p:blipFill>
        <p:spPr>
          <a:xfrm>
            <a:off x="4591080" y="2571840"/>
            <a:ext cx="4200480" cy="296208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C966-357A-443F-B409-9880F4048B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22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21" name="Picture 11" descr="0634"/>
          <p:cNvPicPr/>
          <p:nvPr/>
        </p:nvPicPr>
        <p:blipFill>
          <a:blip r:embed="rId1"/>
          <a:stretch/>
        </p:blipFill>
        <p:spPr>
          <a:xfrm>
            <a:off x="800280" y="2629080"/>
            <a:ext cx="7943760" cy="31813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0B8D-360F-49C4-A364-1B8975C4E7B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224" name="Picture 9" descr="0635"/>
          <p:cNvPicPr/>
          <p:nvPr/>
        </p:nvPicPr>
        <p:blipFill>
          <a:blip r:embed="rId1"/>
          <a:stretch/>
        </p:blipFill>
        <p:spPr>
          <a:xfrm>
            <a:off x="2000160" y="2095560"/>
            <a:ext cx="5610240" cy="4181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A16E-44E1-4A65-963E-DACED76965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27"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198" dur="500"/>
                                        <p:tgtEl>
                                          <p:spTgt spid="227">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203" dur="500"/>
                                        <p:tgtEl>
                                          <p:spTgt spid="227">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206" dur="500"/>
                                        <p:tgtEl>
                                          <p:spTgt spid="227">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209"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F002-194E-4EFF-8BEF-4DC8E59C966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30"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231"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A27A-4C0F-411B-8919-AC36D45AB7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34"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35"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3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216" dur="500"/>
                                        <p:tgtEl>
                                          <p:spTgt spid="23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221"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01A4-0731-4F16-B357-BCFBE10935B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8"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0"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41"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2D57-5F4E-4BFF-A677-68F42289D7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6657-CB7F-4F36-9893-1817229E47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3"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44"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45"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F22B-854C-49E8-8371-74A38880586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558F-F6CC-4D39-A0CD-0EB098F261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DD21-F8CD-4969-8BDB-31DF5BFE68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AB45-29F5-4C65-9500-0E3458217D5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8DB3-FD58-42C9-8B72-F445A752A3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245A-1298-469C-A985-4EE762110F0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2:00:21Z</dcterms:modified>
  <cp:revision>161</cp:revision>
  <dc:subject>Probability Distributions</dc:subject>
  <dc:title>Chapter 6</dc:title>
</cp:coreProperties>
</file>