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67CF-FBB4-443D-9EDF-29D0281DB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9CA5-FD1D-4DAF-9259-5D3F925CAE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CFA1-4129-4FB8-AF84-FBF4416020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86C2-FE31-4F25-9E5F-03A5B7890B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07C7-62C7-423C-9887-120467FC09B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ED52-4E12-4BC9-A577-6DCAFFD4A28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B2D1-BDC0-45D4-B286-15F8F91E8F9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2D4A-1868-4F44-8B3B-ED3E3B09BD8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4007-E642-43E2-A5E2-8606E146D8E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D605-6882-4565-90E6-A003D533A5F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3962-743A-4479-8D3F-B291A118F9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571C-F15F-4258-A70A-BBFE300EF6E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12B2-28A2-4068-A277-96083EBE6D3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ED36-691D-4B4B-8750-678EC6E33E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DFC7-F3DB-47BD-A4B8-2B033ABBB8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E867-FD90-4D5B-A69B-8D5A928E56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F073-E173-43C9-A5B2-8395F4B1DF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0375-6F1E-4E16-8114-69803213F19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DD0B-B134-41EA-983C-8AA22AC6CCF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2700-16FF-4709-88F4-11F28E2F221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A8F1-73C0-49A3-B4A0-04901E1CD40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51CF-02EB-45A7-8B8C-4840683926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1EFF-2B8D-4EC1-A04A-723D0B9985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ECEC-D6E4-4D24-B512-7197C814AC0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3F36-A22A-4B0A-B5B3-2A710FAB27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A047-144C-4026-A890-FD6411C82F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E98A-DEC4-4735-9A56-D02455DF4F7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04AB-3D61-4ADF-9835-054A8B305B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B37A-3F22-47BC-BCDD-05349C594C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9ECB-3286-4AB9-A1C5-83AE819F77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DCE2-53C3-4616-B906-31B604745A8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1F83-D14D-4AD8-8AB4-E54E36D922A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BEA6-3A12-4856-A97B-6319DD5F89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C021-48D2-4C5F-B702-90B1D28A24B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86A0-0352-4868-A37F-4F7A6281967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C53C-CBC6-4DE2-8C5E-A17A481B4DD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BFF1-3E3B-4A5A-AB1C-42A32C72920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D339-1E8F-49A7-85DC-612B9C4446F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164F-11BB-4B58-8330-1233EA6FA13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689C-D76E-45A3-A6AE-84DCF55700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0AC3-9F87-464B-ACA9-27CB2981C3D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1106-0FFA-40C3-BDFE-C3F3BBD5FF5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C2D309-8F7F-40DC-BEE4-0F60DC9DA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D6EE2-F845-4F3E-B7F7-8672A162E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8F8F81-AECE-4B07-BB1A-B2D65E771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586683-D760-4B71-9660-E76C74762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DD3246-602B-4452-B8D8-1ECC5CC78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24603-6D12-491A-9F89-3CDED2CE6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25540B-37AD-4404-A801-83F5FC9AD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0580C8-2DF1-433E-9429-FF0D4DB0FF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B9845-82C4-4E48-86C2-F459246122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499CC-4D06-4AED-B68A-9761230F5A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C706C-A33C-473D-BF66-5008B95D2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8F3BBF-92A0-4228-BBBA-C33E9F0BA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5E11-E816-4AB9-9D52-998E3E45DC5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A77F-9261-4451-8967-B31228FC60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0609-BCB6-4FAF-89C8-EECBDCF335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1240-9275-4ECD-8D99-1E575680EA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BD22-FC14-4396-A08D-9EACEDEBBF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B83F-9A96-4CBE-AC6C-B75EDBAB0A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54BC-1631-4599-8B5B-A33A2FA73F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A0F-BC39-4AD1-8C37-EB8ECDDC90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40C1-5AC8-4C33-89F9-F8EFB7A2EB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6608-6700-475D-B401-F0616E147D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3811-BF15-4A0E-8FC7-C876566A08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30D7-26CA-4B72-B781-A4F0FF22823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F156-2177-46EF-BF53-913A92A86D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7108-29CE-48A7-82A4-350083B4F9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85B1-5D2D-4C0E-9980-185DAE5486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DD39-67C3-4740-9079-1FD98F901C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ACD7-AE65-46BA-9954-6EA9F7D980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75C2-43DE-494F-80B7-C2781B8D73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3CF8-5841-4CC8-BB12-1475FFD1BE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90"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C786-2640-48F0-B611-4777207590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3"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4"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2990-D9A7-4EA7-967D-9DC5F2C9E9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97" name="Picture 10" descr="0628"/>
          <p:cNvPicPr/>
          <p:nvPr/>
        </p:nvPicPr>
        <p:blipFill>
          <a:blip r:embed="rId1"/>
          <a:stretch/>
        </p:blipFill>
        <p:spPr>
          <a:xfrm>
            <a:off x="1962000" y="2076480"/>
            <a:ext cx="547704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50EE-8DCC-49FA-A908-FCDE93A4C8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200"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0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B65F-029F-40D2-8850-EED71EAA01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49FF-287D-4F13-9C16-AC02971A3C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63" dur="500"/>
                                        <p:tgtEl>
                                          <p:spTgt spid="2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68" dur="500"/>
                                        <p:tgtEl>
                                          <p:spTgt spid="2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73" dur="500"/>
                                        <p:tgtEl>
                                          <p:spTgt spid="2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17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6223-6E02-4DE9-BEB2-6EBF5F4CA9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7"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85" dur="500"/>
                                        <p:tgtEl>
                                          <p:spTgt spid="207">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88" dur="500"/>
                                        <p:tgtEl>
                                          <p:spTgt spid="207">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9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6EF4-DEAB-4609-93F6-79B98A02C4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1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2" name="Picture 9" descr="0632"/>
          <p:cNvPicPr/>
          <p:nvPr/>
        </p:nvPicPr>
        <p:blipFill>
          <a:blip r:embed="rId1"/>
          <a:stretch/>
        </p:blipFill>
        <p:spPr>
          <a:xfrm>
            <a:off x="800280" y="2743200"/>
            <a:ext cx="7934040" cy="29242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8BFA-91EA-4F0D-A153-D01D06ED06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15"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7" name="Picture 14" descr="0633"/>
          <p:cNvPicPr/>
          <p:nvPr/>
        </p:nvPicPr>
        <p:blipFill>
          <a:blip r:embed="rId1"/>
          <a:stretch/>
        </p:blipFill>
        <p:spPr>
          <a:xfrm>
            <a:off x="4591080" y="2571840"/>
            <a:ext cx="4200480" cy="2962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0289-23CC-4488-86AD-799BF7E4DC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11" descr="0634"/>
          <p:cNvPicPr/>
          <p:nvPr/>
        </p:nvPicPr>
        <p:blipFill>
          <a:blip r:embed="rId1"/>
          <a:stretch/>
        </p:blipFill>
        <p:spPr>
          <a:xfrm>
            <a:off x="800280" y="2629080"/>
            <a:ext cx="7943760" cy="3181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442F-38BB-4FD5-AE91-0A1B0B6C94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224" name="Picture 9" descr="0635"/>
          <p:cNvPicPr/>
          <p:nvPr/>
        </p:nvPicPr>
        <p:blipFill>
          <a:blip r:embed="rId1"/>
          <a:stretch/>
        </p:blipFill>
        <p:spPr>
          <a:xfrm>
            <a:off x="2000160" y="2095560"/>
            <a:ext cx="5610240" cy="4181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09F3-E155-4BC8-B2EA-A47BA0B429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27"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98" dur="500"/>
                                        <p:tgtEl>
                                          <p:spTgt spid="227">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203" dur="500"/>
                                        <p:tgtEl>
                                          <p:spTgt spid="227">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206" dur="500"/>
                                        <p:tgtEl>
                                          <p:spTgt spid="227">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209"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2179-5A4E-435A-B5E5-369C5B76C2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0"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31"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72BC-53B8-4225-94F7-B0B5282358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4"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35"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3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216" dur="500"/>
                                        <p:tgtEl>
                                          <p:spTgt spid="23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221"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6AFB-E087-419A-A4E6-CB86927737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8"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0"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41"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4906-314C-416D-8AE7-2D591A0ECD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752B-60E1-4957-A05C-96EF513514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44"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45"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2668-4826-4B0E-8522-4A7C69A293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434B-3B3A-440D-93FB-C295515F37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A573-C2F4-409E-966A-8B7036FAF7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0382-E374-406D-9F8C-AC993B2291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DFE2-D416-4AA8-B0A6-334002C8C7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114B-5326-400B-AAB7-B1969687B8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9:40Z</dcterms:modified>
  <cp:revision>161</cp:revision>
  <dc:subject>Probability Distributions</dc:subject>
  <dc:title>Chapter 6</dc:title>
</cp:coreProperties>
</file>