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CC48-940C-4A44-84E4-FF019A733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EA9A-778B-44AA-AFC9-C2225B653FC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43CF-435B-4308-95D1-4D41A26F305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85E4-A377-45AC-9B13-EC9BF5F459D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7F63-430C-473B-A315-9C3918BC4FD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CFA3-0600-42C9-AEEC-4414D4CFD5E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96E3-0708-4249-8F36-F6CC9F5B884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A5E8-34C2-4A18-A391-2211724BADD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EFF4-2C43-436E-92F1-AE5BEF0CC73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68FB-A8AD-4AFE-82EF-64AB7A366AD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B247-97BA-4C1D-938D-F2167EC65C0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F200-8D66-4B10-9540-9FAB65F41AB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BA40-91FC-4C4E-804F-11AA1F91592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6056-7D11-44A2-B81A-77348FE1890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B48B-5BF1-483B-B269-0F343F84D52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7B55-137C-4601-8ED5-90C581672E4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22E6-FF92-4B7E-8F11-C4128004C77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AEFF-105B-4847-8775-BABAC8742AF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DE70-6165-4F1F-8EA3-86D83DA23DC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0440-50F4-4EFC-9CC6-CFF944FEB58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0584-3D72-44F0-A65A-1FD7779F01A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BF85-3C4E-4E57-B2ED-CE6938D6E65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0969-A29D-4E4F-80F7-6788B83E98D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5D5D-15B3-40CE-AA24-BD4716A6BC6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A69A-5149-4131-9B40-C359236F54A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BC1B-335D-4794-9A7C-027281ED659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4F25-2BD3-41EA-BC55-8FCEF6AE7E4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1228-629E-4A1E-9581-0A37A511815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3867-BC93-480F-888F-F3E81721CA5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C4C0-F507-4B42-B7AC-B903E7F8A29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A2C6-4A93-4FF4-9C18-5FB90153956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F05A-0B3E-406C-AF38-F4DA6AD2468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FCF3-F8AB-4F67-886F-A3C8E0CEDCC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8B82D0-4960-454E-8BD9-BDE0EE4638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559262-6E9F-4F99-BE68-442C6C4225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80D8FB-2A8D-4D21-8CE5-8409B9FA87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CC5388-2AAE-4FBA-A546-468E7DDE8C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FBD1BF-6C29-4C6F-80E0-E6860A9B55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DD7AED-3F29-4EFC-BA98-F96E2785DC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D399AE-A951-44C0-A7FC-3D1306A363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C47686-75DE-479C-AF2B-3FD9C19E21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8CE5CE-6F2A-49E2-A31F-6CBE63662D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7F56AF-B80D-4085-A5A2-5B8EA792A5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AE1BB3-3492-413F-B046-4335C6DC24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6D6617-7F99-466D-AFA5-C770D77F0B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0AEC-F6BA-4EED-B855-1B7C1337F94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9F62-3A71-4F17-A017-54704DA2866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501E-605C-427A-9CFB-CB6E50CA888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AE69-0FF7-4571-B6F7-F62D96F7F17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BBDC-18A5-4338-9D19-25472E4B80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0A0E-A649-41A1-928B-6B4C450525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32CD-145A-48F7-BC66-D2E07962250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8371-E7CC-4EC2-9CB3-7F5DA57084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5598-3324-4846-AC31-4B7F526B583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E0A8-A15E-46A4-BA4E-8AF15F4829E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94EAA-AC91-4F2B-99D0-C3B5B74477C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4"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211C-EF35-4DB5-A5F5-68857444A4B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3F3A-B5D9-41EA-9592-50C8ADF400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68"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8832-FC0B-4F75-8660-6211F212467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1"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CF3F-67EA-45B5-A247-D56A792E379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5"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91C4-8482-4BE6-BC9E-C51B78159B8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79"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0"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B219-34D9-4734-82D2-02BB1539733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3" name="Picture 7" descr=""/>
          <p:cNvPicPr/>
          <p:nvPr/>
        </p:nvPicPr>
        <p:blipFill>
          <a:blip r:embed="rId1"/>
          <a:stretch/>
        </p:blipFill>
        <p:spPr>
          <a:xfrm>
            <a:off x="912960" y="1905120"/>
            <a:ext cx="4894200" cy="331560"/>
          </a:xfrm>
          <a:prstGeom prst="rect">
            <a:avLst/>
          </a:prstGeom>
          <a:ln w="0">
            <a:noFill/>
          </a:ln>
        </p:spPr>
      </p:pic>
      <p:pic>
        <p:nvPicPr>
          <p:cNvPr id="184"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E7BF-3C0C-4100-911E-38586C8DB32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7"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8EC2-97B1-454B-9EB5-C0BDE629790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0"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1"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EEC8-039A-4C28-8D97-6B3771E3042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63" dur="500"/>
                                        <p:tgtEl>
                                          <p:spTgt spid="19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68" dur="500"/>
                                        <p:tgtEl>
                                          <p:spTgt spid="194">
                                            <p:txEl>
                                              <p:pRg st="1" end="1"/>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71" dur="500"/>
                                        <p:tgtEl>
                                          <p:spTgt spid="194">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74"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778E-688E-4474-A150-51AEF216602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98"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0AF6-1222-4BC2-92F5-AB02FBE7BA0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01"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02"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0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81" dur="500"/>
                                        <p:tgtEl>
                                          <p:spTgt spid="201">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86"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EBF6-05C1-484E-80FC-0263B527104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868A-0B66-4DF2-B0B8-D991CF15123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7"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08"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5F91-6EA0-4B44-9650-29E98F07170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11"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12"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01AA-44E9-4C81-A95E-249D7ED2E11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989C-CF16-4461-81E1-CE90D2B6F11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D7BF-FDC5-425A-8E56-E023DFA0A7E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8AE4-96C6-4C9A-A37D-4F24FF26F7B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3F34-165C-4FD5-A1B9-24188C837B6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066C-051A-4EB2-8CD7-3D2673B0A17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8E86-6170-4582-9A0D-FF8336A9F77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h</cp:lastModifiedBy>
  <dcterms:modified xsi:type="dcterms:W3CDTF">2017-09-19T09:06:19Z</dcterms:modified>
  <cp:revision>163</cp:revision>
  <dc:subject>Probability Distributions</dc:subject>
  <dc:title>Chapter 6</dc:title>
</cp:coreProperties>
</file>