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0FCB-9297-4FF2-A5DB-A489233BB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40A5-4914-423A-A871-7A17FBDCE96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9785-8619-4776-8168-4E462D2548A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639B-82BE-458B-9F55-E05E731E69D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F5E9-C976-4837-8046-5F0BAB597C7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9915-1C56-4879-BA09-7FD88A96396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28EB-571D-4ED9-999A-FF72173E802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E159-64CB-48F5-A2B3-DD89506B46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EC30-F3F5-4413-9116-83FED80549B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A56E-D6EB-4D3D-8155-C1C3080BB7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2B35-35A7-42E3-A341-2C607365A99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09FF-FE58-4FBF-9B17-3C7BDD56D08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6B4C-6B97-465E-BED0-BEFA1A60504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ED00-44D0-4B81-A5A1-DCD533C79A2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E3DB-0C79-4F87-B0C3-7297C34FFEF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26E5-44F4-406D-8B2F-1F967FD5C79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2D67-AB42-4905-AE47-9A92DC62293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297E-9337-4AFC-B850-03855ED45E0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A386-13E1-4C15-A371-2E63DED3F26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04C9-FB1F-4DE5-B428-60724B89C91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01C2-34E1-42AF-B85C-C3020472B33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5D82-F584-41F4-A737-22A4F114875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18AF-1821-43C2-BB76-727DC7A8B58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FBBC-5B5C-4764-9F6C-8389579C9A2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1FD8-4B7E-455F-8BAF-1164E24FFBF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2375-953D-479F-AAEF-8FE01BD86CB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FBF9-1C87-419D-B5AA-98730128B17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34B5-392E-4C87-A1DD-2F8BFBEF20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E56A-69DF-4747-B269-315C2F9B8C2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D777-6B52-46E1-B0AC-ED8F1D35CCA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C815-0ACB-4D4E-ADB5-8E7FC4AC32F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5648-AC82-4381-AE48-0560E7CA724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A096-A67C-4DAC-9080-152483E9C5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BB8B6D-7AE2-4B7D-AA14-5B10D28D1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C3EBB6-530C-4E19-BE6C-DCD9C694A0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C62419-E0ED-4A87-AEBC-682CC1AEE5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94233C-AAB5-4C6A-911C-76B750CCC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5BFEC1-5445-4AA3-9C03-034D07C11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754724-F785-4F95-B7F0-0F8E934834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3F832E-66A2-4B15-ABB5-025779A0D7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75394B-17AA-4A44-807F-441672A49B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51AEB8-FE3A-477F-918A-0F85820938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26ECD-980C-40DD-99BB-D259658FAB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4176D-2A77-4DCC-8D74-595FD4308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865F8-C3C3-457F-AD7B-5E566DFB5D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F8EB-68DE-4822-9054-BD6F3650DF0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F883-4088-405B-9D90-A1CD3F9D78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224C-7D98-40B0-86C6-078E37E01A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38F2-FA78-4F8C-9A3F-26C34D3E10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78AA-C405-4DC7-ACCD-7109320D4BA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23B4-486B-48B0-AF63-940487D6A7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DC60-EA26-4859-804A-2095E5D7A1A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BA14-61AD-42A3-8E3F-05BB1D7CC6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01C4-E8B3-46CA-B476-98C1C604AB9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C38C-A3D0-4D9F-911B-2C519267D4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B5A1-A8E2-4175-AAAA-397E2C3026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4"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E3B2-1A06-412B-AC98-028B7A074A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38DC-8FCD-4B07-9488-23011AE723A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68"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BB26-819B-4110-8273-E4203204AB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1"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E654-9F38-4402-BFC1-92AD99AFE19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5"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8BA3-CC00-45A0-9E66-BF403A43656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79"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0"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F77D-5920-4D7C-8434-616DDA3358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3" name="Picture 7" descr=""/>
          <p:cNvPicPr/>
          <p:nvPr/>
        </p:nvPicPr>
        <p:blipFill>
          <a:blip r:embed="rId1"/>
          <a:stretch/>
        </p:blipFill>
        <p:spPr>
          <a:xfrm>
            <a:off x="912960" y="1905120"/>
            <a:ext cx="4894200" cy="331560"/>
          </a:xfrm>
          <a:prstGeom prst="rect">
            <a:avLst/>
          </a:prstGeom>
          <a:ln w="0">
            <a:noFill/>
          </a:ln>
        </p:spPr>
      </p:pic>
      <p:pic>
        <p:nvPicPr>
          <p:cNvPr id="184"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F902-B7DC-41A2-8BC0-691DF2A4EF9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7"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25E7-AA5D-4970-B11D-C48E9A3CD65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0"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1"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E0B2-09D7-4C84-8D8F-4AB41DF21A5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63" dur="500"/>
                                        <p:tgtEl>
                                          <p:spTgt spid="19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68" dur="500"/>
                                        <p:tgtEl>
                                          <p:spTgt spid="194">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71" dur="500"/>
                                        <p:tgtEl>
                                          <p:spTgt spid="19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74"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4D8F-B60A-48A9-804D-C49F0959874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8"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53CA-6F09-4E54-9C17-BD75FF16381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01"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02"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0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81" dur="500"/>
                                        <p:tgtEl>
                                          <p:spTgt spid="201">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8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2811-FF30-4B83-B21D-12668395391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AB61-4610-4D40-A5E8-9574E498FA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7"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8"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9C14-E30E-44F4-B167-279BD53E23C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11"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12"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A595-C018-4B65-A99A-1564B36A76F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5446-AF4F-459A-B5E8-E544069C2A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92EB-17E5-4498-988F-37B0574225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16BD-104F-4285-B5A5-31923468DA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3618-E869-4F5D-8011-C5493F5315A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70A1-A8EC-4F71-8105-0D8F3F9E71D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DB95-1B59-4DF4-B612-43457C1FD2E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9:06:19Z</dcterms:modified>
  <cp:revision>163</cp:revision>
  <dc:subject>Probability Distributions</dc:subject>
  <dc:title>Chapter 6</dc:title>
</cp:coreProperties>
</file>