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AB6B-631F-45B8-A714-952A2D33A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5510-3383-4DC4-A881-33A7385DD5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0853-AE82-461D-AFD0-20F808A9DD1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9DE5-2A1C-4874-AF9C-02D5FF76B0B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CB61-FA6D-433D-8A69-D3F9B36579B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82C8-1B7D-4309-8AAB-0F8181F56A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8D84-6132-4B44-8CB1-6CC4811629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CBD5-D298-4C3D-84B7-03E72142197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032D-4F87-46E7-ABBF-414A91FE7D0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39EE-0079-44EC-8358-9A848AAAFE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D788-ABC0-428F-BB8C-A4995F315DA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E3FD-1D12-4744-BB22-F4597E91B40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9E3C-4A75-4BB8-BA10-6362E02DD38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80F2-8A86-4F74-967A-33FC81496CB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9413-FC74-4745-97F0-16818DAC988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242C-7BF5-476C-83B9-8816605D32C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65DA-4E61-44D7-A00C-59A6827ED87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DAF8-E7E9-48A6-91CD-7F2C3EA82C2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62F8-FF42-454B-AA97-D07CC2D20B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074D-642E-4586-BC6F-CA29ADD00F6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AC7D-2185-4189-BF98-CB6AFB59C1E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BCED-EB0A-4170-A52E-DDAEAD0826D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843B-4900-40F4-85B2-AF414CD6793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EC3B-0875-486C-B0B7-B6158720593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C5A3-9081-43F4-8259-E6497F361A2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1DC-3CEF-4F4F-9A3A-3726B0F361C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14DD-8D2C-4FE0-8E55-77AE58E3CAB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5043-6829-4CDD-B5E0-E3165E7A5DD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3E80-D254-4B2A-A4A6-EB3E3C81122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0946-98F3-4056-9C35-8CF7A572987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10EA-9792-43A2-B78C-9AEDF474D66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1BD4-F761-4EF4-B018-D2B54A58B2C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EB4C-0F9C-440F-9DCF-827A1DF43E3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198CCF-75E6-4962-BCFE-B15328845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5DBA4C-343E-4C0F-83BB-AE683B791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90AAA2-F5E6-413F-8006-CE7C2CFB6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4EA903-342D-48D8-8A90-16C7E97EB8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F1B20E-2792-45F1-86A5-A4114DCA31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A2B8D3-6D75-4507-B7E5-10E2A48274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9DEAB8-6FB9-4BC7-8847-D1C74C11A5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FD75BC-B81D-45D4-A24E-BD7501B848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2E0676-B25F-4123-A5A1-1A127D370B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C7EADC-C69B-4B4D-ACB3-03CE3F4EF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A3B0E-9413-4288-8DC6-5027355B0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8E6EE-00CC-4851-9F00-3BE6A4944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3518-E820-4A47-A0F1-9FE9312B90C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069B-4893-40A7-BA24-493CDEE1DA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C119-744E-4274-A30D-D0C28792B5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4614-F166-4656-B1BF-0686A62917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8B28-2C1F-4095-A043-C33845E435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C838-0A66-4137-8299-D222E4D5EC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ED45-5B7B-4239-B781-F72DB1F479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14E2-CD05-425B-A0A1-BFFA885F62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D5E1-6828-435C-961B-C935B48A4F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3766-0228-43F5-AE50-A3F77C46555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A4E5-BAD1-4F56-8433-D1A302B398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BEFC-6BB6-4B01-AE1B-A6C51C312B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1667-F3B2-47AB-9039-37516A1268B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76E6-5CB2-4F8A-BF20-FFBD9E330E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B1CE-D40B-4416-BC4F-29F826C481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795F-D968-460B-837D-A5B48E82F45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B409-09AA-4FE8-9085-AFB0C46BB5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41D6-67BE-43A8-9DC2-87AD45ADF2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77DF-7812-4434-AD34-E08EEFCEEC9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C533-0CA9-4C59-AFEA-E4B13F2F4F1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D70B-BAA8-40AE-A948-EA533CD34B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B91D-4452-46DD-B40A-2A9E281715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58AD-1A37-49A3-9C81-3BDE8DA0CA1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1654-8E0F-4EB0-88A7-4916F210FB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0712-3AE0-47E0-92C3-E892AD49C6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EFC4-53FA-456A-A298-34F2DB60096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A487-5B97-45FF-9550-48F6FB9F26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893C-B882-4133-B236-79F1AC2A0AA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C09E-8824-4576-95C9-20F530DB96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0C19-8CBB-45F4-A94A-E034670397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52D0-3A81-48FC-B8FB-9DFF5FF8E7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754D-9901-4DDF-B484-AF2A6344B1E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7-09-17T08:55:29Z</dcterms:modified>
  <cp:revision>163</cp:revision>
  <dc:subject>Probability Distributions</dc:subject>
  <dc:title>Chapter 6</dc:title>
</cp:coreProperties>
</file>