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9C6B-07E0-4727-9795-D3153312F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027B-60DD-4D92-A67C-682FA05E331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96B3-F8F2-47B1-B326-EF07B9CB9AC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849A-86C8-432E-95E6-9CCF46B834F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0865-6011-410E-AF0B-B3484878679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A2E6-4D9F-47B1-AE7F-99251A9027D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82BA-4A9A-46DF-AC76-772100B517E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A2F7-8D59-4C8E-8AF7-3E51DB480D8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E739-392C-4C6E-BD2C-BF2AA959196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F8F4-9394-49F9-8639-228BC0723FB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F216-B1E0-4D57-944A-0D0A2156F7C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30A9-4D6D-43CC-B023-780D59E9D34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455A-C2ED-459A-91A8-9A31606BBCC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C2FB-527C-4D6A-8DB2-82F9082EAAA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A1CC-6515-4363-A2DF-AE0145EE26C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D824-B7C9-4BDC-9FA2-E26F62D9F16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48E3-33EC-4490-A9F1-3289AEFDB59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751B-67BB-48A2-A4F1-1E04C29D56D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7E54-5409-4AB6-B81E-543E552A63A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0DFC-79CB-4EFF-8DA0-79CBC259489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8F24-6D59-4C4D-A760-86EF520D599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C6A6-6A57-4B3B-8B2D-DFE6344C9A4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4C14-420A-48CF-A2C0-C58E4B6F0D5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0B16-7316-4C84-8AB8-1F86B8FEE99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9821-69BD-4A10-B1EF-C0ADE869D97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8904-8A5C-411C-A6C6-855BB6D8BF1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57B9-CDA1-4BDD-BE73-849091204AE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8666-5582-41B7-B491-75CE8CCB95C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92E1-47D4-491E-840E-68873446873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2775-0F8C-4E4D-B949-F22373D3C60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FAAF-378F-4D98-B9E4-65EC60A0B59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CAB9-91E8-49DD-B30A-230EE454E37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6DF7-0EB4-446B-9B72-F49E6CAA9F5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4CB8F7-3D32-492B-AD05-1A9B41394E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8A18B4-0858-46A8-982C-EE6E2D29EE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C169C6-41DE-4FCD-B7FA-D4C359443D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96ACC3-1509-4B6A-951E-EFB05E1B05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610770-5A64-46FF-B6BA-811E20CC63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C62603-D5B8-4B23-A155-F5D9475E04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580738-9CEA-4051-9443-3CF14A27C4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159C94-185E-48EE-97D6-9067CBC206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D19231-B1C6-4EF2-9641-3D00D469A0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6E65DE-6A0B-4F9C-BCDD-1A45977080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14E6B8-9AC3-4A1A-9254-B5FD8C522D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DD64E1-1F3F-4B30-9C94-C68CC14388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96CE-2436-4353-9CBE-4696022D742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3366"/>
              </a:solidFill>
              <a:latin typeface="Arial"/>
            </a:endParaRPr>
          </a:p>
        </p:txBody>
      </p:sp>
      <p:pic>
        <p:nvPicPr>
          <p:cNvPr id="101" name="Picture 5" descr="intro"/>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C3CD-5130-41A5-8FE0-0A36E83D479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07" dur="500"/>
                                        <p:tgtEl>
                                          <p:spTgt spid="132">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12" dur="500"/>
                                        <p:tgtEl>
                                          <p:spTgt spid="132">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17" dur="500"/>
                                        <p:tgtEl>
                                          <p:spTgt spid="13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22"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3A19-310E-481F-B102-34A80B184F1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35" name="Rectangle 6"/>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36" name="Picture 8" descr="0611"/>
          <p:cNvPicPr/>
          <p:nvPr/>
        </p:nvPicPr>
        <p:blipFill>
          <a:blip r:embed="rId1"/>
          <a:stretch/>
        </p:blipFill>
        <p:spPr>
          <a:xfrm>
            <a:off x="952560" y="5086440"/>
            <a:ext cx="7686720" cy="61920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5"/>
                                        </p:tgtEl>
                                        <p:attrNameLst>
                                          <p:attrName>style.visibility</p:attrName>
                                        </p:attrNameLst>
                                      </p:cBhvr>
                                      <p:to>
                                        <p:strVal val="visible"/>
                                      </p:to>
                                    </p:set>
                                    <p:animEffect filter="wipe(left)" transition="in">
                                      <p:cBhvr additive="repl">
                                        <p:cTn id="1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0105-33DF-4FDB-BDE0-CB4191B4010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39" name="Rectangle 4"/>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40" name="Picture 9" descr="0612"/>
          <p:cNvPicPr/>
          <p:nvPr/>
        </p:nvPicPr>
        <p:blipFill>
          <a:blip r:embed="rId1"/>
          <a:stretch/>
        </p:blipFill>
        <p:spPr>
          <a:xfrm>
            <a:off x="1162080" y="5657760"/>
            <a:ext cx="7648560" cy="505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482A9-03A3-43C6-8A90-6A3CBECD1E5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43" name="PlaceHolder 1"/>
          <p:cNvSpPr>
            <a:spLocks noGrp="1"/>
          </p:cNvSpPr>
          <p:nvPr>
            <p:ph/>
          </p:nvPr>
        </p:nvSpPr>
        <p:spPr>
          <a:xfrm>
            <a:off x="3981600" y="1943280"/>
            <a:ext cx="4682880" cy="17049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4" name="Picture 11" descr="0613a"/>
          <p:cNvPicPr/>
          <p:nvPr/>
        </p:nvPicPr>
        <p:blipFill>
          <a:blip r:embed="rId1"/>
          <a:stretch/>
        </p:blipFill>
        <p:spPr>
          <a:xfrm>
            <a:off x="762120" y="2076480"/>
            <a:ext cx="3000240" cy="4457520"/>
          </a:xfrm>
          <a:prstGeom prst="rect">
            <a:avLst/>
          </a:prstGeom>
          <a:ln w="0">
            <a:noFill/>
          </a:ln>
        </p:spPr>
      </p:pic>
      <p:pic>
        <p:nvPicPr>
          <p:cNvPr id="145" name="Picture 12" descr="0613b"/>
          <p:cNvPicPr/>
          <p:nvPr/>
        </p:nvPicPr>
        <p:blipFill>
          <a:blip r:embed="rId2"/>
          <a:stretch/>
        </p:blipFill>
        <p:spPr>
          <a:xfrm>
            <a:off x="4743360" y="3524400"/>
            <a:ext cx="3143520" cy="2857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FD3E-D31F-4A7B-975E-EE507EC7A5E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48" name="Picture 14" descr="0614"/>
          <p:cNvPicPr/>
          <p:nvPr/>
        </p:nvPicPr>
        <p:blipFill>
          <a:blip r:embed="rId1"/>
          <a:stretch/>
        </p:blipFill>
        <p:spPr>
          <a:xfrm>
            <a:off x="1943280" y="2362320"/>
            <a:ext cx="5276520" cy="39146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8549-C3C5-4211-ABE3-F2E156F5D01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51" name="Picture 9" descr="0615"/>
          <p:cNvPicPr/>
          <p:nvPr/>
        </p:nvPicPr>
        <p:blipFill>
          <a:blip r:embed="rId1"/>
          <a:stretch/>
        </p:blipFill>
        <p:spPr>
          <a:xfrm>
            <a:off x="914400" y="2819520"/>
            <a:ext cx="7686720" cy="2733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B175-7518-4264-A5ED-2DE7DE975A2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5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136" dur="500"/>
                                        <p:tgtEl>
                                          <p:spTgt spid="154">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141" dur="500"/>
                                        <p:tgtEl>
                                          <p:spTgt spid="154">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146" dur="500"/>
                                        <p:tgtEl>
                                          <p:spTgt spid="154">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151" dur="500"/>
                                        <p:tgtEl>
                                          <p:spTgt spid="154">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156"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8DC1-5F57-4CBB-B327-8AF1526DDB7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57" name="Picture 9" descr="0617"/>
          <p:cNvPicPr/>
          <p:nvPr/>
        </p:nvPicPr>
        <p:blipFill>
          <a:blip r:embed="rId1"/>
          <a:stretch/>
        </p:blipFill>
        <p:spPr>
          <a:xfrm>
            <a:off x="876240" y="3124080"/>
            <a:ext cx="7686720" cy="2114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3CF3-C210-4D12-8EE5-A264B94C02E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0" name="PlaceHolder 1"/>
          <p:cNvSpPr>
            <a:spLocks noGrp="1"/>
          </p:cNvSpPr>
          <p:nvPr>
            <p:ph/>
          </p:nvPr>
        </p:nvSpPr>
        <p:spPr>
          <a:xfrm>
            <a:off x="837720" y="1904760"/>
            <a:ext cx="346572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61" name="Picture 6" descr="0618"/>
          <p:cNvPicPr/>
          <p:nvPr/>
        </p:nvPicPr>
        <p:blipFill>
          <a:blip r:embed="rId1"/>
          <a:stretch/>
        </p:blipFill>
        <p:spPr>
          <a:xfrm>
            <a:off x="4324320" y="3086280"/>
            <a:ext cx="4552920" cy="2257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89C3-C99F-4571-BF4D-3BDA6743430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64" name="Picture 10" descr="0620"/>
          <p:cNvPicPr/>
          <p:nvPr/>
        </p:nvPicPr>
        <p:blipFill>
          <a:blip r:embed="rId1"/>
          <a:stretch/>
        </p:blipFill>
        <p:spPr>
          <a:xfrm>
            <a:off x="590400" y="3086280"/>
            <a:ext cx="8239320" cy="1666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F83E-FE89-48FA-A89F-F805343E1F4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21DF-8D41-4C00-817C-0746A047A34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6" name="PlaceHolder 1"/>
          <p:cNvSpPr>
            <a:spLocks noGrp="1"/>
          </p:cNvSpPr>
          <p:nvPr>
            <p:ph/>
          </p:nvPr>
        </p:nvSpPr>
        <p:spPr>
          <a:xfrm>
            <a:off x="514440" y="2123640"/>
            <a:ext cx="3541680" cy="4334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68" name="Picture 8" descr="0621"/>
          <p:cNvPicPr/>
          <p:nvPr/>
        </p:nvPicPr>
        <p:blipFill>
          <a:blip r:embed="rId1"/>
          <a:stretch/>
        </p:blipFill>
        <p:spPr>
          <a:xfrm>
            <a:off x="4896000" y="2286000"/>
            <a:ext cx="3485880" cy="38098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1FAE-44C6-4C78-A136-9A8A14DF87F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0" name=""/>
          <p:cNvSpPr txBox="1"/>
          <p:nvPr/>
        </p:nvSpPr>
        <p:spPr>
          <a:xfrm>
            <a:off x="567000" y="871920"/>
            <a:ext cx="781884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71" name="Picture 11" descr="0622"/>
          <p:cNvPicPr/>
          <p:nvPr/>
        </p:nvPicPr>
        <p:blipFill>
          <a:blip r:embed="rId1"/>
          <a:stretch/>
        </p:blipFill>
        <p:spPr>
          <a:xfrm>
            <a:off x="952560" y="2819520"/>
            <a:ext cx="7686720" cy="27144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ADB7-C309-41D6-9233-B80858B4F74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75" name="PlaceHolder 1"/>
          <p:cNvSpPr>
            <a:spLocks noGrp="1"/>
          </p:cNvSpPr>
          <p:nvPr>
            <p:ph/>
          </p:nvPr>
        </p:nvSpPr>
        <p:spPr>
          <a:xfrm>
            <a:off x="838080" y="1904760"/>
            <a:ext cx="7693200" cy="164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6" name="Picture 16" descr="0623"/>
          <p:cNvPicPr/>
          <p:nvPr/>
        </p:nvPicPr>
        <p:blipFill>
          <a:blip r:embed="rId1"/>
          <a:stretch/>
        </p:blipFill>
        <p:spPr>
          <a:xfrm>
            <a:off x="990720" y="3581280"/>
            <a:ext cx="7619760" cy="29815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9EC3-1423-47B7-AB6A-6377E04FEC7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79" name="PlaceHolder 1"/>
          <p:cNvSpPr>
            <a:spLocks noGrp="1"/>
          </p:cNvSpPr>
          <p:nvPr>
            <p:ph/>
          </p:nvPr>
        </p:nvSpPr>
        <p:spPr>
          <a:xfrm>
            <a:off x="838080" y="1904760"/>
            <a:ext cx="2492640" cy="41814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80" name="Picture 11" descr="0624"/>
          <p:cNvPicPr/>
          <p:nvPr/>
        </p:nvPicPr>
        <p:blipFill>
          <a:blip r:embed="rId1"/>
          <a:stretch/>
        </p:blipFill>
        <p:spPr>
          <a:xfrm>
            <a:off x="4305240" y="1790640"/>
            <a:ext cx="3743280" cy="47530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8B17-9F71-4C13-973C-20C797A822E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3" name="Picture 7" descr=""/>
          <p:cNvPicPr/>
          <p:nvPr/>
        </p:nvPicPr>
        <p:blipFill>
          <a:blip r:embed="rId1"/>
          <a:stretch/>
        </p:blipFill>
        <p:spPr>
          <a:xfrm>
            <a:off x="912960" y="1905120"/>
            <a:ext cx="4894200" cy="331560"/>
          </a:xfrm>
          <a:prstGeom prst="rect">
            <a:avLst/>
          </a:prstGeom>
          <a:ln w="0">
            <a:noFill/>
          </a:ln>
        </p:spPr>
      </p:pic>
      <p:pic>
        <p:nvPicPr>
          <p:cNvPr id="184" name="Picture 12" descr="0625"/>
          <p:cNvPicPr/>
          <p:nvPr/>
        </p:nvPicPr>
        <p:blipFill>
          <a:blip r:embed="rId2"/>
          <a:stretch/>
        </p:blipFill>
        <p:spPr>
          <a:xfrm>
            <a:off x="743040" y="2571840"/>
            <a:ext cx="7915320" cy="37814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74AA-FAF0-4EE0-8619-6F452B8E541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7" name="Picture 9" descr="0626"/>
          <p:cNvPicPr/>
          <p:nvPr/>
        </p:nvPicPr>
        <p:blipFill>
          <a:blip r:embed="rId1"/>
          <a:stretch/>
        </p:blipFill>
        <p:spPr>
          <a:xfrm>
            <a:off x="1542960" y="2495520"/>
            <a:ext cx="6762960" cy="343872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53A0-0216-4031-85E9-D2A8DF735DA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90" name="PlaceHolder 1"/>
          <p:cNvSpPr>
            <a:spLocks noGrp="1"/>
          </p:cNvSpPr>
          <p:nvPr>
            <p:ph/>
          </p:nvPr>
        </p:nvSpPr>
        <p:spPr>
          <a:xfrm>
            <a:off x="837720" y="1905120"/>
            <a:ext cx="7790040" cy="221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91" name="Picture 11" descr="0627"/>
          <p:cNvPicPr/>
          <p:nvPr/>
        </p:nvPicPr>
        <p:blipFill>
          <a:blip r:embed="rId1"/>
          <a:stretch/>
        </p:blipFill>
        <p:spPr>
          <a:xfrm>
            <a:off x="1219320" y="4286160"/>
            <a:ext cx="7448400" cy="21909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347E-CF19-4A6D-BEC1-E9B720F64A7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63" dur="500"/>
                                        <p:tgtEl>
                                          <p:spTgt spid="194">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168" dur="500"/>
                                        <p:tgtEl>
                                          <p:spTgt spid="194">
                                            <p:txEl>
                                              <p:pRg st="1" end="1"/>
                                            </p:txEl>
                                          </p:spTgt>
                                        </p:tgtEl>
                                      </p:cBhvr>
                                    </p:animEffect>
                                  </p:childTnLst>
                                </p:cTn>
                              </p:par>
                              <p:par>
                                <p:cTn id="169" nodeType="withEffect" fill="hold" presetClass="entr" presetID="22" presetSubtype="8">
                                  <p:stCondLst>
                                    <p:cond delay="0"/>
                                  </p:stCondLst>
                                  <p:childTnLst>
                                    <p:set>
                                      <p:cBhvr>
                                        <p:cTn id="170"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171" dur="500"/>
                                        <p:tgtEl>
                                          <p:spTgt spid="194">
                                            <p:txEl>
                                              <p:pRg st="2" end="2"/>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174" dur="5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9720-72FC-4EFE-B432-3F576699A5E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98" name="Picture 9" descr="0637"/>
          <p:cNvPicPr/>
          <p:nvPr/>
        </p:nvPicPr>
        <p:blipFill>
          <a:blip r:embed="rId1"/>
          <a:stretch/>
        </p:blipFill>
        <p:spPr>
          <a:xfrm>
            <a:off x="743040" y="3753000"/>
            <a:ext cx="8115120" cy="23144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1779-D5A9-4021-A94B-5C72009F12F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01"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202" name="Object 4"/>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20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81" dur="500"/>
                                        <p:tgtEl>
                                          <p:spTgt spid="201">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86"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4197-AF12-4A34-B76F-5C192504946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107" name="Rectangle 7"/>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108" name="Picture 11" descr=""/>
          <p:cNvPicPr/>
          <p:nvPr/>
        </p:nvPicPr>
        <p:blipFill>
          <a:blip r:embed="rId1"/>
          <a:stretch/>
        </p:blipFill>
        <p:spPr>
          <a:xfrm>
            <a:off x="838080" y="2000160"/>
            <a:ext cx="7694640" cy="733680"/>
          </a:xfrm>
          <a:prstGeom prst="rect">
            <a:avLst/>
          </a:prstGeom>
          <a:ln w="0">
            <a:noFill/>
          </a:ln>
        </p:spPr>
      </p:pic>
      <p:pic>
        <p:nvPicPr>
          <p:cNvPr id="109" name="Picture 14" descr="0603"/>
          <p:cNvPicPr/>
          <p:nvPr/>
        </p:nvPicPr>
        <p:blipFill>
          <a:blip r:embed="rId2"/>
          <a:stretch/>
        </p:blipFill>
        <p:spPr>
          <a:xfrm>
            <a:off x="3822840" y="3178080"/>
            <a:ext cx="5074920" cy="2816280"/>
          </a:xfrm>
          <a:prstGeom prst="rect">
            <a:avLst/>
          </a:prstGeom>
          <a:ln w="0">
            <a:noFill/>
          </a:ln>
        </p:spPr>
      </p:pic>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7"/>
                                        </p:tgtEl>
                                        <p:attrNameLst>
                                          <p:attrName>style.visibility</p:attrName>
                                        </p:attrNameLst>
                                      </p:cBhvr>
                                      <p:to>
                                        <p:strVal val="visible"/>
                                      </p:to>
                                    </p:set>
                                    <p:animEffect filter="wipe(up)" transition="in">
                                      <p:cBhvr additive="repl">
                                        <p:cTn id="3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59DE-0C56-47A8-A0B4-8A96EB9D8B6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7"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208" name="Picture 10" descr="0639"/>
          <p:cNvPicPr/>
          <p:nvPr/>
        </p:nvPicPr>
        <p:blipFill>
          <a:blip r:embed="rId1"/>
          <a:stretch/>
        </p:blipFill>
        <p:spPr>
          <a:xfrm>
            <a:off x="914400" y="4896000"/>
            <a:ext cx="7819920" cy="14475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B13F-6008-4E1D-8BE2-0FF5ADE3B52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211" name="PlaceHolder 2"/>
          <p:cNvSpPr>
            <a:spLocks noGrp="1"/>
          </p:cNvSpPr>
          <p:nvPr>
            <p:ph/>
          </p:nvPr>
        </p:nvSpPr>
        <p:spPr>
          <a:xfrm>
            <a:off x="685440" y="1752480"/>
            <a:ext cx="8458200" cy="418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212" name="Picture 10" descr="0640"/>
          <p:cNvPicPr/>
          <p:nvPr/>
        </p:nvPicPr>
        <p:blipFill>
          <a:blip r:embed="rId1"/>
          <a:stretch/>
        </p:blipFill>
        <p:spPr>
          <a:xfrm>
            <a:off x="990720" y="3524400"/>
            <a:ext cx="7772400" cy="305748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EB36-D5C8-4B9C-98C6-E5C1C78530E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4"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AD17-0194-4BC0-8BB2-7CCCA4FAEFA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12" name="Picture 14" descr="0604"/>
          <p:cNvPicPr/>
          <p:nvPr/>
        </p:nvPicPr>
        <p:blipFill>
          <a:blip r:embed="rId1"/>
          <a:stretch/>
        </p:blipFill>
        <p:spPr>
          <a:xfrm>
            <a:off x="1085760" y="2095560"/>
            <a:ext cx="7677360" cy="42004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F7FB-AF2A-4DC9-84A8-EB54D325389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15" name="Picture 8" descr="0605"/>
          <p:cNvPicPr/>
          <p:nvPr/>
        </p:nvPicPr>
        <p:blipFill>
          <a:blip r:embed="rId1"/>
          <a:stretch/>
        </p:blipFill>
        <p:spPr>
          <a:xfrm>
            <a:off x="990720" y="2914560"/>
            <a:ext cx="7686720" cy="1419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D850-0BD7-458A-9293-30711F33516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18"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0" name="Picture 13" descr="0606"/>
          <p:cNvPicPr/>
          <p:nvPr/>
        </p:nvPicPr>
        <p:blipFill>
          <a:blip r:embed="rId1"/>
          <a:stretch/>
        </p:blipFill>
        <p:spPr>
          <a:xfrm>
            <a:off x="2419200" y="3790800"/>
            <a:ext cx="5029200" cy="23241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3418-5D06-4F73-8DE6-6E7E2794368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2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46" dur="500"/>
                                        <p:tgtEl>
                                          <p:spTgt spid="12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7E64-D73A-4DE5-BA22-10518AF1AF9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26" name="PlaceHolder 1"/>
          <p:cNvSpPr>
            <a:spLocks noGrp="1"/>
          </p:cNvSpPr>
          <p:nvPr>
            <p:ph/>
          </p:nvPr>
        </p:nvSpPr>
        <p:spPr>
          <a:xfrm>
            <a:off x="838080" y="1904760"/>
            <a:ext cx="7693200" cy="2390760"/>
          </a:xfrm>
          <a:prstGeom prst="rect">
            <a:avLst/>
          </a:prstGeom>
          <a:noFill/>
          <a:ln w="0">
            <a:noFill/>
          </a:ln>
        </p:spPr>
        <p:txBody>
          <a:bodyPr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8" dur="500"/>
                                        <p:tgtEl>
                                          <p:spTgt spid="12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63" dur="500"/>
                                        <p:tgtEl>
                                          <p:spTgt spid="12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68" dur="500"/>
                                        <p:tgtEl>
                                          <p:spTgt spid="126">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73" dur="500"/>
                                        <p:tgtEl>
                                          <p:spTgt spid="126">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78"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51CA-2167-422A-8266-87A15A59A05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29" name="PlaceHolder 1"/>
          <p:cNvSpPr>
            <a:spLocks noGrp="1"/>
          </p:cNvSpPr>
          <p:nvPr>
            <p:ph/>
          </p:nvPr>
        </p:nvSpPr>
        <p:spPr>
          <a:xfrm>
            <a:off x="780840" y="2323800"/>
            <a:ext cx="7692840" cy="3381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Tree>
  </p:cSld>
  <p:transition>
    <p:wipe dir="r"/>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85" dur="500"/>
                                        <p:tgtEl>
                                          <p:spTgt spid="129">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90" dur="500"/>
                                        <p:tgtEl>
                                          <p:spTgt spid="129">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95" dur="500"/>
                                        <p:tgtEl>
                                          <p:spTgt spid="129">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10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5:29Z</dcterms:modified>
  <cp:revision>163</cp:revision>
  <dc:subject>Probability Distributions</dc:subject>
  <dc:title>Chapter 6</dc:title>
</cp:coreProperties>
</file>