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A257-A318-4BCE-B046-75ADC5B48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0BC72-37E3-4BED-A0B4-4624F579C3C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BCE23-D06A-46D0-94F1-2422C46E669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6B0D-CCF9-4A80-8724-71A7F47FDFD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C25B0-7B81-472F-8125-730E11F4530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E3AA-8350-476B-B451-D78B353EEDA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40D0-6524-4B88-8A32-3C454C34D51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AA9C-46DA-4800-BB45-8BD9458A92E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93A1-AEBD-46E4-A629-2533DC23903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814A-46A2-4E99-B283-BE3D8072A40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4CC5-AAC7-4D2D-9730-09B38D865C1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A0A0-088C-42E1-B7BC-CBE176D64FD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83408-3C75-4A82-96E2-83B94E8F214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D41A-4FF1-4F47-BCA6-E6C7B4DB826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BE895-24C1-4E6E-BA89-FC200FF1198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BCD8-29DE-46C6-B2A1-721D1747613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76B7-49AB-4C03-947C-E5178B66E43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D149-D885-4E56-B2F5-C83C759D774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CD3F-542F-42A4-A2AA-484287A2FAA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153A-9A79-46F4-AA90-1936DCDEDDD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F9625-AF29-446B-9267-91D318B21AB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7707-4968-48FF-B0B6-FD45251B92B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F0B8-90CD-4F06-8599-B78E06C2404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291F-0F44-4837-ACA7-B0BE136C966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4C8B-18C5-4500-A35A-4883789D7E0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1FEAF-A92E-4D0D-8778-045C2F529BB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9DFAC-CB54-4FBB-8158-5A428D2A206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CD2C-5A70-44FF-9091-82A888C0B01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51E6-D6B8-4EE8-970A-9555F6D2B90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EEF95-9106-40E1-956A-F2E472ECB7E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AF9F-BFE8-418C-A48A-16AAB7A9F69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DCF66-3173-4CEE-B896-7B2D2CFB371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844D-EA7B-4FD7-8DB9-1E72648F2F6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3D16-0092-4957-B238-F8D707DAD06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8371-464C-4EF8-A401-C4842922C34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D148-CAE3-4CDE-B513-65468CBAC32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545383-4B3E-478C-ACCA-8FEE663898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A757F7-458E-4BB4-8CD8-10322C0138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436719-85DB-4594-8226-11AA478795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ACC479-1A1A-44C5-9583-D11F58870D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C3EF02-EF66-4779-9227-807D3D11C4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19C037-53A8-4CE4-9337-FDDCEADE4F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3D1D5A-D67C-4B8A-B564-1AAFA575A0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E4172B-A501-4152-B309-AA004544A3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E2E00C-8D85-4DC3-BD31-35FCD526C8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BCF001-6525-4D78-8417-93500AC280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F1A9BB-6368-4768-9A7E-27DA6F2ED7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57C357-E319-4222-AB74-E27DFD8747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09FF8-24F5-48A9-8BFF-DE3D64E91232}"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3366"/>
              </a:solidFill>
              <a:latin typeface="Arial"/>
            </a:endParaRPr>
          </a:p>
        </p:txBody>
      </p:sp>
      <p:pic>
        <p:nvPicPr>
          <p:cNvPr id="101" name="Picture 5" descr="intro"/>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274B-3491-44C8-B875-AB035F50DAD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9021-DDB4-4F82-A2B9-5D714A5BDE7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35" name="Rectangle 6"/>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36" name="Picture 8" descr="0611"/>
          <p:cNvPicPr/>
          <p:nvPr/>
        </p:nvPicPr>
        <p:blipFill>
          <a:blip r:embed="rId1"/>
          <a:stretch/>
        </p:blipFill>
        <p:spPr>
          <a:xfrm>
            <a:off x="952560" y="5086440"/>
            <a:ext cx="7686720" cy="61920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F391-D105-48DE-921E-2EEE30E4FE5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39" name="Rectangle 4"/>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40" name="Picture 9" descr="0612"/>
          <p:cNvPicPr/>
          <p:nvPr/>
        </p:nvPicPr>
        <p:blipFill>
          <a:blip r:embed="rId1"/>
          <a:stretch/>
        </p:blipFill>
        <p:spPr>
          <a:xfrm>
            <a:off x="1162080" y="5657760"/>
            <a:ext cx="7648560" cy="5050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2823-F851-4932-9222-2494BE1A199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43" name="PlaceHolder 1"/>
          <p:cNvSpPr>
            <a:spLocks noGrp="1"/>
          </p:cNvSpPr>
          <p:nvPr>
            <p:ph/>
          </p:nvPr>
        </p:nvSpPr>
        <p:spPr>
          <a:xfrm>
            <a:off x="3981600" y="1943280"/>
            <a:ext cx="4682880" cy="17049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4" name="Picture 11" descr="0613a"/>
          <p:cNvPicPr/>
          <p:nvPr/>
        </p:nvPicPr>
        <p:blipFill>
          <a:blip r:embed="rId1"/>
          <a:stretch/>
        </p:blipFill>
        <p:spPr>
          <a:xfrm>
            <a:off x="762120" y="2076480"/>
            <a:ext cx="3000240" cy="4457520"/>
          </a:xfrm>
          <a:prstGeom prst="rect">
            <a:avLst/>
          </a:prstGeom>
          <a:ln w="0">
            <a:noFill/>
          </a:ln>
        </p:spPr>
      </p:pic>
      <p:pic>
        <p:nvPicPr>
          <p:cNvPr id="145" name="Picture 12" descr="0613b"/>
          <p:cNvPicPr/>
          <p:nvPr/>
        </p:nvPicPr>
        <p:blipFill>
          <a:blip r:embed="rId2"/>
          <a:stretch/>
        </p:blipFill>
        <p:spPr>
          <a:xfrm>
            <a:off x="4743360" y="3524400"/>
            <a:ext cx="3143520" cy="28573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52E3-DB6D-4E29-82EB-5864D0057FA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48" name="Picture 14" descr="0614"/>
          <p:cNvPicPr/>
          <p:nvPr/>
        </p:nvPicPr>
        <p:blipFill>
          <a:blip r:embed="rId1"/>
          <a:stretch/>
        </p:blipFill>
        <p:spPr>
          <a:xfrm>
            <a:off x="1943280" y="2362320"/>
            <a:ext cx="5276520" cy="39146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2916F-4F40-45A9-978C-319BC5F4ABA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51" name="Picture 9" descr="0615"/>
          <p:cNvPicPr/>
          <p:nvPr/>
        </p:nvPicPr>
        <p:blipFill>
          <a:blip r:embed="rId1"/>
          <a:stretch/>
        </p:blipFill>
        <p:spPr>
          <a:xfrm>
            <a:off x="914400" y="2819520"/>
            <a:ext cx="7686720" cy="27334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0090-FFF9-4CFE-905F-BFC19634C29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5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1A8A-18D4-4D78-9C67-6E6A9864F98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57" name="Picture 9" descr="0617"/>
          <p:cNvPicPr/>
          <p:nvPr/>
        </p:nvPicPr>
        <p:blipFill>
          <a:blip r:embed="rId1"/>
          <a:stretch/>
        </p:blipFill>
        <p:spPr>
          <a:xfrm>
            <a:off x="876240" y="3124080"/>
            <a:ext cx="7686720" cy="21146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C545-0749-4C10-A96E-2CA0BD1B9D4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60" name="PlaceHolder 1"/>
          <p:cNvSpPr>
            <a:spLocks noGrp="1"/>
          </p:cNvSpPr>
          <p:nvPr>
            <p:ph/>
          </p:nvPr>
        </p:nvSpPr>
        <p:spPr>
          <a:xfrm>
            <a:off x="573120" y="1904760"/>
            <a:ext cx="8461440" cy="4638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0.20</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E6E0-5828-433F-B6A6-CEF0972E5D3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63" name="PlaceHolder 1"/>
          <p:cNvSpPr>
            <a:spLocks noGrp="1"/>
          </p:cNvSpPr>
          <p:nvPr>
            <p:ph/>
          </p:nvPr>
        </p:nvSpPr>
        <p:spPr>
          <a:xfrm>
            <a:off x="573120" y="1904760"/>
            <a:ext cx="8461440" cy="4638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0.20</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64" name="Picture 6" descr="0618"/>
          <p:cNvPicPr/>
          <p:nvPr/>
        </p:nvPicPr>
        <p:blipFill>
          <a:blip r:embed="rId1"/>
          <a:stretch/>
        </p:blipFill>
        <p:spPr>
          <a:xfrm>
            <a:off x="2048040" y="3849840"/>
            <a:ext cx="4552920" cy="22572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1B09-243A-4AE8-95DE-23D5E9F3BC4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4" name=""/>
          <p:cNvSpPr txBox="1"/>
          <p:nvPr/>
        </p:nvSpPr>
        <p:spPr>
          <a:xfrm>
            <a:off x="477000" y="49608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095A-0548-46F3-834A-AFC3103F123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67" name="Picture 10" descr="0620"/>
          <p:cNvPicPr/>
          <p:nvPr/>
        </p:nvPicPr>
        <p:blipFill>
          <a:blip r:embed="rId1"/>
          <a:stretch/>
        </p:blipFill>
        <p:spPr>
          <a:xfrm>
            <a:off x="590400" y="3086280"/>
            <a:ext cx="8239320" cy="16668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9D081-F363-4E2E-A5E9-44F87B49D91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PlaceHolder 1"/>
          <p:cNvSpPr>
            <a:spLocks noGrp="1"/>
          </p:cNvSpPr>
          <p:nvPr>
            <p:ph/>
          </p:nvPr>
        </p:nvSpPr>
        <p:spPr>
          <a:xfrm>
            <a:off x="514080" y="1782720"/>
            <a:ext cx="8383320" cy="1765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0" name="AutoShape 7"/>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fontScale="93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748A8-8979-46BE-BA47-30F4E4F33EF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2" name="AutoShape 7"/>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fontScale="93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73" name="Picture 8" descr="0621"/>
          <p:cNvPicPr/>
          <p:nvPr/>
        </p:nvPicPr>
        <p:blipFill>
          <a:blip r:embed="rId1"/>
          <a:stretch/>
        </p:blipFill>
        <p:spPr>
          <a:xfrm>
            <a:off x="1519200" y="2052720"/>
            <a:ext cx="3486240" cy="380988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C3E8-140F-4D3D-95DF-C7196537C13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5" name=""/>
          <p:cNvSpPr txBox="1"/>
          <p:nvPr/>
        </p:nvSpPr>
        <p:spPr>
          <a:xfrm>
            <a:off x="567000" y="871920"/>
            <a:ext cx="781884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76" name="Picture 11" descr="0622"/>
          <p:cNvPicPr/>
          <p:nvPr/>
        </p:nvPicPr>
        <p:blipFill>
          <a:blip r:embed="rId1"/>
          <a:stretch/>
        </p:blipFill>
        <p:spPr>
          <a:xfrm>
            <a:off x="952560" y="2819520"/>
            <a:ext cx="7686720" cy="271440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783AF-A312-4E2B-B4E3-F85DDE2AEC1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8"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80" name="PlaceHolder 1"/>
          <p:cNvSpPr>
            <a:spLocks noGrp="1"/>
          </p:cNvSpPr>
          <p:nvPr>
            <p:ph/>
          </p:nvPr>
        </p:nvSpPr>
        <p:spPr>
          <a:xfrm>
            <a:off x="838080" y="1904760"/>
            <a:ext cx="7693200" cy="1647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1" name="Picture 16" descr="0623"/>
          <p:cNvPicPr/>
          <p:nvPr/>
        </p:nvPicPr>
        <p:blipFill>
          <a:blip r:embed="rId1"/>
          <a:stretch/>
        </p:blipFill>
        <p:spPr>
          <a:xfrm>
            <a:off x="990720" y="3581280"/>
            <a:ext cx="7619760" cy="298152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D165-5C22-4B2E-AD09-66C358D82F2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4" name="Picture 7" descr=""/>
          <p:cNvPicPr/>
          <p:nvPr/>
        </p:nvPicPr>
        <p:blipFill>
          <a:blip r:embed="rId1"/>
          <a:stretch/>
        </p:blipFill>
        <p:spPr>
          <a:xfrm>
            <a:off x="912960" y="1905120"/>
            <a:ext cx="4894200" cy="331560"/>
          </a:xfrm>
          <a:prstGeom prst="rect">
            <a:avLst/>
          </a:prstGeom>
          <a:ln w="0">
            <a:noFill/>
          </a:ln>
        </p:spPr>
      </p:pic>
      <p:pic>
        <p:nvPicPr>
          <p:cNvPr id="185" name="Picture 12" descr="0625"/>
          <p:cNvPicPr/>
          <p:nvPr/>
        </p:nvPicPr>
        <p:blipFill>
          <a:blip r:embed="rId2"/>
          <a:stretch/>
        </p:blipFill>
        <p:spPr>
          <a:xfrm>
            <a:off x="743040" y="2571840"/>
            <a:ext cx="7915320" cy="37814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37A41-D224-4207-A3BE-9F576E5BF91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8" name="Picture 9" descr="0626"/>
          <p:cNvPicPr/>
          <p:nvPr/>
        </p:nvPicPr>
        <p:blipFill>
          <a:blip r:embed="rId1"/>
          <a:stretch/>
        </p:blipFill>
        <p:spPr>
          <a:xfrm>
            <a:off x="1542960" y="2495520"/>
            <a:ext cx="6762960" cy="343872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عنصر نائب لرقم الشريحة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CF127-EE62-4215-8490-3307C9C112E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91" name="PlaceHolder 1"/>
          <p:cNvSpPr>
            <a:spLocks noGrp="1"/>
          </p:cNvSpPr>
          <p:nvPr>
            <p:ph/>
          </p:nvPr>
        </p:nvSpPr>
        <p:spPr>
          <a:xfrm>
            <a:off x="837720" y="1905120"/>
            <a:ext cx="7790040" cy="2219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عنصر نائب لرقم الشريحة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6167-81A3-4B52-84C4-88C65ED68FF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94" name="PlaceHolder 1"/>
          <p:cNvSpPr>
            <a:spLocks noGrp="1"/>
          </p:cNvSpPr>
          <p:nvPr>
            <p:ph/>
          </p:nvPr>
        </p:nvSpPr>
        <p:spPr>
          <a:xfrm>
            <a:off x="837720" y="1905120"/>
            <a:ext cx="7790040" cy="2219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95" name="Picture 11" descr="0627"/>
          <p:cNvPicPr/>
          <p:nvPr/>
        </p:nvPicPr>
        <p:blipFill>
          <a:blip r:embed="rId1"/>
          <a:stretch/>
        </p:blipFill>
        <p:spPr>
          <a:xfrm>
            <a:off x="1219320" y="4286160"/>
            <a:ext cx="7448400" cy="219096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9DA4-839A-41F7-8190-17DF83788F7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8" name="PlaceHolder 1"/>
          <p:cNvSpPr>
            <a:spLocks noGrp="1"/>
          </p:cNvSpPr>
          <p:nvPr>
            <p:ph/>
          </p:nvPr>
        </p:nvSpPr>
        <p:spPr>
          <a:xfrm>
            <a:off x="838080" y="1904760"/>
            <a:ext cx="7693200" cy="41814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D97C-74DD-493E-B5F9-9F563B3D632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107" name="Rectangle 7"/>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108" name="Picture 11" descr=""/>
          <p:cNvPicPr/>
          <p:nvPr/>
        </p:nvPicPr>
        <p:blipFill>
          <a:blip r:embed="rId1"/>
          <a:stretch/>
        </p:blipFill>
        <p:spPr>
          <a:xfrm>
            <a:off x="838080" y="2000160"/>
            <a:ext cx="7694640" cy="733680"/>
          </a:xfrm>
          <a:prstGeom prst="rect">
            <a:avLst/>
          </a:prstGeom>
          <a:ln w="0">
            <a:noFill/>
          </a:ln>
        </p:spPr>
      </p:pic>
      <p:pic>
        <p:nvPicPr>
          <p:cNvPr id="109" name="Picture 14" descr="0603"/>
          <p:cNvPicPr/>
          <p:nvPr/>
        </p:nvPicPr>
        <p:blipFill>
          <a:blip r:embed="rId2"/>
          <a:stretch/>
        </p:blipFill>
        <p:spPr>
          <a:xfrm>
            <a:off x="3822840" y="3178080"/>
            <a:ext cx="5074920" cy="2816280"/>
          </a:xfrm>
          <a:prstGeom prst="rect">
            <a:avLst/>
          </a:prstGeom>
          <a:ln w="0">
            <a:noFill/>
          </a:ln>
        </p:spPr>
      </p:pic>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7F2C6-64CF-4B63-93B9-49F877CB609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01"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202" name="Picture 9" descr="0637"/>
          <p:cNvPicPr/>
          <p:nvPr/>
        </p:nvPicPr>
        <p:blipFill>
          <a:blip r:embed="rId1"/>
          <a:stretch/>
        </p:blipFill>
        <p:spPr>
          <a:xfrm>
            <a:off x="743040" y="3753000"/>
            <a:ext cx="8115120" cy="231444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5268-3C89-4F69-AF17-9467D71FECA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05"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206" name="Object 4"/>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207"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9F1A-0CF0-4F63-BBBE-7882AA71A6E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9"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1"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1ED1-5026-49D5-A6D8-DED7BF46E4C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3"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5"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216" name="Picture 10" descr="0639"/>
          <p:cNvPicPr/>
          <p:nvPr/>
        </p:nvPicPr>
        <p:blipFill>
          <a:blip r:embed="rId1"/>
          <a:stretch/>
        </p:blipFill>
        <p:spPr>
          <a:xfrm>
            <a:off x="914400" y="4896000"/>
            <a:ext cx="7819920" cy="144756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0ACD9-97AF-4D98-AB27-A052A5F3D3D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8"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219" name="PlaceHolder 2"/>
          <p:cNvSpPr>
            <a:spLocks noGrp="1"/>
          </p:cNvSpPr>
          <p:nvPr>
            <p:ph/>
          </p:nvPr>
        </p:nvSpPr>
        <p:spPr>
          <a:xfrm>
            <a:off x="685440" y="1752480"/>
            <a:ext cx="8458200" cy="4181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220" name="Picture 10" descr="0640"/>
          <p:cNvPicPr/>
          <p:nvPr/>
        </p:nvPicPr>
        <p:blipFill>
          <a:blip r:embed="rId1"/>
          <a:stretch/>
        </p:blipFill>
        <p:spPr>
          <a:xfrm>
            <a:off x="990720" y="3524400"/>
            <a:ext cx="7772400" cy="305748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عنصر نائب لرقم الشريحة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A56B8-30CC-4769-8ACF-DE32E84C8A0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2"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4AED-40A0-45CE-8D04-4134A7017E9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12" name="Picture 14" descr="0604"/>
          <p:cNvPicPr/>
          <p:nvPr/>
        </p:nvPicPr>
        <p:blipFill>
          <a:blip r:embed="rId1"/>
          <a:stretch/>
        </p:blipFill>
        <p:spPr>
          <a:xfrm>
            <a:off x="1085760" y="2095560"/>
            <a:ext cx="7677360" cy="42004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20541-12FE-41BA-801D-86B1313801A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15" name="Picture 8" descr="0605"/>
          <p:cNvPicPr/>
          <p:nvPr/>
        </p:nvPicPr>
        <p:blipFill>
          <a:blip r:embed="rId1"/>
          <a:stretch/>
        </p:blipFill>
        <p:spPr>
          <a:xfrm>
            <a:off x="990720" y="2914560"/>
            <a:ext cx="7686720" cy="1419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8657-099B-4E66-9A7B-67580227CD1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18"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0" name="Picture 13" descr="0606"/>
          <p:cNvPicPr/>
          <p:nvPr/>
        </p:nvPicPr>
        <p:blipFill>
          <a:blip r:embed="rId1"/>
          <a:stretch/>
        </p:blipFill>
        <p:spPr>
          <a:xfrm>
            <a:off x="2419200" y="3790800"/>
            <a:ext cx="5029200" cy="23241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A437-7EC6-4673-AE47-07483A9B183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2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02464-738E-4491-8C24-E42B949DB50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26" name="PlaceHolder 1"/>
          <p:cNvSpPr>
            <a:spLocks noGrp="1"/>
          </p:cNvSpPr>
          <p:nvPr>
            <p:ph/>
          </p:nvPr>
        </p:nvSpPr>
        <p:spPr>
          <a:xfrm>
            <a:off x="838080" y="1904760"/>
            <a:ext cx="7693200" cy="2390760"/>
          </a:xfrm>
          <a:prstGeom prst="rect">
            <a:avLst/>
          </a:prstGeom>
          <a:noFill/>
          <a:ln w="0">
            <a:noFill/>
          </a:ln>
        </p:spPr>
        <p:txBody>
          <a:bodyPr anchor="t">
            <a:normAutofit fontScale="92000"/>
          </a:bodyPr>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659E-99A1-4E4E-B4C6-DD557E672DF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29" name="PlaceHolder 1"/>
          <p:cNvSpPr>
            <a:spLocks noGrp="1"/>
          </p:cNvSpPr>
          <p:nvPr>
            <p:ph/>
          </p:nvPr>
        </p:nvSpPr>
        <p:spPr>
          <a:xfrm>
            <a:off x="780840" y="2323800"/>
            <a:ext cx="7692840" cy="3381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11-19T21:12:53Z</dcterms:modified>
  <cp:revision>167</cp:revision>
  <dc:subject>Probability Distributions</dc:subject>
  <dc:title>Chapter 6</dc:title>
</cp:coreProperties>
</file>