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C750-5ABF-49CD-832B-BEEAF41B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CFB-9E7D-4E88-8F45-D34CA8BE67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489-8C3F-4F58-A537-4AE8173CB60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0942-8188-4177-8F26-B60F42E1889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938B-D6B6-4BE3-9DB0-4B0BFD9F5C0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548-5968-4E33-AAEB-AB00ABF0F3A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FDA-D7DB-49AC-BA25-C1C42021069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E31-BDFC-4FC7-9548-8451B774B5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4D7-7288-418B-B7EC-65EAE07CDE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1B0-6133-4C26-BEA3-BC4B92F2193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181B-D2F0-4413-94C0-A7D24FB13E0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1DB4-5A93-43A5-8743-BA57F3F2B40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C55C-D130-4C2C-B1F1-75DA8A3C50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7A8-B5F7-489F-8899-3133536B65B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23E-5060-43EB-9573-A0CEB2AF948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EF6-AF62-4979-BE26-1106D66E49A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56F-C820-4413-9821-1969D5A3C1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30A-1CFF-4939-93C9-E3626CAE0AA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7DEB-1A2D-49A8-A512-CCEF11D7063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521-4539-4C1F-A118-E0F96648493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D4A-3568-4196-92DC-22DBC947257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9E1-7E63-4D57-932A-8CAEF1A186C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3A1-4211-4FDA-B054-D1C16F66800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85CF-B237-43AD-A5F6-C88F88F4F4D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03E-DD90-4977-80D5-A9D58E2299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2010-8B88-46F6-85B4-C1EED21E8C1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B33B-7810-4A0F-AA9D-CDD1AE6EEC5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5658-015B-4B19-B178-7A774D625D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609-0268-416D-B8B1-D6DA831181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61E-5634-463F-932B-625B94686AA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B53-0E96-4771-ACA7-BEDA10D6C48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F62-9459-4303-BBBD-2CEF3354D6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4F2-E8DD-4487-8CED-634945B68B6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1B3-570F-48CD-AAA2-362879F8AD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29C-2005-4EE6-9FDE-AAFFFD5D59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9D72-77FC-49BC-AE9E-D0A12A0F60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C38B-7ECD-4573-8EE8-CDA920B13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F68F-AD58-49CE-BEA6-254D6AABB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821B-3B54-4F5B-AA12-709D6B70F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4155-9622-47AA-9520-FB51CDAC0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EE8E-9A4A-4D8D-9ABB-C343F3006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F6D0-26B6-46FF-8313-8F35C9399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8215-8DF9-499B-969E-DBD9FE988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3D9D-C72C-478C-8436-A05BA1940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8D9E-4D17-4742-8EA2-047460C63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2CB0-110F-4229-BB93-657E6136F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42A1-D7E4-4714-BE50-97D5C20AE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5076-D26A-4B45-9EA5-2D6B54CCF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337-CD91-422C-AB46-FB906A4A37A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54A-9558-43FD-ADE9-E0F44E56B9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A73-C2C1-4D81-8FB7-BFE3E0C85EA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2B3-B98E-4208-849E-C7DD04E5AC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6C80-552F-44DF-9AC9-5B51121C9B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F339-E4C3-4C64-A37C-A6BE058F58C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7D3-D16C-4B01-B75A-6DBC40157E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AEB-94E7-483F-BEA6-431AA357D2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B42-C8F0-4800-8042-73E9D4695A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344-354E-40D8-B31C-6888D75BE19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AF9C-A8D1-4635-A57D-2B2671B6A7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F68-0780-4143-AF8C-DAD9071D10D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CD1-A3D7-48C7-8DE0-5111ED643ED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C67-F1E7-4DD4-9013-82EA8EEE37D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3F95-B2C4-44B5-868F-F34616A43E6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5F5-E64D-41F7-BC1C-3BBF1C82F27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C32-170B-4BA3-9A95-B64ED65196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5D55-0BD8-4AD3-B9CF-C778E0D2224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585-DDDA-434F-90E9-C8A2E64636D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CAC-710A-4DB2-B7A8-461DAB1506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778-880E-409E-97A2-7CB930A356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8892-F57F-4BC1-822B-E1091B4FC28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" name="Picture 28" descr="0729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8AD-E038-43D2-9590-B777DA864F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2" descr="0703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682-2D1C-4DD8-B3EC-39E9FD149FE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4AB-E2BB-45D9-BB7C-339EBA7207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84A-338A-44AD-A9D7-36B727131DF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9" name="Picture 9" descr="0732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7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08E-15A3-42B9-8B95-2FD0C8EF09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Picture 28" descr="0733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5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224" name="Group 24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225" name="Rectangle 20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Text Box 21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8" name="Rectangle 23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EBEA-8DAC-4E06-8E9C-3A37C782AF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2" name="Picture 13" descr="0734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0AC-2B25-4BB2-8B42-166ACFCA52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9ED-2C4B-4E5C-88C8-93A3D0A02E3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4" descr="0704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740E-C8F5-4381-9E38-F9B73D756C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CE24-4C20-4312-BB32-E05DD7F00E6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Picture 12" descr="0706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AC63-6426-4330-9B37-4A561DF2B6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7" descr="0707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A51-117F-48D6-B102-0A7456DAB7D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0" descr="0708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1C0-5EF8-4EB2-8DC6-CA262A0075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10" descr="0709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iadah Fawaz</cp:lastModifiedBy>
  <dcterms:modified xsi:type="dcterms:W3CDTF">2014-09-09T22:00:49Z</dcterms:modified>
  <cp:revision>164</cp:revision>
  <dc:subject>Normal Probability Distribution</dc:subject>
  <dc:title>Chapter 7</dc:title>
</cp:coreProperties>
</file>