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0E9-58E2-4DE3-9E5D-D1257400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A84-2AE9-4580-BF1E-323C1532365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DC13-8C76-4255-ACD0-C4629BB6C7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A71-89D3-4736-85BD-E4E7B23C069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B40-4BD1-441D-BF53-547D93C366D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A6D-6CBD-462C-9D48-D9DA86B46FB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6EC-19B3-4EC2-93B4-0A64BD3E742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D16-9F88-4DD3-94EF-BB5BDAECAD7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F772-F8A7-4102-8CB1-244DAE42031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D48-4C5C-4C07-8623-0FFE0AB2E74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998-60FE-4CA7-AECD-62726454705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088-39CF-4A5F-AE1F-407074E5A0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06AB-AA16-4198-96DD-C67CDDDB353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8D9-A2B8-4372-9AD9-6793011BB2A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0F2-5D2F-42FE-9B45-35FA9E3A8C1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0FE-CF6E-46C1-97FE-B2D0887A3CB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8D4-6232-43E3-8EAC-84112DEDE60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E5A-8076-4786-94D8-105E15F1B4D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C58A-C99E-4D71-A7D2-9446CA679B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0C0-35F0-4494-814E-4FDCBB01ADC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6733-79DB-434C-8A67-D511595C8F7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7CFD-84AF-4C1B-94D1-853A0BB848D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C0D-C782-4392-BE26-35405582B26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C92-F775-4649-80A8-0DE422FB5A8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AF50-94DB-44A5-BFE9-D65EA09EB1D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AB2-4706-4E37-868F-32D610A2DE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860F-E7C8-49C0-A692-46F4BD9639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9DF-4C3B-42CD-8CF5-D995D12ADF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2C11-B274-4D74-BFDC-8DCB39483C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1F8-3989-4CB2-8015-3E417E69A5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478E-5CA2-412D-872A-4ACFC8C8C5E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08C-1919-4D12-BE63-0D592504133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3576-170A-4C74-A3E6-9CE88CC20CA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8DF9-FEF1-4D32-A32E-BA23BE73309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3422-4F0A-47A6-ADCD-AD827EDC533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236-34CC-43A7-A58F-1F75BA599B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9791-BEF4-4580-8DAE-42AD1614E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E841-46D4-4DDD-865B-4BA19DC68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3115-ED62-4671-89D6-96C769310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5B2B-6056-4AE5-82C2-A23BF24E7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74D5-A0E2-4823-A1B7-4738A8AA9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86C1-4D9F-43E4-9606-E5C118D73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9F55-FCD8-407B-AD73-7737B740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FEEA-EC45-4B66-98C4-BE7799603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44F8-5519-434F-87A1-EE94C9594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2E59-0441-4D50-A3E0-FB84B4F11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73FE-1902-4D15-96F0-3CA2F35CA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C014-00A9-449E-BB9C-88A926DF2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FA09-6980-4E1E-A318-DBF611DAE04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DD8-307D-400B-99DA-376EEAC5105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93D9-FE14-4BD1-AFE9-7C1B1BA94C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354-CC55-489E-BA30-AB228728FE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E56-7EE5-45D0-A068-C5B3DDB3507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CB9-8EBD-4B2F-BA49-0CF1984DB3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49D-F0F5-42C1-B517-8D99C48443D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52F-5A7E-44EF-BF9A-F061B24843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E69-1549-43BB-96C3-D182DB4672D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D2C-4637-41F9-8E8C-B195EA9420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056-A9ED-491D-8C5A-6CFAD9FDC8A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503-3F50-4D2A-94E9-EB9FCF77260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EB9-481F-458D-9EE0-9CF37DE32F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3E4-E107-4F02-B428-036C27A5FA8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F47-1AC6-426B-839A-E1BC360FCC9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44B-157D-4000-8185-D1114A18F3D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E0DF-0A3C-4F40-B5F7-40ED315AA5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13A-DBF6-4804-B08F-28503A9CEC5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3A26-BFF8-46AC-AC39-EEA9A1A424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B245-B8EC-4991-BE4C-2FE32CB2013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255-6654-4722-A699-8102599DAA9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4AE-4512-4646-B0F6-E72082256E0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" name="Picture 28" descr="0729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D38-FA4E-446C-A938-6A2605CBF9A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2" descr="0703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99A-45B5-4977-8244-F0A87B6A60F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E71-9946-49C7-857B-54BD47227E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183-7699-4D14-BE41-39B828B594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9" name="Picture 9" descr="0732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7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171E-7824-45C0-8521-6FE7470E8EE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Picture 28" descr="0733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5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224" name="Group 24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225" name="Rectangle 20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Text Box 21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8" name="Rectangle 23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0D13-988F-46CC-9232-321693692D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2" name="Picture 13" descr="0734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991D-5CF9-46C2-ACE4-656C3DB718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0F2-E66D-4A6E-A39A-00BCFF2218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4" descr="0704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119-AC6F-4DD4-9173-72CFE0A799A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38C-D0C5-49C2-BB48-2A3CB88D159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Picture 12" descr="0706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285-2491-499C-B84A-7B54B8BCFCC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7" descr="0707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B362-363E-43EB-BB64-AC7B59F8EF8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0" descr="0708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81C5-C93B-4313-A287-9FC254F63A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10" descr="0709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iadah Fawaz</cp:lastModifiedBy>
  <dcterms:modified xsi:type="dcterms:W3CDTF">2014-09-09T22:00:49Z</dcterms:modified>
  <cp:revision>164</cp:revision>
  <dc:subject>Normal Probability Distribution</dc:subject>
  <dc:title>Chapter 7</dc:title>
</cp:coreProperties>
</file>