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E8D06-7A91-4C71-9B63-1E591553A1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9E3DE-6601-4784-9F29-AFAFFD2851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7AB41-DC16-439C-87BF-444A7F2805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EB509-9644-49E2-91B9-F3E38AEB3A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77447-3641-4A19-8524-B129FAB050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95D55-B4D5-46C6-B927-495AD181A1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74C2A-F2F8-465E-A558-3C984195D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A43CD-5A99-4A54-964F-96EE0351B6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4928E-10E7-42D5-AA0A-64AB7E5BC1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BC42A-9844-4F5E-8E38-F9C1FE2A1B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5D022-1578-4AC0-A149-C55BD5E7AE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83537-BB89-4AA3-8442-B9EE499102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6C25-16D1-43CA-A520-72719FA298E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Normal Probability Distribu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36560" y="4178160"/>
            <a:ext cx="2562120" cy="1809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cteristics of a Normal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9000"/>
          </a:bodyPr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ell-shaped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d has a single peak at the center of the distributio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arithmetic mean, median, and mode are equ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total area under the curve is 1.00; half the area under the normal curve is to the right of this center point and the other half to the left of i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ymmetrical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the mea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symptotic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curve gets closer and closer to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axis but never actually touches it. To put it another way, the tails of the curve extend indefinitely in both direction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location of a normal distribution is determined by the mean,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the dispersion or spread of the distribution is determined by the standard deviation,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AD2D9-21AF-42FB-B40C-E73BDB201F23}" type="slidenum">
              <a:t>10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Normal Distribution - Graphicall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30320" y="2349360"/>
            <a:ext cx="5734080" cy="358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803DD-1FF9-4B59-AE6E-EB1B2A9EC3EA}" type="slidenum">
              <a:t>11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- Famil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04840" y="1981080"/>
            <a:ext cx="2781360" cy="1914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054760" y="1943280"/>
            <a:ext cx="2743200" cy="2009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286000" y="4280040"/>
            <a:ext cx="5105520" cy="196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82AC7-0051-4659-BF4C-4EECCE458ACE}" type="slidenum">
              <a:t>12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Standard Normal  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34920"/>
            <a:ext cx="749952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6000"/>
          </a:bodyPr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tandard normal distribution is a normal distribution with a mean of 0 and a standard deviation of 1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 is also called th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tributio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33cccc"/>
                </a:solidFill>
                <a:latin typeface="Arial"/>
              </a:rPr>
              <a:t>z-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value</a:t>
            </a:r>
            <a:r>
              <a:rPr b="0" lang="en-US" sz="2400" spc="-1" strike="noStrike">
                <a:solidFill>
                  <a:srgbClr val="4db14b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the distance between a selected value, designat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and the population mean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divided by the population standard deviation, </a:t>
            </a:r>
            <a:r>
              <a:rPr b="0" lang="el-GR" sz="2400" spc="-1" strike="noStrike">
                <a:solidFill>
                  <a:srgbClr val="003366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formula i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530520" y="5499000"/>
            <a:ext cx="2457360" cy="8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86A63-35D0-428E-BE77-504AD99C1786}" type="slidenum">
              <a:t>13</a:t>
            </a:fld>
          </a:p>
        </p:txBody>
      </p:sp>
    </p:spTree>
  </p:cSld>
  <p:transition spd="med"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eas Under the Normal Cur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028880" y="1879560"/>
            <a:ext cx="7810200" cy="4657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4734A-4B9D-49DE-AB12-1496A82BFD3B}" type="slidenum">
              <a:t>14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–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333216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weekly incomes of shift foremen in the glass industry follow the normal probability distribution with a mean of $1,000 and a standard deviation of $100. What is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alue for the income, let’s call i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f a foreman who earns $1,100 per week? For a foreman who earns $900 per week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59400" y="2781360"/>
            <a:ext cx="4228920" cy="290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9F70E-78F7-44D9-8D0A-3E8F44EFA858}" type="slidenum">
              <a:t>15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mpirical Ru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23712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68 percent of the area under the normal curve is within one standard deviation of the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95 percent is within two standard deviations of the mea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actically all is within three standard deviations of the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267080" y="2870280"/>
            <a:ext cx="4534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17B5A-E6A9-40E8-94B1-71C60B039AFA}" type="slidenum">
              <a:t>16</a:t>
            </a:fld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mpirical Rule -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276084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s part of its quality assurance program, the Autolite Battery Company conducts tests on battery life. For a particular D-cell alkaline battery, the mean life is 19 hours. The useful life of the battery follows a normal distribution with a standard deviation of 1.2 hours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nswer the following question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bout 68 percent of the batteries failed between what two values?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bout 95 percent of the batteries failed between what two values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Virtually all of the batteries failed between what two values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254480" y="2286000"/>
            <a:ext cx="458172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48F38-2D36-4E1C-83EC-415FCDDF725B}" type="slidenum">
              <a:t>17</a:t>
            </a:fld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Distribution – Finding Probabiliti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07512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an earlier example we reported that the mean weekly income of a shift foreman in the glass industry is normally distributed with a mean of $1,000 and a standard deviation of $10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likelihood of selecting a foreman whose weekly income is between $1,000 and $1,1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406760" y="2806560"/>
            <a:ext cx="4524480" cy="268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EFD86-BE31-4F58-A3D7-2C79DB0CC448}" type="slidenum">
              <a:t>18</a:t>
            </a:fld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740640" y="6076800"/>
            <a:ext cx="2092320" cy="228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914400" y="2141640"/>
            <a:ext cx="7473960" cy="412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1E934-2941-4C2C-AE0E-544835BCA45D}" type="slidenum">
              <a:t>19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the difference between discrete and continuous distribution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ute the mean and the standard deviation for a uniform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ute probabilities by using the uniform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st the characteristics of the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fine and calculate z valu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probability an observation is between two points on a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probability an observation is above (or below) a point on a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e the normal probability distribution to approximate the binomial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5E8A5-0C57-4B3C-964E-FF2701242861}" type="slidenum">
              <a:t>2</a:t>
            </a:fld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ing Areas for Z Using Exc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59000" y="1943280"/>
            <a:ext cx="7572240" cy="44859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68800" y="2446200"/>
            <a:ext cx="458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Excel functio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=NORMDIST(x,Mean,Standard_dev,Cumu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01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NORMDIST(1100,1000,100,true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enerates area (probability) from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Z=1 and below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7FB4E-7183-4968-94F1-7EE5FA0E30F6}" type="slidenum">
              <a:t>20</a:t>
            </a:fld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790 and $1,0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2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003640" y="2019240"/>
            <a:ext cx="3714840" cy="441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BA805-BF82-47D8-A96B-901F396CE703}" type="slidenum">
              <a:t>21</a:t>
            </a:fld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Less than $79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3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054760" y="2031840"/>
            <a:ext cx="3695400" cy="441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E8848-DC1D-488D-AC81-63119DDCCAC3}" type="slidenum">
              <a:t>22</a:t>
            </a:fld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840 and $1,2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4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118120" y="1930320"/>
            <a:ext cx="3771720" cy="453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E4134-5D91-418B-8A15-536E656007C4}" type="slidenum">
              <a:t>23</a:t>
            </a:fld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1,150 and $1,25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6268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rmal Distribution – Finding Probabilities (Example 5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952880" y="2044800"/>
            <a:ext cx="3800520" cy="42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F16B8-80F8-497A-B1C4-7949B269505B}" type="slidenum">
              <a:t>24</a:t>
            </a:fld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yton Tire and Rubber Company wishes to set a minimum mileage guarantee on its new MX100 tire. Tests reveal the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mean mileage is 67,90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with a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standard deviation of 2,05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miles and that the distribution of miles follows the normal probability distribution. It wants to set the minimum guaranteed mileage so that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no more than 4 percen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of the tires will have to be replaced. What minimum guaranteed mileage should Layton announce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079960" y="2070000"/>
            <a:ext cx="3533760" cy="418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427BF-BA35-4CDC-974D-80E23BC40E8C}" type="slidenum">
              <a:t>25</a:t>
            </a:fld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71680" y="2082960"/>
            <a:ext cx="8410320" cy="4000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CD4D3-4CBD-43C0-AF45-4F8340A640C2}" type="slidenum">
              <a:t>26</a:t>
            </a:fld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c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120760" y="2235240"/>
            <a:ext cx="4753080" cy="405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74F8D-50BD-4526-A26F-90D15D0485B8}" type="slidenum">
              <a:t>27</a:t>
            </a:fld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04840" y="1914480"/>
            <a:ext cx="693432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normal distribution (a continuous distribution) yields a good approximation of the binomial distribution (a discrete distribution) for large value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normal probability distribution is generally a good approximation to the binomial probability distribution w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(1-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re both greater than 5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18240-C1DE-493B-8FD0-97959037D339}" type="slidenum">
              <a:t>28</a:t>
            </a:fld>
          </a:p>
        </p:txBody>
      </p:sp>
    </p:spTree>
  </p:cSld>
  <p:transition spd="med">
    <p:wipe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71480" y="1909800"/>
            <a:ext cx="7486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ing the normal distribution (a continuous distribution) as a substitute for a binomial distribution (a discrete distribution) for large values of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ems reasonable because, as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reases, a binomial distribution gets closer and closer to a normal distributio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206360" y="3606840"/>
            <a:ext cx="7562880" cy="291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C303C-ED3F-45A7-9FC9-120E7CBC1C41}" type="slidenum">
              <a:t>29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Uniform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26556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uniform probability distribution is perhaps the simplest distribution for a continuous random variabl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s distribution is rectangular in shape and is defined by minimum and maximum valu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457880" y="2641680"/>
            <a:ext cx="4209840" cy="31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921AB-A455-44A4-A5DA-70FAFF80E7C6}" type="slidenum">
              <a:t>3</a:t>
            </a:fld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inuity Correction Fact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52328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 value .5 subtracted or added, depending on the problem, to a selected value when a binomial probability distribution (a discrete probability distribution) is being approximated by a continuous probability distribution (the normal distribution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87B22-2B99-4FEE-9A36-731D12744650}" type="slidenum">
              <a:t>30</a:t>
            </a:fld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w to Apply the Correction Facto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ly four cases may arise. These cases ar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For the probability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t least 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bove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 For the probability tha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more than 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bove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+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 For the probability tha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 or fewer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below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 For the probability tha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fewer than 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below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+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FC999-6700-4C9A-ADF9-645E8FA3178E}" type="slidenum">
              <a:t>31</a:t>
            </a:fld>
          </a:p>
        </p:txBody>
      </p:sp>
    </p:spTree>
  </p:cSld>
  <p:transition spd="med">
    <p:wipe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04880" y="1819080"/>
            <a:ext cx="40068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ppose the management of the Santoni Pizza Restaurant found that 70 percent of its new customers return for another meal. For a week in which 80 new (first-time) customers dined at Santoni’s, </a:t>
            </a:r>
            <a:r>
              <a:rPr b="0" lang="en-US" sz="2400" spc="-1" strike="noStrike">
                <a:solidFill>
                  <a:srgbClr val="ff3101"/>
                </a:solidFill>
                <a:latin typeface="Arial"/>
              </a:rPr>
              <a:t>what is the probability that 60 or more will return for another mea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457200"/>
            <a:ext cx="7924680" cy="914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 - Examp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092560" y="2654280"/>
            <a:ext cx="3762360" cy="22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C801B-698E-4143-BD47-A40DFC4A4BE9}" type="slidenum">
              <a:t>32</a:t>
            </a:fld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974880" y="2206800"/>
            <a:ext cx="6810120" cy="357156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2581200" y="4324320"/>
            <a:ext cx="5295960" cy="2170800"/>
            <a:chOff x="2581200" y="4324320"/>
            <a:chExt cx="5295960" cy="2170800"/>
          </a:xfrm>
        </p:grpSpPr>
        <p:grpSp>
          <p:nvGrpSpPr>
            <p:cNvPr id="185" name=""/>
            <p:cNvGrpSpPr/>
            <p:nvPr/>
          </p:nvGrpSpPr>
          <p:grpSpPr>
            <a:xfrm>
              <a:off x="2581200" y="4581360"/>
              <a:ext cx="4992840" cy="1913760"/>
              <a:chOff x="2581200" y="4581360"/>
              <a:chExt cx="4992840" cy="1913760"/>
            </a:xfrm>
          </p:grpSpPr>
          <p:sp>
            <p:nvSpPr>
              <p:cNvPr id="186" name=""/>
              <p:cNvSpPr/>
              <p:nvPr/>
            </p:nvSpPr>
            <p:spPr>
              <a:xfrm>
                <a:off x="2581200" y="4581360"/>
                <a:ext cx="1028880" cy="12668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249720" y="6157800"/>
                <a:ext cx="432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Arial"/>
                  </a:rPr>
                  <a:t>P(X </a:t>
                </a:r>
                <a:r>
                  <a:rPr b="0" lang="en-US" sz="1600" spc="-1" strike="noStrike">
                    <a:solidFill>
                      <a:srgbClr val="003366"/>
                    </a:solidFill>
                    <a:latin typeface="Arial"/>
                    <a:ea typeface="Times New Roman"/>
                  </a:rPr>
                  <a:t>≥ 60) = 0.063+0.048+ … + 0.001) = 0.197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400560" y="5867280"/>
                <a:ext cx="266400" cy="37152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6534000" y="4324320"/>
              <a:ext cx="1343160" cy="1266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19C2D-E076-45DC-BD1F-6328A4357E1E}" type="slidenum">
              <a:t>33</a:t>
            </a:fld>
          </a:p>
        </p:txBody>
      </p:sp>
    </p:spTree>
  </p:cSld>
  <p:transition spd="med">
    <p:wipe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5038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ep 1.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nd the mean and the variance of a binomial distribution and find th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rresponding to an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f 59.5  (x-.5, the correction facto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ep 2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Determine the area from 59.5 and beyo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457200"/>
            <a:ext cx="7924680" cy="914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Approximation to the Binomial - Examp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851360" y="2006640"/>
            <a:ext cx="3952800" cy="44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53E1A-5E0D-4BF2-A6A0-7AFE2061E19F}" type="slidenum">
              <a:t>34</a:t>
            </a:fld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0BDF2-78B6-42B1-B3C0-7C59B2E73F24}" type="slidenum">
              <a:t>35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– Mean and Standard Devi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3960" y="2336760"/>
            <a:ext cx="8200800" cy="365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BD800-987A-4F78-A732-1B165E56335D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outhwest Arizona State University provides bus service to students while they are on campus. A bus arrives at the North Main Street and College Drive stop every 30 minutes between 6 A.M. and 11 P.M. during weekdays. Students arrive at the bus stop at random times. The time that a student waits is uniformly distributed from 0 to 30 minut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 Draw a graph of this distributio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 How long will a student “typically” have to wait for a bus? In other words what is the mean waiting time? What is the standard deviation of the waiting tim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 What is the probability a student will wait more than 25 minut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 What is the probability a student will wait between 10 and 20 minut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8AA3A-0CFC-4EF5-A6B1-CEF3438252C3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7080" y="1924200"/>
            <a:ext cx="4551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aw a graph of this distributio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76240" y="2997360"/>
            <a:ext cx="7696440" cy="276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1EE95-D277-4BBD-A017-949CC08B8189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4848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long will a student “typically” have to wait for a bus? In other words what is the mean waiting time? What is the standard deviation of the waiting tim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97560" y="2971800"/>
            <a:ext cx="4267080" cy="208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04E6D-0BDD-4600-BBE5-B3EBD977CDA2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19896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the probability a student will wait more than 25 minut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254480" y="2629080"/>
            <a:ext cx="4686480" cy="336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B6A5A-31B5-4768-94B6-38A1D959CE7B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the probability a student will wait between 10 and 20 minut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203720" y="2717640"/>
            <a:ext cx="4714920" cy="321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70EB6-86AA-4945-8818-17EB98CB5D91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MHE</cp:lastModifiedBy>
  <dcterms:modified xsi:type="dcterms:W3CDTF">2006-07-19T16:11:28Z</dcterms:modified>
  <cp:revision>164</cp:revision>
  <dc:subject>Normal Probability Distribution</dc:subject>
  <dc:title>Chapter 7</dc:title>
</cp:coreProperties>
</file>