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98CC-1F32-42B1-A5FF-CA59B6D71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C263F-1CBA-4370-88B2-0A880A00E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AE9FA-8714-4CE3-95E7-215302772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D91B-0900-4E5B-8850-7C3F5613C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774F-8866-40DA-B594-73CEDCE63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958B-ABB8-48F9-B8A7-44D632488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AFB8-F154-447C-9BF0-D13DCBA15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5B72-AA09-487D-A16B-9EC67D086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B7C5-4217-4F95-8F38-812CA3C77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602C-44B3-46FF-99F5-999C3E5BF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742E-02A9-4B02-934B-4D1EF8A09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A2F9-8EB8-4ECD-A7E8-73C29523E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489E-EBD3-4402-86BC-65E9CC6E6BA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124ED-F478-4821-B474-23D2F4AF4CFD}" type="slidenum">
              <a:t>10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5A61-46AF-4975-989F-189561AE373A}" type="slidenum">
              <a:t>11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46A00-DEAD-4D2F-B58E-AD89E81216F6}" type="slidenum">
              <a:t>12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85A93-A0B5-4AFD-9300-0539657E8A43}" type="slidenum">
              <a:t>13</a:t>
            </a:fld>
          </a:p>
        </p:txBody>
      </p:sp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5A91-32A8-4C0A-BAFA-5956DE99D568}" type="slidenum">
              <a:t>14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FA7EB-C157-46B6-AD51-58AC07AA384D}" type="slidenum">
              <a:t>15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AAD88-C643-48DF-A99F-10DA7C1DC652}" type="slidenum">
              <a:t>1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A1D6-4AC1-42C3-B779-5923B03C9B20}" type="slidenum">
              <a:t>17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D6CB-8013-4AEE-998A-32EC4F044C4E}" type="slidenum">
              <a:t>18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CF9A7-F07F-4621-A1D0-A5F5D09D0624}" type="slidenum">
              <a:t>19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4112-0E43-46CF-9420-F165D01E75D1}" type="slidenum">
              <a:t>2</a:t>
            </a:fld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011B9-B9F7-4F42-B44B-5F987EDBE829}" type="slidenum">
              <a:t>20</a:t>
            </a:fld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E313-5DDD-49C1-A9E7-36C6D272F05B}" type="slidenum">
              <a:t>21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0307-7DB0-4180-843B-B7478D5830A3}" type="slidenum">
              <a:t>22</a:t>
            </a:fld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4F0EE-D82E-472D-B94B-62B18747C263}" type="slidenum">
              <a:t>23</a:t>
            </a:fld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74BA-3557-4566-AEDA-F8675A5E0264}" type="slidenum">
              <a:t>24</a:t>
            </a:fld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858E-580D-47DD-971C-C9DF93C4B287}" type="slidenum">
              <a:t>25</a:t>
            </a:fld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2082-7523-4443-BE93-82600D68062C}" type="slidenum">
              <a:t>26</a:t>
            </a:fld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A3CC-B3D3-4173-9154-DDD66BFC4E64}" type="slidenum">
              <a:t>27</a:t>
            </a:fld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0882-396A-4660-9691-46ECD6F1E8BA}" type="slidenum">
              <a:t>28</a:t>
            </a:fld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5581-C5EF-4E88-AB8A-CDE2B30F2F47}" type="slidenum">
              <a:t>29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21B8-3182-4CB0-AF0D-D53EAFC9011A}" type="slidenum">
              <a:t>3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3493-F584-47F4-9D7C-8D0809A2455E}" type="slidenum">
              <a:t>30</a:t>
            </a:fld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B4029-9FEA-4153-AFB7-0229EF2A86A3}" type="slidenum">
              <a:t>31</a:t>
            </a:fld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8516-BDDB-46A5-BF74-9CF22E19C4CA}" type="slidenum">
              <a:t>32</a:t>
            </a:fld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185" name="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1CA2-8760-4686-992A-FC815A7F40DE}" type="slidenum">
              <a:t>33</a:t>
            </a:fld>
          </a:p>
        </p:txBody>
      </p: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5E3C-F8B6-4435-83E1-A312C8671101}" type="slidenum">
              <a:t>34</a:t>
            </a:fld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D6AD-13AC-486B-B159-4C07838AB843}" type="slidenum">
              <a:t>35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43D4-4E27-4E3B-86AA-71F6C4D30A64}" type="slidenum">
              <a:t>4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DFF4-DBB5-4C09-BCD2-41DB8DAD0274}" type="slidenum">
              <a:t>5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DBEF6-4DAF-400E-922E-6660678FE4F9}" type="slidenum">
              <a:t>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7FC39-497F-4DB0-A9C3-24C5A9179A02}" type="slidenum">
              <a:t>7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46554-2467-4A52-8ED7-E521BA054EB8}" type="slidenum">
              <a:t>8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724A-2CC9-4111-A241-68E5C54B368C}" type="slidenum">
              <a:t>9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1:28Z</dcterms:modified>
  <cp:revision>164</cp:revision>
  <dc:subject>Normal Probability Distribution</dc:subject>
  <dc:title>Chapter 7</dc:title>
</cp:coreProperties>
</file>