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18.wmf" ContentType="image/x-wmf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78FD3-1CF3-4D01-A961-372CFAE367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A2E90-E9C7-49BF-BDE6-BE0BCBE7A6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188EC-5987-4DC6-839F-EB930D5727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821E1-1E7A-4AEA-B01E-5D15FEAB12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EE626-0B0F-4B62-AA76-052B281085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D0A18-8710-42FB-B899-AC4A94124B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6C025-A812-4A3A-A78D-92E100F6E8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9AFC4-BC5F-455F-A657-BE13A5F301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C3D6A-B187-405D-BA19-13D32B4A90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2D631-F630-4726-9E97-7808A82DB2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AB487-5199-4A9B-ADCC-FD603C3C41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9623F-3EA2-45E5-9E54-14E4BCEBDD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A7E8-2761-445A-B107-113E331C2FC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Normal Probability Distributi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7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36560" y="4178160"/>
            <a:ext cx="2562120" cy="1809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racteristics of a Normal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ability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9000"/>
          </a:bodyPr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bell-shaped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nd has a single peak at the center of the distributio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arithmetic mean, median, and mode are equa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total area under the curve is 1.00; half the area under the normal curve is to the right of this center point and the other half to the left of i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ymmetrical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the mea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symptotic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curve gets closer and closer to th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axis but never actually touches it. To put it another way, the tails of the curve extend indefinitely in both direction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location of a normal distribution is determined by the mean,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the dispersion or spread of the distribution is determined by the standard deviation,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Arial"/>
              </a:rPr>
              <a:t>σ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6B069-2CAE-4A04-BD0A-BA68C91CF6CC}" type="slidenum">
              <a:t>10</a:t>
            </a:fld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Normal Distribution - Graphicall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30320" y="2349360"/>
            <a:ext cx="5734080" cy="3581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F8BB6-7AD7-43A5-A0C6-0827B99A509A}" type="slidenum">
              <a:t>11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Normal Distribution - Famil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04840" y="1981080"/>
            <a:ext cx="2781360" cy="1914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054760" y="1943280"/>
            <a:ext cx="2743200" cy="2009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286000" y="4280040"/>
            <a:ext cx="5105520" cy="196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C7E46-A76F-4ADB-A43E-D2344F5E3A25}" type="slidenum">
              <a:t>12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Standard Normal  Probability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34920"/>
            <a:ext cx="7499520" cy="14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6000"/>
          </a:bodyPr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standard normal distribution is a normal distribution with a mean of 0 and a standard deviation of 1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t is also called th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tribution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33cccc"/>
                </a:solidFill>
                <a:latin typeface="Arial"/>
              </a:rPr>
              <a:t>z-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value</a:t>
            </a:r>
            <a:r>
              <a:rPr b="0" lang="en-US" sz="2400" spc="-1" strike="noStrike">
                <a:solidFill>
                  <a:srgbClr val="4db14b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s the distance between a selected value, designat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and the population mean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divided by the population standard deviation, </a:t>
            </a:r>
            <a:r>
              <a:rPr b="0" lang="el-GR" sz="2400" spc="-1" strike="noStrike">
                <a:solidFill>
                  <a:srgbClr val="003366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formula i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530520" y="5499000"/>
            <a:ext cx="2457360" cy="8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8FA5C-3BDD-4240-9F32-AA1701E6C013}" type="slidenum">
              <a:t>13</a:t>
            </a:fld>
          </a:p>
        </p:txBody>
      </p:sp>
    </p:spTree>
  </p:cSld>
  <p:transition spd="med"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reas Under the Normal Curv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028880" y="1879560"/>
            <a:ext cx="7810200" cy="4657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4CEE5-8CA3-460C-8AFF-FF97D0C18592}" type="slidenum">
              <a:t>14</a:t>
            </a:fld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Normal Distribution –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333216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weekly incomes of shift foremen in the glass industry follow the normal probability distribution with a mean of $1,000 and a standard deviation of $100. What is th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alue for the income, let’s call i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f a foreman who earns $1,100 per week? For a foreman who earns $900 per week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59400" y="2781360"/>
            <a:ext cx="4228920" cy="290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8D11A-841C-4947-8F72-8E995264193B}" type="slidenum">
              <a:t>15</a:t>
            </a:fld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mpirical Ru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23712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68 percent of the area under the normal curve is within one standard deviation of the mea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95 percent is within two standard deviations of the mea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actically all is within three standard deviations of the mea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267080" y="2870280"/>
            <a:ext cx="4534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4459A-A3F0-4D14-9D04-E38B36C87791}" type="slidenum">
              <a:t>16</a:t>
            </a:fld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mpirical Rule -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276084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s part of its quality assurance program, the Autolite Battery Company conducts tests on battery life. For a particular D-cell alkaline battery, the mean life is 19 hours. The useful life of the battery follows a normal distribution with a standard deviation of 1.2 hours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nswer the following questions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bout 68 percent of the batteries failed between what two values?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bout 95 percent of the batteries failed between what two values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Virtually all of the batteries failed between what two values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254480" y="2286000"/>
            <a:ext cx="458172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44349-F3CD-4C3C-8239-3282B9AE5895}" type="slidenum">
              <a:t>17</a:t>
            </a:fld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Distribution – Finding Probabiliti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07512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an earlier example we reported that the mean weekly income of a shift foreman in the glass industry is normally distributed with a mean of $1,000 and a standard deviation of $100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likelihood of selecting a foreman whose weekly income is between $1,000 and $1,1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406760" y="2806560"/>
            <a:ext cx="4524480" cy="268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ED815-0B96-49C9-BF89-CBFE443B0654}" type="slidenum">
              <a:t>18</a:t>
            </a:fld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740640" y="6076800"/>
            <a:ext cx="2092320" cy="228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914400" y="2141640"/>
            <a:ext cx="7473960" cy="412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A3AD6-6822-4827-8381-D97CB0956A31}" type="slidenum">
              <a:t>19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the difference between discrete and continuous distribution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ute the mean and the standard deviation for a uniform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ute probabilities by using the uniform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st the characteristics of the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fine and calculate z valu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termine the probability an observation is between two points on a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termine the probability an observation is above (or below) a point on a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e the normal probability distribution to approximate the binomial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2A7F1-2018-4D3E-9584-5C5E97CAF407}" type="slidenum">
              <a:t>2</a:t>
            </a:fld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ding Areas for Z Using Exc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359000" y="1943280"/>
            <a:ext cx="7572240" cy="44859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68800" y="2446200"/>
            <a:ext cx="458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Excel functio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=NORMDIST(x,Mean,Standard_dev,Cumu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101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NORMDIST(1100,1000,100,true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enerates area (probability) from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Z=1 and below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2A19C-7741-4987-98F7-813635509330}" type="slidenum">
              <a:t>20</a:t>
            </a:fld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790 and $1,0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2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003640" y="2019240"/>
            <a:ext cx="3714840" cy="441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FC9C6-AB83-4DBA-B839-90070CD59250}" type="slidenum">
              <a:t>21</a:t>
            </a:fld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Less than $79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3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054760" y="2031840"/>
            <a:ext cx="3695400" cy="441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99094-575D-47D6-8870-40A6FF28ECC9}" type="slidenum">
              <a:t>22</a:t>
            </a:fld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840 and $1,2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4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118120" y="1930320"/>
            <a:ext cx="3771720" cy="453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E7F1B-7547-4EAF-A171-976A3D1A3B7D}" type="slidenum">
              <a:t>23</a:t>
            </a:fld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1,150 and $1,25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6268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rmal Distribution – Finding Probabilities (Example 5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952880" y="2044800"/>
            <a:ext cx="3800520" cy="425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7293A-7656-4919-B382-F9C5A69B8400}" type="slidenum">
              <a:t>24</a:t>
            </a:fld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ampl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yton Tire and Rubber Company wishes to set a minimum mileage guarantee on its new MX100 tire. Tests reveal the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mean mileage is 67,90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with a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standard deviation of 2,05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miles and that the distribution of miles follows the normal probability distribution. It wants to set the minimum guaranteed mileage so that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no more than 4 percen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of the tires will have to be replaced. What minimum guaranteed mileage should Layton announce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079960" y="2070000"/>
            <a:ext cx="3533760" cy="4181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37CB7-7A9D-4833-86A6-5FE304C1D5A8}" type="slidenum">
              <a:t>25</a:t>
            </a:fld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ampl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71680" y="2082960"/>
            <a:ext cx="8410320" cy="4000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45118-196F-47A9-AAB4-809508920308}" type="slidenum">
              <a:t>26</a:t>
            </a:fld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ce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120760" y="2235240"/>
            <a:ext cx="4753080" cy="405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2BAFA-DD9F-4021-8EDC-25C84EC36652}" type="slidenum">
              <a:t>27</a:t>
            </a:fld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Approximation to the Binomi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04840" y="1914480"/>
            <a:ext cx="693432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normal distribution (a continuous distribution) yields a good approximation of the binomial distribution (a discrete distribution) for large value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normal probability distribution is generally a good approximation to the binomial probability distribution w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(1-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re both greater than 5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6619C-5195-4B6D-AD03-328A2F4F1AF3}" type="slidenum">
              <a:t>28</a:t>
            </a:fld>
          </a:p>
        </p:txBody>
      </p:sp>
    </p:spTree>
  </p:cSld>
  <p:transition spd="med">
    <p:wipe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71480" y="1909800"/>
            <a:ext cx="7486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ing the normal distribution (a continuous distribution) as a substitute for a binomial distribution (a discrete distribution) for large values of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ems reasonable because, as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creases, a binomial distribution gets closer and closer to a normal distribution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Approximation to the Binomi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206360" y="3606840"/>
            <a:ext cx="7562880" cy="291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4FF8F-F355-41CE-A29E-ACF4ACB07391}" type="slidenum">
              <a:t>29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Uniform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26556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uniform probability distribution is perhaps the simplest distribution for a continuous random variable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s distribution is rectangular in shape and is defined by minimum and maximum valu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457880" y="2641680"/>
            <a:ext cx="4209840" cy="31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D086F-E394-4F20-A930-32470A760403}" type="slidenum">
              <a:t>3</a:t>
            </a:fld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inuity Correction Facto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52328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e value .5 subtracted or added, depending on the problem, to a selected value when a binomial probability distribution (a discrete probability distribution) is being approximated by a continuous probability distribution (the normal distribution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4E6D7-9201-4E16-AD64-6A067D12599A}" type="slidenum">
              <a:t>30</a:t>
            </a:fld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w to Apply the Correction Facto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ly four cases may arise. These cases ar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 For the probability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at least X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ccurs, use the area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above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5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 For the probability tha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more than X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ccurs, use the area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above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+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5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 For the probability tha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 or fewer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ccurs, use the area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below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.5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 For the probability tha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fewer than X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ccurs, use the area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below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+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5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B92C3-2652-4F88-9514-92D012FF2DDB}" type="slidenum">
              <a:t>31</a:t>
            </a:fld>
          </a:p>
        </p:txBody>
      </p:sp>
    </p:spTree>
  </p:cSld>
  <p:transition spd="med">
    <p:wipe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04880" y="1819080"/>
            <a:ext cx="40068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ppose the management of the Santoni Pizza Restaurant found that 70 percent of its new customers return for another meal. For a week in which 80 new (first-time) customers dined at Santoni’s, </a:t>
            </a:r>
            <a:r>
              <a:rPr b="0" lang="en-US" sz="2400" spc="-1" strike="noStrike">
                <a:solidFill>
                  <a:srgbClr val="ff3101"/>
                </a:solidFill>
                <a:latin typeface="Arial"/>
              </a:rPr>
              <a:t>what is the probability that 60 or more will return for another meal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457200"/>
            <a:ext cx="7924680" cy="9144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Approximation to the Binomial - Exampl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092560" y="2654280"/>
            <a:ext cx="3762360" cy="22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CFD3C-1ED7-4322-8DBD-3AA0E3FAB147}" type="slidenum">
              <a:t>32</a:t>
            </a:fld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Approximation to the Binomial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974880" y="2206800"/>
            <a:ext cx="6810120" cy="3571560"/>
          </a:xfrm>
          <a:prstGeom prst="rect">
            <a:avLst/>
          </a:prstGeom>
          <a:ln w="0">
            <a:noFill/>
          </a:ln>
        </p:spPr>
      </p:pic>
      <p:grpSp>
        <p:nvGrpSpPr>
          <p:cNvPr id="184" name=""/>
          <p:cNvGrpSpPr/>
          <p:nvPr/>
        </p:nvGrpSpPr>
        <p:grpSpPr>
          <a:xfrm>
            <a:off x="2581200" y="4324320"/>
            <a:ext cx="5295960" cy="2170800"/>
            <a:chOff x="2581200" y="4324320"/>
            <a:chExt cx="5295960" cy="2170800"/>
          </a:xfrm>
        </p:grpSpPr>
        <p:grpSp>
          <p:nvGrpSpPr>
            <p:cNvPr id="185" name=""/>
            <p:cNvGrpSpPr/>
            <p:nvPr/>
          </p:nvGrpSpPr>
          <p:grpSpPr>
            <a:xfrm>
              <a:off x="2581200" y="4581360"/>
              <a:ext cx="4992840" cy="1913760"/>
              <a:chOff x="2581200" y="4581360"/>
              <a:chExt cx="4992840" cy="1913760"/>
            </a:xfrm>
          </p:grpSpPr>
          <p:sp>
            <p:nvSpPr>
              <p:cNvPr id="186" name=""/>
              <p:cNvSpPr/>
              <p:nvPr/>
            </p:nvSpPr>
            <p:spPr>
              <a:xfrm>
                <a:off x="2581200" y="4581360"/>
                <a:ext cx="1028880" cy="12668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249720" y="6157800"/>
                <a:ext cx="4324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Arial"/>
                  </a:rPr>
                  <a:t>P(X </a:t>
                </a:r>
                <a:r>
                  <a:rPr b="0" lang="en-US" sz="1600" spc="-1" strike="noStrike">
                    <a:solidFill>
                      <a:srgbClr val="003366"/>
                    </a:solidFill>
                    <a:latin typeface="Arial"/>
                    <a:ea typeface="Times New Roman"/>
                  </a:rPr>
                  <a:t>≥ 60) = 0.063+0.048+ … + 0.001) = 0.197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400560" y="5867280"/>
                <a:ext cx="266400" cy="37152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6534000" y="4324320"/>
              <a:ext cx="1343160" cy="1266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E122C-2C68-46F1-87D7-AD29411947BF}" type="slidenum">
              <a:t>33</a:t>
            </a:fld>
          </a:p>
        </p:txBody>
      </p:sp>
    </p:spTree>
  </p:cSld>
  <p:transition spd="med">
    <p:wipe dir="r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5038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tep 1.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nd the mean and the variance of a binomial distribution and find th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rresponding to an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f 59.5  (x-.5, the correction factor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tep 2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Determine the area from 59.5 and beyo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457200"/>
            <a:ext cx="7924680" cy="9144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Approximation to the Binomial - Examp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851360" y="2006640"/>
            <a:ext cx="3952800" cy="446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E7395-D870-4D2A-9051-1836BC81B2B6}" type="slidenum">
              <a:t>34</a:t>
            </a:fld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4D038-AD0F-4AC6-BFA7-4D9887B64BB5}" type="slidenum">
              <a:t>35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– Mean and Standard Devi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23960" y="2336760"/>
            <a:ext cx="8200800" cy="365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0EFA4-0D0C-44AD-9EC6-906FD7DDF85A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outhwest Arizona State University provides bus service to students while they are on campus. A bus arrives at the North Main Street and College Drive stop every 30 minutes between 6 A.M. and 11 P.M. during weekdays. Students arrive at the bus stop at random times. The time that a student waits is uniformly distributed from 0 to 30 minut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 Draw a graph of this distribution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 How long will a student “typically” have to wait for a bus? In other words what is the mean waiting time? What is the standard deviation of the waiting times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 What is the probability a student will wait more than 25 minutes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 What is the probability a student will wait between 10 and 20 minutes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B005C-5913-48F7-8F9D-EF8322DE0667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7080" y="1924200"/>
            <a:ext cx="4551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aw a graph of this distribution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76240" y="2997360"/>
            <a:ext cx="7696440" cy="276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CEC1A-90BB-415B-BFD1-17A1EFCE3BD9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4848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long will a student “typically” have to wait for a bus? In other words what is the mean waiting time? What is the standard deviation of the waiting tim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97560" y="2971800"/>
            <a:ext cx="4267080" cy="208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0D62F-AD9E-4F76-9F1A-49B379717F53}" type="slidenum">
              <a:t>7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19896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is the probability a student will wait more than 25 minut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254480" y="2629080"/>
            <a:ext cx="4686480" cy="336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A2063-5E4B-4697-974A-25C5B1214BAD}" type="slidenum">
              <a:t>8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is the probability a student will wait between 10 and 20 minut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203720" y="2717640"/>
            <a:ext cx="4714920" cy="321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60B74-715D-4A45-AFA4-E87DAFC171C5}" type="slidenum">
              <a:t>9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MHE</cp:lastModifiedBy>
  <dcterms:modified xsi:type="dcterms:W3CDTF">2006-07-19T16:11:28Z</dcterms:modified>
  <cp:revision>164</cp:revision>
  <dc:subject>Normal Probability Distribution</dc:subject>
  <dc:title>Chapter 7</dc:title>
</cp:coreProperties>
</file>