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18.wmf" ContentType="image/x-wmf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3FC12-CB69-4DD4-964A-57C3500FEF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3A607-BCDD-4391-A496-B01E0FA8D5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1A798-FAF5-4919-AE58-D0F0438DA9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CA930-9A01-4331-B1EB-F571104FD4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0D9D0-70C8-4205-810E-87320E6C6A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2F000-7B50-483E-ABED-9A698A00BE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24AD0-B42C-4AEF-893A-DAAB9C8318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B0FBC-F7AA-43FA-89D2-4A1191406B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E8F2C-B88C-4F88-A0AC-8C974E5F5E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5FAE2-1876-4D65-91B3-096572AAC9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5DC19-959E-4B06-8A91-0EC1F679BA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0CD6F-639E-473A-B8D8-ED356B0B0A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FD19-6E90-4C3B-AB44-E7E4DDA9E984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Normal Probability Distributi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7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36560" y="4178160"/>
            <a:ext cx="2562120" cy="1809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racteristics of a Normal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ability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9000"/>
          </a:bodyPr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bell-shaped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nd has a single peak at the center of the distributio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arithmetic mean, median, and mode are equa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total area under the curve is 1.00; half the area under the normal curve is to the right of this center point and the other half to the left of i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ymmetrical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the mea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symptotic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curve gets closer and closer to th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axis but never actually touches it. To put it another way, the tails of the curve extend indefinitely in both direction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location of a normal distribution is determined by the mean,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the dispersion or spread of the distribution is determined by the standard deviation,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Arial"/>
              </a:rPr>
              <a:t>σ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40C4E-F91E-404C-A34F-2368DA79E720}" type="slidenum">
              <a:t>10</a:t>
            </a:fld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Normal Distribution - Graphicall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30320" y="2349360"/>
            <a:ext cx="5734080" cy="3581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367E6-5891-42C2-8050-9D6C8CB0C6D6}" type="slidenum">
              <a:t>11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Normal Distribution - Famil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04840" y="1981080"/>
            <a:ext cx="2781360" cy="1914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054760" y="1943280"/>
            <a:ext cx="2743200" cy="2009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286000" y="4280040"/>
            <a:ext cx="5105520" cy="196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DB676-B6D6-4B78-A1EE-6CA1CEAB95CF}" type="slidenum">
              <a:t>12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Standard Normal  Probability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34920"/>
            <a:ext cx="7499520" cy="14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6000"/>
          </a:bodyPr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standard normal distribution is a normal distribution with a mean of 0 and a standard deviation of 1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t is also called th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tribution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33cccc"/>
                </a:solidFill>
                <a:latin typeface="Arial"/>
              </a:rPr>
              <a:t>z-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value</a:t>
            </a:r>
            <a:r>
              <a:rPr b="0" lang="en-US" sz="2400" spc="-1" strike="noStrike">
                <a:solidFill>
                  <a:srgbClr val="4db14b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s the distance between a selected value, designat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and the population mean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divided by the population standard deviation, </a:t>
            </a:r>
            <a:r>
              <a:rPr b="0" lang="el-GR" sz="2400" spc="-1" strike="noStrike">
                <a:solidFill>
                  <a:srgbClr val="003366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formula i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530520" y="5499000"/>
            <a:ext cx="2457360" cy="8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560B2-162E-49A5-8AD4-5E63BC983401}" type="slidenum">
              <a:t>13</a:t>
            </a:fld>
          </a:p>
        </p:txBody>
      </p:sp>
    </p:spTree>
  </p:cSld>
  <p:transition spd="med"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reas Under the Normal Curv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028880" y="1879560"/>
            <a:ext cx="7810200" cy="4657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73CAB-E062-4E91-950A-80E4B0E5900D}" type="slidenum">
              <a:t>14</a:t>
            </a:fld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Normal Distribution –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333216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weekly incomes of shift foremen in the glass industry follow the normal probability distribution with a mean of $1,000 and a standard deviation of $100. What is th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alue for the income, let’s call i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f a foreman who earns $1,100 per week? For a foreman who earns $900 per week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59400" y="2781360"/>
            <a:ext cx="4228920" cy="290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B2ABB-4E2C-4FAB-8DC6-CAC84BF84353}" type="slidenum">
              <a:t>15</a:t>
            </a:fld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mpirical Ru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23712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68 percent of the area under the normal curve is within one standard deviation of the mea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95 percent is within two standard deviations of the mea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actically all is within three standard deviations of the mea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267080" y="2870280"/>
            <a:ext cx="4534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5A804-0810-465E-88E9-2EE5F76D40B4}" type="slidenum">
              <a:t>16</a:t>
            </a:fld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mpirical Rule -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276084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s part of its quality assurance program, the Autolite Battery Company conducts tests on battery life. For a particular D-cell alkaline battery, the mean life is 19 hours. The useful life of the battery follows a normal distribution with a standard deviation of 1.2 hours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nswer the following questions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bout 68 percent of the batteries failed between what two values?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bout 95 percent of the batteries failed between what two values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Virtually all of the batteries failed between what two values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254480" y="2286000"/>
            <a:ext cx="458172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158A4-98BF-4B68-B914-C228D0F334F3}" type="slidenum">
              <a:t>17</a:t>
            </a:fld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Distribution – Finding Probabiliti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07512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an earlier example we reported that the mean weekly income of a shift foreman in the glass industry is normally distributed with a mean of $1,000 and a standard deviation of $100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likelihood of selecting a foreman whose weekly income is between $1,000 and $1,1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406760" y="2806560"/>
            <a:ext cx="4524480" cy="268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C36CD-0F48-4970-9113-1E5F359B3F43}" type="slidenum">
              <a:t>18</a:t>
            </a:fld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740640" y="6076800"/>
            <a:ext cx="2092320" cy="228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914400" y="2141640"/>
            <a:ext cx="7473960" cy="412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C273B-FD3F-49ED-BE35-9CEB37E4DF15}" type="slidenum">
              <a:t>19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the difference between discrete and continuous distribution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ute the mean and the standard deviation for a uniform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ute probabilities by using the uniform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st the characteristics of the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fine and calculate z valu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termine the probability an observation is between two points on a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termine the probability an observation is above (or below) a point on a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e the normal probability distribution to approximate the binomial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720BB-D49B-4335-9420-D96A3018E495}" type="slidenum">
              <a:t>2</a:t>
            </a:fld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ding Areas for Z Using Exc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359000" y="1943280"/>
            <a:ext cx="7572240" cy="44859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68800" y="2446200"/>
            <a:ext cx="458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Excel functio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=NORMDIST(x,Mean,Standard_dev,Cumu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101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NORMDIST(1100,1000,100,true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enerates area (probability) from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Z=1 and below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D59F1-2647-4537-B85C-F9CC7038B673}" type="slidenum">
              <a:t>20</a:t>
            </a:fld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790 and $1,0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2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003640" y="2019240"/>
            <a:ext cx="3714840" cy="441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66520-4712-461E-8D95-EDDA5E1DB5BA}" type="slidenum">
              <a:t>21</a:t>
            </a:fld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Less than $79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3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054760" y="2031840"/>
            <a:ext cx="3695400" cy="441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72D58-B81A-4824-8059-73C5403B007D}" type="slidenum">
              <a:t>22</a:t>
            </a:fld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840 and $1,2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4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118120" y="1930320"/>
            <a:ext cx="3771720" cy="453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89D10-36F8-4EED-A31B-B98992AB33A5}" type="slidenum">
              <a:t>23</a:t>
            </a:fld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1,150 and $1,25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6268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rmal Distribution – Finding Probabilities (Example 5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952880" y="2044800"/>
            <a:ext cx="3800520" cy="425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18B4B-51F2-450B-86F6-07A9A284CB0B}" type="slidenum">
              <a:t>24</a:t>
            </a:fld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ampl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yton Tire and Rubber Company wishes to set a minimum mileage guarantee on its new MX100 tire. Tests reveal the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mean mileage is 67,90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with a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standard deviation of 2,05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miles and that the distribution of miles follows the normal probability distribution. It wants to set the minimum guaranteed mileage so that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no more than 4 percen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of the tires will have to be replaced. What minimum guaranteed mileage should Layton announce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079960" y="2070000"/>
            <a:ext cx="3533760" cy="4181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D293D-1F14-4A03-8096-0C38940B8C26}" type="slidenum">
              <a:t>25</a:t>
            </a:fld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ampl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71680" y="2082960"/>
            <a:ext cx="8410320" cy="4000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D6513-7AF1-4E9C-AEEA-DEBEA81EDC3B}" type="slidenum">
              <a:t>26</a:t>
            </a:fld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ce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120760" y="2235240"/>
            <a:ext cx="4753080" cy="405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2B6D3-5CFD-478C-B10E-747736117400}" type="slidenum">
              <a:t>27</a:t>
            </a:fld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Approximation to the Binomi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04840" y="1914480"/>
            <a:ext cx="693432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normal distribution (a continuous distribution) yields a good approximation of the binomial distribution (a discrete distribution) for large value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normal probability distribution is generally a good approximation to the binomial probability distribution w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(1-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re both greater than 5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5FD08-67D7-4D85-AD55-A87048CD14C3}" type="slidenum">
              <a:t>28</a:t>
            </a:fld>
          </a:p>
        </p:txBody>
      </p:sp>
    </p:spTree>
  </p:cSld>
  <p:transition spd="med">
    <p:wipe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71480" y="1909800"/>
            <a:ext cx="7486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ing the normal distribution (a continuous distribution) as a substitute for a binomial distribution (a discrete distribution) for large values of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ems reasonable because, as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creases, a binomial distribution gets closer and closer to a normal distribution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Approximation to the Binomi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206360" y="3606840"/>
            <a:ext cx="7562880" cy="291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4F820-F8E4-4EA2-A2A8-AE0415725008}" type="slidenum">
              <a:t>29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Uniform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26556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uniform probability distribution is perhaps the simplest distribution for a continuous random variable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s distribution is rectangular in shape and is defined by minimum and maximum valu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457880" y="2641680"/>
            <a:ext cx="4209840" cy="31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6F483-B3D8-4DD1-82BE-AE9D4F62DF68}" type="slidenum">
              <a:t>3</a:t>
            </a:fld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inuity Correction Facto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52328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e value .5 subtracted or added, depending on the problem, to a selected value when a binomial probability distribution (a discrete probability distribution) is being approximated by a continuous probability distribution (the normal distribution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0000D-505C-4EB1-BE95-CDB5BA8C5C8F}" type="slidenum">
              <a:t>30</a:t>
            </a:fld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w to Apply the Correction Facto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ly four cases may arise. These cases ar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 For the probability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at least X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ccurs, use the area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above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5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 For the probability tha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more than X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ccurs, use the area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above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+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5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 For the probability tha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 or fewer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ccurs, use the area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below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.5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 For the probability tha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fewer than X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ccurs, use the area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below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+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5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68EBC-75BF-4992-889C-64C32E15F032}" type="slidenum">
              <a:t>31</a:t>
            </a:fld>
          </a:p>
        </p:txBody>
      </p:sp>
    </p:spTree>
  </p:cSld>
  <p:transition spd="med">
    <p:wipe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04880" y="1819080"/>
            <a:ext cx="40068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ppose the management of the Santoni Pizza Restaurant found that 70 percent of its new customers return for another meal. For a week in which 80 new (first-time) customers dined at Santoni’s, </a:t>
            </a:r>
            <a:r>
              <a:rPr b="0" lang="en-US" sz="2400" spc="-1" strike="noStrike">
                <a:solidFill>
                  <a:srgbClr val="ff3101"/>
                </a:solidFill>
                <a:latin typeface="Arial"/>
              </a:rPr>
              <a:t>what is the probability that 60 or more will return for another meal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457200"/>
            <a:ext cx="7924680" cy="9144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Approximation to the Binomial - Exampl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092560" y="2654280"/>
            <a:ext cx="3762360" cy="22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1D5DE-8EED-42A5-8D97-D97E391E38CA}" type="slidenum">
              <a:t>32</a:t>
            </a:fld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Approximation to the Binomial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974880" y="2206800"/>
            <a:ext cx="6810120" cy="3571560"/>
          </a:xfrm>
          <a:prstGeom prst="rect">
            <a:avLst/>
          </a:prstGeom>
          <a:ln w="0">
            <a:noFill/>
          </a:ln>
        </p:spPr>
      </p:pic>
      <p:grpSp>
        <p:nvGrpSpPr>
          <p:cNvPr id="184" name=""/>
          <p:cNvGrpSpPr/>
          <p:nvPr/>
        </p:nvGrpSpPr>
        <p:grpSpPr>
          <a:xfrm>
            <a:off x="2581200" y="4324320"/>
            <a:ext cx="5295960" cy="2170800"/>
            <a:chOff x="2581200" y="4324320"/>
            <a:chExt cx="5295960" cy="2170800"/>
          </a:xfrm>
        </p:grpSpPr>
        <p:grpSp>
          <p:nvGrpSpPr>
            <p:cNvPr id="185" name=""/>
            <p:cNvGrpSpPr/>
            <p:nvPr/>
          </p:nvGrpSpPr>
          <p:grpSpPr>
            <a:xfrm>
              <a:off x="2581200" y="4581360"/>
              <a:ext cx="4992840" cy="1913760"/>
              <a:chOff x="2581200" y="4581360"/>
              <a:chExt cx="4992840" cy="1913760"/>
            </a:xfrm>
          </p:grpSpPr>
          <p:sp>
            <p:nvSpPr>
              <p:cNvPr id="186" name=""/>
              <p:cNvSpPr/>
              <p:nvPr/>
            </p:nvSpPr>
            <p:spPr>
              <a:xfrm>
                <a:off x="2581200" y="4581360"/>
                <a:ext cx="1028880" cy="12668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249720" y="6157800"/>
                <a:ext cx="4324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Arial"/>
                  </a:rPr>
                  <a:t>P(X </a:t>
                </a:r>
                <a:r>
                  <a:rPr b="0" lang="en-US" sz="1600" spc="-1" strike="noStrike">
                    <a:solidFill>
                      <a:srgbClr val="003366"/>
                    </a:solidFill>
                    <a:latin typeface="Arial"/>
                    <a:ea typeface="Times New Roman"/>
                  </a:rPr>
                  <a:t>≥ 60) = 0.063+0.048+ … + 0.001) = 0.197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400560" y="5867280"/>
                <a:ext cx="266400" cy="37152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6534000" y="4324320"/>
              <a:ext cx="1343160" cy="1266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47D05-6133-4FF9-9C16-F47F709E75D0}" type="slidenum">
              <a:t>33</a:t>
            </a:fld>
          </a:p>
        </p:txBody>
      </p:sp>
    </p:spTree>
  </p:cSld>
  <p:transition spd="med">
    <p:wipe dir="r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5038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tep 1.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nd the mean and the variance of a binomial distribution and find th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rresponding to an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f 59.5  (x-.5, the correction factor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tep 2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Determine the area from 59.5 and beyo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457200"/>
            <a:ext cx="7924680" cy="9144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Approximation to the Binomial - Examp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851360" y="2006640"/>
            <a:ext cx="3952800" cy="446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F42EB-BB93-4476-939A-0F5158C21366}" type="slidenum">
              <a:t>34</a:t>
            </a:fld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145A6-7F6C-4667-A801-E698861F194C}" type="slidenum">
              <a:t>35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– Mean and Standard Devi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23960" y="2336760"/>
            <a:ext cx="8200800" cy="365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BC954-6EFF-401B-B1C2-615BBBABD01C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outhwest Arizona State University provides bus service to students while they are on campus. A bus arrives at the North Main Street and College Drive stop every 30 minutes between 6 A.M. and 11 P.M. during weekdays. Students arrive at the bus stop at random times. The time that a student waits is uniformly distributed from 0 to 30 minut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 Draw a graph of this distribution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 How long will a student “typically” have to wait for a bus? In other words what is the mean waiting time? What is the standard deviation of the waiting times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 What is the probability a student will wait more than 25 minutes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 What is the probability a student will wait between 10 and 20 minutes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58F45-97A7-4DBA-BDBA-7E31C4B9D434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7080" y="1924200"/>
            <a:ext cx="4551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aw a graph of this distribution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76240" y="2997360"/>
            <a:ext cx="7696440" cy="276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AE3C0-8AF0-4C9E-B4FE-BA27D1298F49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4848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long will a student “typically” have to wait for a bus? In other words what is the mean waiting time? What is the standard deviation of the waiting tim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97560" y="2971800"/>
            <a:ext cx="4267080" cy="208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941B1-82B6-4A27-A0DF-EA3C26BC683E}" type="slidenum">
              <a:t>7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19896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is the probability a student will wait more than 25 minut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254480" y="2629080"/>
            <a:ext cx="4686480" cy="336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07D02-748D-4E67-B7EC-E757B3E753DA}" type="slidenum">
              <a:t>8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is the probability a student will wait between 10 and 20 minut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203720" y="2717640"/>
            <a:ext cx="4714920" cy="321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1AE32-E9CA-4902-84E6-A1A9C9F80B3F}" type="slidenum">
              <a:t>9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MHE</cp:lastModifiedBy>
  <dcterms:modified xsi:type="dcterms:W3CDTF">2006-07-19T16:11:28Z</dcterms:modified>
  <cp:revision>164</cp:revision>
  <dc:subject>Normal Probability Distribution</dc:subject>
  <dc:title>Chapter 7</dc:title>
</cp:coreProperties>
</file>