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20C4-B1E1-400D-A4BB-ABD4E7FA8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6FE8F-2F09-49FD-92F9-E711EBE97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F713B-44A8-46FF-A5AC-0553E9DA1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63607-925E-4C0D-AFE3-B755DBF2D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8E03B-8A98-4619-861D-455EEF734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DE2FB-658D-45B0-ACCD-5F109BA2B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B560E-908A-44B2-8A24-A2E36F07D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9F28-3FC0-4A2E-A80C-18E07E529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9A94-9A88-454E-9947-6664FB1C8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1954-6125-46EB-9313-DC4DE60AB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DD738-0096-4ED6-BBE7-70CD3412C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7216-AFF8-46EC-8B79-A9E7D7B90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CEA8-41DB-46B3-B3CD-E21180BC3F4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01AD-5E8B-47D2-9AF8-F13E0BAC2DA6}" type="slidenum">
              <a:t>10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C3310-3DB6-43BE-9C04-4369A16A54EF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0B5DE-39D6-4C01-8FD0-B3B4D1296F57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847A8-FD3B-4655-A452-EAA953C86F66}" type="slidenum">
              <a:t>13</a:t>
            </a:fld>
          </a:p>
        </p:txBody>
      </p:sp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6D7C5-1D52-4E4F-B313-27C14939414E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5D1D-28ED-4787-AFD2-65A3E66DC2E6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FB608-F8C9-4F4C-BDBC-414BCE9C1E62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A7E0-BFB3-4BDF-AB0A-1EAE3EAE4D19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EBF8-F982-4F53-ACCB-5AA620A5CC4E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2679A-9E35-48CA-AD58-E8E784F682AE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410B-55D0-4F1F-9454-07A383C9BE23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1F6DA-4727-4C9E-87BB-E10CC21DAD5E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2545-EB2F-4107-8AA2-AC90C341E96F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2481-BCAC-4E7A-954D-4B9F9125C4AA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C5CBE-A6AC-4DA2-BBDF-44D38D94C276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9B12-8A46-4E18-B221-65B8A05AD33C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C599A-31A1-4A37-93EC-E31DCAB826C5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05C7-C5A5-411C-8B33-F93E3FDC9D64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6DFA-D3C5-4DB9-BB58-E181D28ACAC1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1914480"/>
            <a:ext cx="69343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both greater than 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BD59-69D4-4158-A048-876BD425111F}" type="slidenum">
              <a:t>28</a:t>
            </a:fld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1480" y="1909800"/>
            <a:ext cx="748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normal distribution (a continuous distribution) as a substitute for a binomial distribution (a discrete distribution) for large values o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ms reasonable because, a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, a binomial distribution gets closer and closer to a normal distribu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06360" y="3606840"/>
            <a:ext cx="7562880" cy="29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069B6-8264-4F27-AC78-54D54FA73EF2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Uniform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2655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niform probability distribution is perhaps the simplest distribution for a continuous random variab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distribution is rectangular in shape and is defined by minimum and maximum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57880" y="2641680"/>
            <a:ext cx="420984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5A8B-8A0B-49F0-933A-AD75123DC9D8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ty Correction F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5232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value .5 subtracted or added, depending on the problem, to a selected value when a binomial probability distribution (a discrete probability distribution) is being approximated by a continuous probability distribution (the normal distribution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2311-DEDC-4D42-9C6C-87B7002B9055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o Apply the Correction Fac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four cases may arise. These case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For the probabilit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t least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ore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or few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ewer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DA9B6-D104-47CA-81C8-8EA5F13F1E0E}" type="slidenum">
              <a:t>31</a:t>
            </a:fld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4880" y="1819080"/>
            <a:ext cx="4006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92560" y="2654280"/>
            <a:ext cx="3762360" cy="22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4894-E9D2-4793-9634-6120C04D9F7A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74880" y="2206800"/>
            <a:ext cx="6810120" cy="3571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581200" y="4324320"/>
            <a:ext cx="5295960" cy="2170800"/>
            <a:chOff x="2581200" y="4324320"/>
            <a:chExt cx="5295960" cy="2170800"/>
          </a:xfrm>
        </p:grpSpPr>
        <p:grpSp>
          <p:nvGrpSpPr>
            <p:cNvPr id="185" name=""/>
            <p:cNvGrpSpPr/>
            <p:nvPr/>
          </p:nvGrpSpPr>
          <p:grpSpPr>
            <a:xfrm>
              <a:off x="2581200" y="4581360"/>
              <a:ext cx="4992840" cy="1913760"/>
              <a:chOff x="2581200" y="4581360"/>
              <a:chExt cx="4992840" cy="1913760"/>
            </a:xfrm>
          </p:grpSpPr>
          <p:sp>
            <p:nvSpPr>
              <p:cNvPr id="186" name=""/>
              <p:cNvSpPr/>
              <p:nvPr/>
            </p:nvSpPr>
            <p:spPr>
              <a:xfrm>
                <a:off x="2581200" y="4581360"/>
                <a:ext cx="1028880" cy="126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9720" y="6157800"/>
                <a:ext cx="432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</a:rPr>
                  <a:t>P(X 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  <a:ea typeface="Times New Roman"/>
                  </a:rPr>
                  <a:t>≥ 60) = 0.063+0.048+ … + 0.001) = 0.197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00560" y="5867280"/>
                <a:ext cx="266400" cy="371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534000" y="4324320"/>
              <a:ext cx="1343160" cy="1266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72111-B26C-4072-A4DC-695F10F9E631}" type="slidenum">
              <a:t>33</a:t>
            </a:fld>
          </a:p>
        </p:txBody>
      </p: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5038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the mean and the variance of a binomial distribution and fin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sponding to a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59.5  (x-.5, the correction fa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termine the area from 59.5 and bey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51360" y="2006640"/>
            <a:ext cx="395280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9C00-8DA6-44F7-99E1-2C4CADB79472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734C9-30C8-4C84-B3E7-A5CB5CE1E4D6}" type="slidenum">
              <a:t>35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– Mean and Standard Dev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960" y="2336760"/>
            <a:ext cx="820080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27CB5-F49A-4B47-92DA-26DA1F070929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thwest Arizona State University provides bus service to students while they are on campus. A bus arrives at the North Main Street and College Drive stop every 30 minutes between 6 A.M. and 11 P.M. during weekdays. Students arrive at the bus stop at random times. The time that a student waits is uniformly distributed from 0 to 30 minu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Draw a graph of this distribu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How long will a student “typically” have to wait for a bus? In other words what is the mean waiting time? What is the standard deviation of the waiting tim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 What is the probability a student will wait more than 25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 What is the probability a student will wait between 10 and 20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683D-8167-40C3-B0A7-59520FE5C4E1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7080" y="1924200"/>
            <a:ext cx="455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graph of this distribu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76240" y="2997360"/>
            <a:ext cx="7696440" cy="276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97A78-C9B9-40CD-8597-774174550B5B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484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long will a student “typically” have to wait for a bus? In other words what is the mean waiting time? What is the standard deviation of the waiting tim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97560" y="2971800"/>
            <a:ext cx="4267080" cy="20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A1DA-8B24-437F-A820-AC5664F5D12F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198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more than 25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54480" y="2629080"/>
            <a:ext cx="4686480" cy="33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75939-713E-4781-AB77-22845F09778B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between 10 and 20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03720" y="2717640"/>
            <a:ext cx="4714920" cy="32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410F-7C28-4AEC-B6F5-D2D7913B7539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1:28Z</dcterms:modified>
  <cp:revision>164</cp:revision>
  <dc:subject>Normal Probability Distribution</dc:subject>
  <dc:title>Chapter 7</dc:title>
</cp:coreProperties>
</file>