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A326-F21E-4B2F-8D19-86051499C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AF7B-71FE-45DC-A27D-AD0487C64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18A2-4ECB-4C59-870E-145C586B4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E9F9-B2E8-4E86-BF5D-BA08F656F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56A9-FA74-47EA-92F0-CA5A7A7B8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EF1D-16D9-4AD4-B7CF-B1A91E804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00C2-5BF7-4819-8C79-0B09E322A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5E37-5057-4B95-B4AC-FC76E80CE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1FA0-45D7-4554-BD82-705CF9CB9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57C8C-E119-4868-9FA3-9DCB1485A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996E-6523-4A0B-A90C-F4C195AF6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6D6C-E101-40E7-BD00-464DF907B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76E9-74DE-4C61-9449-210EFA29596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1F0F-9529-40BA-83C2-960A6FB50447}" type="slidenum">
              <a:t>10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41A5-D614-49CD-AC93-39A41F502B56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6F69-59B5-4AA0-BD9E-E367FDFBD7BD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3ABD-E2C4-47B2-B208-FC6C4C5344D5}" type="slidenum">
              <a:t>13</a:t>
            </a:fld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E75B-0DD7-4CA4-A551-AE4C229AB05E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FCA9-CDD5-4676-9D8E-4620664C0774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B36B-DA49-48E4-BD6D-52EE886A5A21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97CF-74B0-431D-AD71-31A278256D83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3AB5-3B10-436B-A971-CDEE91732F5D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73C7-7E29-4555-A1E1-18550E40A105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2362-5B0A-4345-89BC-08E4C62CE291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0857-2873-4405-AF1F-B0669A99AFDF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E5EC-4F3C-45EA-9E2B-291AFFAACF82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80CD9-3B5B-4373-8680-442A2B238055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48B05-D85E-4698-926A-E45841C399FB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6518-E46B-40CD-8123-7ED2240DABFE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18E9-3F91-46E3-B5C7-0785BB854549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872A-BB0A-4B97-9664-6892A2EBA66D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2BD5-94CC-4A4E-BE23-161137E1885A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5174-763B-42E8-A221-FDCE705E0DAD}" type="slidenum">
              <a:t>28</a:t>
            </a:fld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02D8-9C0E-4250-9E30-AF0326D4398D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30FBF-AA48-40D8-920D-11E1D5971480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EFAB-E0B6-4F9C-BC11-774117E8BE5E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119B-F542-4843-8C3E-9BB60EA3C238}" type="slidenum">
              <a:t>31</a:t>
            </a:fld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9FC2-BEAB-40DD-AE56-61D11A4A31B1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185" name="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5DBA-5BAE-48FF-99E2-D83997FFB12B}" type="slidenum">
              <a:t>33</a:t>
            </a:fld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0926-21AE-42F9-8E49-705A4B8A0971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20C7-5B4F-4E2C-836A-18257553FBD5}" type="slidenum">
              <a:t>35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3092-5823-4F45-9940-B3EA3258F182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F5C0-210D-47DA-9EE5-1D57BB09E0A5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47FA-DD62-448E-AB68-41F88A269102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A60D-55C4-481E-9072-5274B7B2EDFD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8DBE-6892-4545-BD12-4FC00629D721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C271-6CFF-4978-91F1-3AD0275BCE5B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1:28Z</dcterms:modified>
  <cp:revision>164</cp:revision>
  <dc:subject>Normal Probability Distribution</dc:subject>
  <dc:title>Chapter 7</dc:title>
</cp:coreProperties>
</file>