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EF0C-EA0E-43E5-9617-4AAAF4769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3C37-9E31-453E-9636-B357B82F5786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9542-4E12-4E89-87D6-7BF7342C664B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AFB7-B354-47C8-8802-6B8BE4822EDA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9CEC-A9EC-4738-AE61-DEC9EE992819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DBE4-0CEC-46F9-B5F1-54516E39CC99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64B6-2140-4867-9846-E4C1E5D49BB3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73DF-62C2-4559-9733-CF2697913B15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BD23-DFA6-488F-8380-045E976C909C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0DE1-A098-49CF-AFA5-B538CE00E03D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4CC6-E10E-4349-8D4D-FC48030154D3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141E-31B1-4ED5-A13C-99813F19B25B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030C-9245-452A-B67B-EC698168740E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ACFF-20AD-4D8E-9138-BE82E61057A8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2DA1-1F0C-464D-81FB-2331809CD313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E43E-1D05-454D-834C-F970E15C9837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A3B1-AA63-4A5F-8266-B07FC6EB9647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9683-FD38-4B84-8240-1E5AB67990C3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0E3D-E788-4816-90FF-9F9F118DB947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A023-3156-464C-AE5E-8B27F51A4518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4FE2-C524-4128-B1C9-1AE2BD550CD9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66676-8B44-4DBD-BB9F-0C6BD604B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C0E63-46EF-4989-9B03-F348DB9E8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E3BB4-B976-4321-BB21-162E15F20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C5A77-8DE2-4117-8C8D-183C44100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7A39A-83C2-438C-A06D-7A2B850C51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69540-0283-406F-9FF6-0610F72F4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69FF6-65FB-4A9E-AF9F-961E8F71B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86D17-8C1D-48EE-B635-6421BEE48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54329-D127-44E2-96C0-0B0F32B6D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3D93A-82B1-4F3E-A2A3-2788C124C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21B80-E19A-4D45-A0FF-EB4151D6D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52547-90DE-4824-8EA1-D3A7EB64F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69FE-FA7E-43A8-8047-AE03E420713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Normal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5" descr="intro"/>
          <p:cNvPicPr/>
          <p:nvPr/>
        </p:nvPicPr>
        <p:blipFill>
          <a:blip r:embed="rId1"/>
          <a:stretch/>
        </p:blipFill>
        <p:spPr>
          <a:xfrm>
            <a:off x="736560" y="4178160"/>
            <a:ext cx="256212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3F96-4337-42C0-BBAF-C2E705BD36B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Picture 15" descr=""/>
          <p:cNvPicPr/>
          <p:nvPr/>
        </p:nvPicPr>
        <p:blipFill>
          <a:blip r:embed="rId1"/>
          <a:stretch/>
        </p:blipFill>
        <p:spPr>
          <a:xfrm>
            <a:off x="6740640" y="6076800"/>
            <a:ext cx="2092320" cy="228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25" descr="0719"/>
          <p:cNvPicPr/>
          <p:nvPr/>
        </p:nvPicPr>
        <p:blipFill>
          <a:blip r:embed="rId2"/>
          <a:stretch/>
        </p:blipFill>
        <p:spPr>
          <a:xfrm>
            <a:off x="914400" y="2141640"/>
            <a:ext cx="7473960" cy="412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7DF9-97CA-4B36-9D17-A20539BE8AE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reas for Z Using Exc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Picture 17" descr="0720"/>
          <p:cNvPicPr/>
          <p:nvPr/>
        </p:nvPicPr>
        <p:blipFill>
          <a:blip r:embed="rId1"/>
          <a:stretch/>
        </p:blipFill>
        <p:spPr>
          <a:xfrm>
            <a:off x="1359000" y="1943280"/>
            <a:ext cx="7572240" cy="44859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3"/>
          <p:cNvSpPr/>
          <p:nvPr/>
        </p:nvSpPr>
        <p:spPr>
          <a:xfrm>
            <a:off x="568800" y="2446200"/>
            <a:ext cx="458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Excel fun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=NORMDIST(x,Mean,Standard_dev,Cumu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RMDIST(1100,1000,100,tru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erates area (probability) fr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=1 and below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50A3-AC2F-47E8-8171-F9AB5F3616C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Picture 15" descr="0721"/>
          <p:cNvPicPr/>
          <p:nvPr/>
        </p:nvPicPr>
        <p:blipFill>
          <a:blip r:embed="rId1"/>
          <a:stretch/>
        </p:blipFill>
        <p:spPr>
          <a:xfrm>
            <a:off x="5003640" y="2019240"/>
            <a:ext cx="371484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5DBD-72D6-49EE-B46B-E4F8D6FAF08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11" descr="0722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9DEE-7F2A-4D4E-8B38-0B393FF272F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840 and $1,2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4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Picture 13" descr="0723"/>
          <p:cNvPicPr/>
          <p:nvPr/>
        </p:nvPicPr>
        <p:blipFill>
          <a:blip r:embed="rId1"/>
          <a:stretch/>
        </p:blipFill>
        <p:spPr>
          <a:xfrm>
            <a:off x="5118120" y="1930320"/>
            <a:ext cx="3771720" cy="4533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D90F-AB1C-4F1F-BACF-1EE74266D1B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Picture 77" descr="0724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A3CF-CBB6-4988-9DD8-80DD4DE6545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2371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68 percent of the area under the normal curve is within one standard deviation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95 percent is within two standard deviations of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ally all is within three standard deviations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Picture 11" descr="0716"/>
          <p:cNvPicPr/>
          <p:nvPr/>
        </p:nvPicPr>
        <p:blipFill>
          <a:blip r:embed="rId1"/>
          <a:stretch/>
        </p:blipFill>
        <p:spPr>
          <a:xfrm>
            <a:off x="4267080" y="2870280"/>
            <a:ext cx="4534200" cy="249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B536-5570-4527-A945-F2AF391EC6D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276084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swer the following question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68 percent of the batteries failed between what two values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95 percent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irtually all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14" descr="0717"/>
          <p:cNvPicPr/>
          <p:nvPr/>
        </p:nvPicPr>
        <p:blipFill>
          <a:blip r:embed="rId1"/>
          <a:stretch/>
        </p:blipFill>
        <p:spPr>
          <a:xfrm>
            <a:off x="4254480" y="2286000"/>
            <a:ext cx="45817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92A8-1A96-42D9-808E-4507C9F70C9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with a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iles and that the distribution of miles follows the normal probability distribution. It wants to set the minimum guaranteed mileage so that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the tires will have to be replaced. What minimum guaranteed mileage should Layton announc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8" descr="0725"/>
          <p:cNvPicPr/>
          <p:nvPr/>
        </p:nvPicPr>
        <p:blipFill>
          <a:blip r:embed="rId1"/>
          <a:stretch/>
        </p:blipFill>
        <p:spPr>
          <a:xfrm>
            <a:off x="5079960" y="2070000"/>
            <a:ext cx="3533760" cy="4181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1035-7461-472D-B9E1-824255ADECB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2" name="Picture 15" descr="0726"/>
          <p:cNvPicPr/>
          <p:nvPr/>
        </p:nvPicPr>
        <p:blipFill>
          <a:blip r:embed="rId1"/>
          <a:stretch/>
        </p:blipFill>
        <p:spPr>
          <a:xfrm>
            <a:off x="571680" y="2082960"/>
            <a:ext cx="841032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21DC-2057-4D70-8C5E-5FCD143785A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the difference between discrete and continuous distribu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the mean and the standard deviation for a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probabilities by using the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st the characteristics of the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and calculate z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between two points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above (or below) a point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the normal probability distribution to approximate the binomial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640B-8019-47E8-84CE-AB34FAF9D3E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7D1E-6653-41EE-A74A-B93A5A66D3C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a Normal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ell-shape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has a single peak at the center of the distribu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rithmetic mean, median, and mode are equ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otal area under the curve is 1.00; half the area under the normal curve is to the right of this center point and the other half to the left of i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ymmetrical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ymptotic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urve gets closer and closer to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xis but never actually touches it. To put it another way, the tails of the curve extend indefinitely in both direc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ocation of a normal distribution is determined by the mean,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D949-C88F-4697-8C94-CC9358DFE18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Normal Distribution - Graphical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8" descr="0711"/>
          <p:cNvPicPr/>
          <p:nvPr/>
        </p:nvPicPr>
        <p:blipFill>
          <a:blip r:embed="rId1"/>
          <a:stretch/>
        </p:blipFill>
        <p:spPr>
          <a:xfrm>
            <a:off x="1930320" y="2349360"/>
            <a:ext cx="5734080" cy="358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DCE8-AB2A-4407-824B-DFD6DDD1D39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- Famil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Picture 13" descr="0712a"/>
          <p:cNvPicPr/>
          <p:nvPr/>
        </p:nvPicPr>
        <p:blipFill>
          <a:blip r:embed="rId1"/>
          <a:stretch/>
        </p:blipFill>
        <p:spPr>
          <a:xfrm>
            <a:off x="1104840" y="1981080"/>
            <a:ext cx="2781360" cy="1914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0712b"/>
          <p:cNvPicPr/>
          <p:nvPr/>
        </p:nvPicPr>
        <p:blipFill>
          <a:blip r:embed="rId2"/>
          <a:stretch/>
        </p:blipFill>
        <p:spPr>
          <a:xfrm>
            <a:off x="5054760" y="1943280"/>
            <a:ext cx="2743200" cy="2009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0712c"/>
          <p:cNvPicPr/>
          <p:nvPr/>
        </p:nvPicPr>
        <p:blipFill>
          <a:blip r:embed="rId3"/>
          <a:stretch/>
        </p:blipFill>
        <p:spPr>
          <a:xfrm>
            <a:off x="2286000" y="4280040"/>
            <a:ext cx="5105520" cy="196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A65A-AB5B-4679-8478-2447C06FC0B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tandard Normal 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834920"/>
            <a:ext cx="74995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lso calle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z-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distance between a selected value, designat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the population mean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divided by the population standard deviation,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1" name="Picture 9" descr="0713"/>
          <p:cNvPicPr/>
          <p:nvPr/>
        </p:nvPicPr>
        <p:blipFill>
          <a:blip r:embed="rId1"/>
          <a:stretch/>
        </p:blipFill>
        <p:spPr>
          <a:xfrm>
            <a:off x="3530520" y="5499000"/>
            <a:ext cx="2457360" cy="86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422F-D9D6-4DF7-B22A-4725297A09B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as Under the Normal Cu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Picture 12" descr="0714"/>
          <p:cNvPicPr/>
          <p:nvPr/>
        </p:nvPicPr>
        <p:blipFill>
          <a:blip r:embed="rId1"/>
          <a:stretch/>
        </p:blipFill>
        <p:spPr>
          <a:xfrm>
            <a:off x="1028880" y="1879560"/>
            <a:ext cx="78102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8474-9CE7-4B29-BDFD-D1578462874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weekly incomes of shift foremen in the glass industry follow the normal probability distribution with a mean of $1,000 and a standard deviation of $100. What is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lue for the income, let’s call i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 a foreman who earns $1,100 per week? For a foreman who earns $900 per wee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8" descr="0715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D042-1C4D-459E-A68D-649D8BFD10F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07512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n earlier example we reported that the mean weekly income of a shift foreman in the glass industry is normally distributed with a mean of $1,000 and a standard deviation of $10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0" descr="0718"/>
          <p:cNvPicPr/>
          <p:nvPr/>
        </p:nvPicPr>
        <p:blipFill>
          <a:blip r:embed="rId1"/>
          <a:stretch/>
        </p:blipFill>
        <p:spPr>
          <a:xfrm>
            <a:off x="4406760" y="2806560"/>
            <a:ext cx="4524480" cy="268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altib</cp:lastModifiedBy>
  <dcterms:modified xsi:type="dcterms:W3CDTF">2017-09-17T08:56:46Z</dcterms:modified>
  <cp:revision>168</cp:revision>
  <dc:subject>Normal Probability Distribution</dc:subject>
  <dc:title>Chapter 7</dc:title>
</cp:coreProperties>
</file>