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643E-9D71-43A0-ABD3-4E73AE8B6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1B5E-3C46-4313-857D-9B38FE1CC77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420A-C049-4BB5-907F-16EAC85D3C9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DB98-8977-4AAD-99DD-D0D7BC332D94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2C85-ADC0-4552-8C23-B17DB176C7C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C67A-7F11-48D6-A5FD-D0C555DC7351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EEEE-A14A-40E4-B780-0FE9881CFA0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A989-88B4-483A-BE01-F1665D633BD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1242-0FC2-4EE2-A4E0-6B99197CF594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79D4-C03F-4353-BCD5-B84E418E0F0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F186-11D0-4726-8897-577F2757C5D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6178-1121-4B1C-B90B-1229B92BFAB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584B-7BD7-420F-B219-563FB136282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E4F4-7583-4445-933B-3563736A249C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BA43-CEDF-454C-B240-B0D8E84E81C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F7FB-92AC-49B7-BF4A-ADD46CD8988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3FD2-CBEE-4E01-B916-DD33E07723F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38F9-2A26-444D-9242-D0D184F3402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6397-DCFA-40E1-9324-5D48419193D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A466-8FB6-4402-9877-7FCEEEBFBA1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A1E4-8ADA-480C-A728-11487B05FE0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01E4-A9B4-436D-85A5-4AD8730AD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4D09-AF9E-46C8-8476-F1A54FEB3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B2FC9-6D8B-4083-9B85-E577D252C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7087-9A29-459E-AA72-B138FEA9D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AC2F-47CB-47AB-BC3D-739CD720B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2E4A-DF39-48B5-A992-B3F9B02DA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3198-4B9D-4F98-AFA0-A6A060C47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6EDC-116A-476A-95E7-D9504352B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3BC6-ED89-4B92-92BD-0D9E71736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79E6-DB61-4723-8907-FB1FA6DB3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2E56-53D9-47B1-B29A-9BD007DD2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6444-CE1D-4719-925B-B97EB825C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0BE4-2EEB-48FF-AB15-DE360ADA944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2823-3E24-48CE-AE83-5737A28907F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5630-4456-4850-A9FB-2470CAB5CE0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17CB-D26B-405E-9655-22CEC75A930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AA6E-03C6-4C0C-AEA1-8F7351D7BEF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602F-A7C9-45D2-8778-EE1CAD7CD99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074A-40A4-4F9E-963A-435523CA91C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A678-DE27-4EC0-90E6-142F0D71F2B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DEFF-BFCA-41B2-B12D-581D9E474A7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B238-5909-4B93-AC3D-37620FF7DB5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1DB7-1592-4595-994A-35A526F3D40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15" descr="0726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3863-F26A-44DF-A215-40AEC98E06D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3CED-2869-4B47-872A-AAA4A1CC92B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62C1-0649-4F4A-90BE-D79C7B4AA68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FB5C-8F5C-4BC1-92FA-5BFB9901075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59A5-F7FC-4268-BA27-27D9DAF18CB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CBCB-FA45-455C-B44C-CA66D8C52C5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74FB-938D-4B67-AFA7-B2825815734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1DE7-8F9A-438C-B24B-29E8281742B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4750-7E2F-48AD-99AE-82B6553BB7C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altib</cp:lastModifiedBy>
  <dcterms:modified xsi:type="dcterms:W3CDTF">2017-09-17T08:56:46Z</dcterms:modified>
  <cp:revision>168</cp:revision>
  <dc:subject>Normal Probability Distribution</dc:subject>
  <dc:title>Chapter 7</dc:title>
</cp:coreProperties>
</file>