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7FE6-4B56-479C-9164-73692CC20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EBC7-C4F7-4050-BD4B-F0F6DCF6CBEC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8200-8417-4D62-9E8D-BFF95036CD11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65E0-1CAF-492A-8AC8-BAA3D22990C0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7EBC-A641-4A7E-8459-93D032147B7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6EB4-D54A-4437-B173-748831AE2610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DB7A-261C-445C-AA9B-4FED382C60A3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96E9-B0ED-4167-AD5E-F10C9AF9050D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15DA-F2AB-49B8-B701-6540E2185A24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A724-61E9-4CFC-8B97-98344FD11521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CCA3-B841-451A-A044-5249086E15C8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8604-3C78-43D3-BE16-0571EDF325E8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A050-FB54-417B-88D9-E0436F6054CC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5BE4-B15A-4847-947C-60844D152056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6437-1B3C-4DA5-8B31-7266B616C4F3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37E9-D722-41EA-B32A-5EDB1135C926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C825-B4E4-4411-BF1E-DD8B873E2540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6048-7431-4BA2-9CAD-8538695990B8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03E0-31B1-4832-9DBD-8781FB869B2E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AD75-3A7A-4667-9623-299BD47620D4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C819-21A7-4B79-95A5-9EB3BF89C15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4A8BB-36C7-428F-A263-ABC44AB3B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D4BA-276D-4E03-ADA2-401C2E3B8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80D31-81BE-418C-A811-C781A07C3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71988-C20D-4F61-BBA7-F77358487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FE07-8B4B-4029-BDD9-6D096BADB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1A50-85E8-4669-B2A9-2579E1743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F9E3-363D-404E-9462-B08106370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6531B-85C7-44E8-B7F6-5F99A256A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9996D-40E2-4B66-B6F3-1CB3B341B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995E-3923-4738-9E8A-37B212503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D9A6-6E0E-4858-93B8-B3D6D167E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61B8-8495-4709-8F56-924936136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9176-16AB-4685-A24D-B83F18F4120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intro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B384-A88C-41E4-A246-EC003A39C68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25" descr="0719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1F31-3F94-4EB9-A731-86BDC5660F5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Picture 17" descr="0720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4FCB-5D22-45BC-A1F6-8DD0B478530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Picture 15" descr="0721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5F5D-C7FA-4D77-A857-A265A0E43FF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958D-92E8-4353-9CC9-EB86B5D2F73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Picture 13" descr="0723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8E09-80D9-4548-B1E8-95ABFD49D2F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F76B-08B1-48AE-8A20-124544F5B61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Picture 11" descr="0716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DA75-4F40-401C-9B6E-0B465B0C2AE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14" descr="0717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49C1-F5F9-40B9-88EF-868ED04BC71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8" descr="0725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222A-D98B-4A7B-AB8F-07B31506B1F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15" descr="0726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5D8E-1706-44AE-9B42-8E658DE38C2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D551-221D-467F-BB38-3DAF498CC5F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528B-B37A-4B56-B2AA-DA0E9DDBB28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78E9-3268-4B63-B7DF-D87122162C0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8" descr="0711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FD3F-1E13-4B96-92DC-A09D90FAB56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13" descr="0712a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0712b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0712c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EC3C-1A40-4678-9AB2-9302CDB1822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Picture 9" descr="0713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ABA2-14F3-491B-B397-0F11696951F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12" descr="0714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19C2-92CB-4BB5-98A1-71764A82404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47D2-E67E-425C-85FC-BD2961256ED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0" descr="0718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altib</cp:lastModifiedBy>
  <dcterms:modified xsi:type="dcterms:W3CDTF">2017-09-17T08:56:46Z</dcterms:modified>
  <cp:revision>168</cp:revision>
  <dc:subject>Normal Probability Distribution</dc:subject>
  <dc:title>Chapter 7</dc:title>
</cp:coreProperties>
</file>