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6C2A-AA73-4447-8C13-569DE0BBE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ED38-F8C2-42EE-B925-0A55C5B1DF32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ACB7-F22B-4879-BDB6-3DB0A3826ACD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8BD7-62CF-449C-88EB-9216D790EB46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CCF0-D425-4CCF-A2B7-98A263963732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C689-7F3E-47A8-B89D-76881C2522FD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4148-AF07-4DA7-A22D-CAFDB3BEEBB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81E2-ECB6-4047-A6EE-F5EC549B9DC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9C97-298E-47C5-9DC2-4C4F570AD3D3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A047-9241-4BDF-8B31-E0AEA4CCD724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76C4-D81A-4629-93C2-3B28C33B6F6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767B-7488-4B34-B248-0B3D57A8B48E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640D-798D-4EA0-8632-2438D83E6C9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8877-9F03-40D2-A527-98F26367E1D2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F190-E7FF-4ED1-9515-950A36F1340F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9D72-E440-4A84-A6DD-0BBB722C3D90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7376-BECF-4E28-BD8D-F0DE5CE799DC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AC10-8842-4A0F-9F80-E3A9EE248C71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A453-DACA-4CFD-B52D-67904714852C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EEA3-6932-4676-8DCF-CF9720972A4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39FA-CF70-45A9-9C74-7E105B6DDDE0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42D0A-9194-4647-8289-CA44CA439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9DF62-A687-46C9-8F4B-A88794723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5CEA-C77E-453A-9A31-1CEADC1F5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7D74D-D858-4C38-9595-BEEC16D9E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8DE7-3151-4A37-9648-660278B4F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82DC-32DE-4397-AF5F-20CF32FEE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70448-7FB8-44A1-A10A-935CBD313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2EC0-4034-4CFC-9CAE-B9347F7C7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C3F6-146F-4F29-9FCB-FB5012819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042F-C0A7-49FF-B2DF-A571D71EA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8CD6-ECA7-43D1-8836-0F553860D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5EC8-2782-4034-B252-87787100F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75B9-9B73-4298-9A39-7BD3D9BC5A2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intro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2982-55E4-4C0B-B444-C21DE9636D3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25" descr="0719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4924-B148-4FA1-AF9A-2E8582A61B3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Picture 17" descr="0720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64DB-A719-48A8-AC59-1AC74BE5567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Picture 15" descr="0721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682B-BCF7-4941-8F0B-FCAAECDA263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7AF0-4006-4579-858A-01667458657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Picture 13" descr="0723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B055-8DA0-43D2-B2C1-5C0E8053457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D97C-FEAF-41B7-AE9C-9162F14ED91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Picture 11" descr="0716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5211-B5FB-4290-B706-D4ACAB6A0F8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14" descr="0717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9A09-6A61-4CDF-8655-94DDBF6E895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8" descr="0725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EC0D-F4DE-4200-8F3D-B9211929B47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15" descr="0726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8A1F-60CC-4CD2-BB3A-2F41F4AF0B8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553D-64FB-460F-AD61-170252AB1E1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7AA4-BD6D-41A5-A3FC-27D545A143F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2D6B-F4E5-472C-BAD4-D31CDA1B30F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8" descr="0711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8622-E1E3-4164-A9C8-C3732FB4660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13" descr="0712a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0712b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0712c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D6D0-9ADE-48ED-B4FC-BBDFB26DEA7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Picture 9" descr="0713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FB3D-5E72-4E89-9307-38990E0514E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12" descr="0714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57E8-39A2-4F1E-AED1-2CC95FFF366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DAD1-622A-49CC-B745-85D7CED9F97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0" descr="0718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altib</cp:lastModifiedBy>
  <dcterms:modified xsi:type="dcterms:W3CDTF">2017-09-17T08:56:46Z</dcterms:modified>
  <cp:revision>168</cp:revision>
  <dc:subject>Normal Probability Distribution</dc:subject>
  <dc:title>Chapter 7</dc:title>
</cp:coreProperties>
</file>