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3EC43-B186-4597-A33B-CF5C0DECC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7B101-F2F0-40EB-8A8C-EA9A6761E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5903A-03FB-4E24-9545-E7F93513F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90F57-8DDD-4EF9-B940-1999981A6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01FE6-692D-4CA8-BF17-C5A5D285F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47809-0ED1-4ACC-98D6-41B8DC80C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CED6-0505-4366-9C0B-849A900DA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D1407-DBBB-4EFA-85EF-634868DC7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BDD38-BCFD-4219-9799-B22B92D04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5FAF-E21E-4087-8690-2EB73204B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B0DCA-2AFE-46B6-B1CF-BB6A44662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B012F-BC82-45A8-B03B-F1B92496D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0CF5-D6C5-4450-93A4-E361BB84AF9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DDD50-5A14-4144-BC20-EA0D6CED0537}" type="slidenum">
              <a:t>10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67887-F988-43B0-B5C5-8F0A8A0FF796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DA992-6883-41EA-B219-4333A6777D08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0C72F-E2A1-43CB-B2E2-B7AD32C19120}" type="slidenum">
              <a:t>13</a:t>
            </a:fld>
          </a:p>
        </p:txBody>
      </p:sp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7FA9-E305-4AC3-B181-1CAE7E2FDE0A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F4FA2-5389-45F7-AFA3-B08470D32883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19C1D-92F6-4AFF-8E25-45617FA0890C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C2EAC-0CBA-4BB4-8757-F696E138C081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28131-1A93-4B1C-B9DB-E9693F05275A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6E123-8757-4BF6-BA5C-6826FCBCC711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968FD-469C-4024-8768-C906E375183A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C6982-5829-4BDE-800B-D64B8E80E3AE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4F304-2099-4C11-9DA6-7703A0C1A8F4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8D77-90A3-4A5A-9818-B1FDA2CAF81D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1D73-0A99-40B2-BF9B-FB58C3914D64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76295-1551-48EB-96F6-85148A3B2824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BA611-DEE2-4016-B876-3AC6F16AAB2E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CE46-D957-481D-A1D3-8E36489872CE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c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20760" y="2235240"/>
            <a:ext cx="4753080" cy="40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8E7C2-55A4-486D-ACCC-477DAE7A7C70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1914480"/>
            <a:ext cx="69343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distribution (a continuous distribution) yields a good approximation of the binomial distribution (a discrete distribution) for large valu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probability distribution is generally a good approximation to the binomial probability distribution 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1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e both greater than 5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2C117-DA48-4CA2-9848-5837F36E4415}" type="slidenum">
              <a:t>28</a:t>
            </a:fld>
          </a:p>
        </p:txBody>
      </p:sp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1480" y="1909800"/>
            <a:ext cx="748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ing the normal distribution (a continuous distribution) as a substitute for a binomial distribution (a discrete distribution) for large values o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ems reasonable because, as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s, a binomial distribution gets closer and closer to a normal distribu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06360" y="3606840"/>
            <a:ext cx="7562880" cy="291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57B92-7E72-4DEC-A9CE-A820EC414C8A}" type="slidenum">
              <a:t>29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Uniform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2655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uniform probability distribution is perhaps the simplest distribution for a continuous random variabl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distribution is rectangular in shape and is defined by minimum and maximum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57880" y="2641680"/>
            <a:ext cx="4209840" cy="31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8993C-2CF5-46F5-8758-AB881A49A455}" type="slidenum">
              <a:t>3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ity Correction Fac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52328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value .5 subtracted or added, depending on the problem, to a selected value when a binomial probability distribution (a discrete probability distribution) is being approximated by a continuous probability distribution (the normal distribution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7BD7F-E476-4FAC-AEFF-BB56F3013678}" type="slidenum">
              <a:t>30</a:t>
            </a:fld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o Apply the Correction Fact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four cases may arise. These cases a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For the probability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t least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more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or fewer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ewer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7A9BF-3BD7-4A25-90F0-A9451CFDABE2}" type="slidenum">
              <a:t>31</a:t>
            </a:fld>
          </a:p>
        </p:txBody>
      </p:sp>
    </p:spTree>
  </p:cSld>
  <p:transition spd="med"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04880" y="1819080"/>
            <a:ext cx="4006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se the management of the Santoni Pizza Restaurant found that 70 percent of its new customers return for another meal. For a week in which 80 new (first-time) customers dined at Santoni’s, 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what is the probability that 60 or more will return for another mea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92560" y="2654280"/>
            <a:ext cx="3762360" cy="22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22E28-3AAA-441D-ADB5-704A72AD0E34}" type="slidenum">
              <a:t>32</a:t>
            </a:fld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74880" y="2206800"/>
            <a:ext cx="6810120" cy="35715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2581200" y="4324320"/>
            <a:ext cx="5295960" cy="2170800"/>
            <a:chOff x="2581200" y="4324320"/>
            <a:chExt cx="5295960" cy="2170800"/>
          </a:xfrm>
        </p:grpSpPr>
        <p:grpSp>
          <p:nvGrpSpPr>
            <p:cNvPr id="185" name=""/>
            <p:cNvGrpSpPr/>
            <p:nvPr/>
          </p:nvGrpSpPr>
          <p:grpSpPr>
            <a:xfrm>
              <a:off x="2581200" y="4581360"/>
              <a:ext cx="4992840" cy="1913760"/>
              <a:chOff x="2581200" y="4581360"/>
              <a:chExt cx="4992840" cy="1913760"/>
            </a:xfrm>
          </p:grpSpPr>
          <p:sp>
            <p:nvSpPr>
              <p:cNvPr id="186" name=""/>
              <p:cNvSpPr/>
              <p:nvPr/>
            </p:nvSpPr>
            <p:spPr>
              <a:xfrm>
                <a:off x="2581200" y="4581360"/>
                <a:ext cx="1028880" cy="1266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49720" y="6157800"/>
                <a:ext cx="432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</a:rPr>
                  <a:t>P(X </a:t>
                </a: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  <a:ea typeface="Times New Roman"/>
                  </a:rPr>
                  <a:t>≥ 60) = 0.063+0.048+ … + 0.001) = 0.197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00560" y="5867280"/>
                <a:ext cx="266400" cy="3715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534000" y="4324320"/>
              <a:ext cx="1343160" cy="1266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AA0C3-458F-4B48-A971-176DB29D4E35}" type="slidenum">
              <a:t>33</a:t>
            </a:fld>
          </a:p>
        </p:txBody>
      </p:sp>
    </p:spTree>
  </p:cSld>
  <p:transition spd="med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5038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1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the mean and the variance of a binomial distribution and fin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rresponding to a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59.5  (x-.5, the correction fac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termine the area from 59.5 and bey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851360" y="2006640"/>
            <a:ext cx="395280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A6C8D-9DE5-451B-9556-7E42DE6304D3}" type="slidenum">
              <a:t>34</a:t>
            </a:fld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F885E-F329-4608-9F7F-84A85FE60074}" type="slidenum">
              <a:t>35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– Mean and Standard Devi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960" y="2336760"/>
            <a:ext cx="8200800" cy="36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4F945-9CEA-4532-978B-83BC8D3B982F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uthwest Arizona State University provides bus service to students while they are on campus. A bus arrives at the North Main Street and College Drive stop every 30 minutes between 6 A.M. and 11 P.M. during weekdays. Students arrive at the bus stop at random times. The time that a student waits is uniformly distributed from 0 to 30 minut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 Draw a graph of this distribu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 How long will a student “typically” have to wait for a bus? In other words what is the mean waiting time? What is the standard deviation of the waiting tim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 What is the probability a student will wait more than 25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 What is the probability a student will wait between 10 and 20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6906-7D92-4A46-B5F4-A33271A133B4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7080" y="1924200"/>
            <a:ext cx="4551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aw a graph of this distribu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76240" y="2997360"/>
            <a:ext cx="7696440" cy="276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EA356-459A-4CB6-B02F-D06F50FDC81E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484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long will a student “typically” have to wait for a bus? In other words what is the mean waiting time? What is the standard deviation of the waiting tim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97560" y="2971800"/>
            <a:ext cx="4267080" cy="20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1798A-AB7D-4960-B5F7-48143BDD445C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1989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more than 25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54480" y="2629080"/>
            <a:ext cx="4686480" cy="336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A14FA-F73B-4FB5-9B2F-0FA4CF85462E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between 10 and 20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03720" y="2717640"/>
            <a:ext cx="4714920" cy="32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AEC00-B1E1-4625-960D-554D557E831A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1:28Z</dcterms:modified>
  <cp:revision>164</cp:revision>
  <dc:subject>Normal Probability Distribution</dc:subject>
  <dc:title>Chapter 7</dc:title>
</cp:coreProperties>
</file>