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8E64-E066-4C00-86D0-E2B2BDDD8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AB7B-3B11-4586-8527-398570818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854A-5254-4186-8EA1-3315D8D88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53E3D-C779-4DF7-B379-EBAFB00CD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64EC-CE9F-442B-A62D-7153D232F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9E9B-BACE-449B-B7D7-91960C010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18084-A018-4448-9F27-28866791C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B63C-9D2D-4EA1-8658-71FDD0FD5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D736-024D-4678-988B-80B269972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B0272-8C61-45EE-86E3-73B3D81AD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2D05D-577B-4969-A862-E631DA114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E2A0-0EE5-45CB-8F18-E1CC299CA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573F-03E5-4016-9D3F-C0F9B5E41CC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1C96-0B5C-4B0F-9FED-42E086BF0F0E}" type="slidenum">
              <a:t>10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AF0A-773C-47FC-ADAA-B884E3BD9EAF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BC0B-B709-4422-971C-21F7D0FF5580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BFE6B-E029-48F4-ABEE-395F9FDF35A1}" type="slidenum">
              <a:t>13</a:t>
            </a:fld>
          </a:p>
        </p:txBody>
      </p:sp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97AD-8E47-4FB5-84D4-E167C51DE7D3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0CEE4-A9EC-48DC-B511-3D9416465234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F9B57-3CAF-4798-86E4-3D1FAAEF0F37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368C3-0030-4188-925D-6FD1C10C66E7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DFAD-A67A-4B02-A450-5F5BE745B83F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4EAB-F024-42A9-B787-2693846ACEBB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885A-6B75-4E30-BD32-BCE006F9A880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DE55-2772-4403-9ED5-377BCF0777ED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F3303-AB02-487A-A680-B9D9761F509F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5E7EF-835B-4838-8765-ED3F6176D58D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F0C1-3065-49EE-B340-CC2B95F68DE9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D79C-839D-4B34-8381-AE78B1E3CF2B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1BF39-81E2-44F2-AB59-0BEAD0FD584E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147D-0F58-43AA-9540-CBD351E89817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E55A7-0180-4FF9-8C00-AFFFEA5C8635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1914480"/>
            <a:ext cx="69343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both greater than 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54680-C540-4EA5-8725-ED756886D1B1}" type="slidenum">
              <a:t>28</a:t>
            </a:fld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1480" y="1909800"/>
            <a:ext cx="748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normal distribution (a continuous distribution) as a substitute for a binomial distribution (a discrete distribution) for large values o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ms reasonable because, a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, a binomial distribution gets closer and closer to a normal distribu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06360" y="3606840"/>
            <a:ext cx="7562880" cy="29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E908C-DF18-436F-BDC6-5A6F18936A32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Uniform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2655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niform probability distribution is perhaps the simplest distribution for a continuous random variab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distribution is rectangular in shape and is defined by minimum and maximum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57880" y="2641680"/>
            <a:ext cx="420984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E2F9-BBC6-45F6-919A-BFF41E4123F5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ty Correction F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5232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value .5 subtracted or added, depending on the problem, to a selected value when a binomial probability distribution (a discrete probability distribution) is being approximated by a continuous probability distribution (the normal distribution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9E0C-37C8-4E60-9BDC-80821A24455F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o Apply the Correction Fac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four cases may arise. These case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For the probabilit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t least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ore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or few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ewer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7293-B334-40DB-99E9-DD88874FDB3F}" type="slidenum">
              <a:t>31</a:t>
            </a:fld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4880" y="1819080"/>
            <a:ext cx="4006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92560" y="2654280"/>
            <a:ext cx="3762360" cy="22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9422-AEB3-4948-A16B-0777454E6218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74880" y="2206800"/>
            <a:ext cx="6810120" cy="3571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581200" y="4324320"/>
            <a:ext cx="5295960" cy="2170800"/>
            <a:chOff x="2581200" y="4324320"/>
            <a:chExt cx="5295960" cy="2170800"/>
          </a:xfrm>
        </p:grpSpPr>
        <p:grpSp>
          <p:nvGrpSpPr>
            <p:cNvPr id="185" name=""/>
            <p:cNvGrpSpPr/>
            <p:nvPr/>
          </p:nvGrpSpPr>
          <p:grpSpPr>
            <a:xfrm>
              <a:off x="2581200" y="4581360"/>
              <a:ext cx="4992840" cy="1913760"/>
              <a:chOff x="2581200" y="4581360"/>
              <a:chExt cx="4992840" cy="1913760"/>
            </a:xfrm>
          </p:grpSpPr>
          <p:sp>
            <p:nvSpPr>
              <p:cNvPr id="186" name=""/>
              <p:cNvSpPr/>
              <p:nvPr/>
            </p:nvSpPr>
            <p:spPr>
              <a:xfrm>
                <a:off x="2581200" y="4581360"/>
                <a:ext cx="1028880" cy="126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9720" y="6157800"/>
                <a:ext cx="432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</a:rPr>
                  <a:t>P(X 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  <a:ea typeface="Times New Roman"/>
                  </a:rPr>
                  <a:t>≥ 60) = 0.063+0.048+ … + 0.001) = 0.197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00560" y="5867280"/>
                <a:ext cx="266400" cy="371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534000" y="4324320"/>
              <a:ext cx="1343160" cy="1266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EC12-7A04-44BF-9E09-B1BC9A7E6AF7}" type="slidenum">
              <a:t>33</a:t>
            </a:fld>
          </a:p>
        </p:txBody>
      </p: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5038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the mean and the variance of a binomial distribution and fin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sponding to a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59.5  (x-.5, the correction fa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termine the area from 59.5 and bey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51360" y="2006640"/>
            <a:ext cx="395280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50BF-4AC2-45A9-9D5C-77B1CD47050B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D93F4-88CA-4331-BE9C-BF8ED760F286}" type="slidenum">
              <a:t>35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– Mean and Standard Dev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960" y="2336760"/>
            <a:ext cx="820080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31065-FDE5-4681-8F0E-4E3F09FE923E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thwest Arizona State University provides bus service to students while they are on campus. A bus arrives at the North Main Street and College Drive stop every 30 minutes between 6 A.M. and 11 P.M. during weekdays. Students arrive at the bus stop at random times. The time that a student waits is uniformly distributed from 0 to 30 minu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Draw a graph of this distribu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How long will a student “typically” have to wait for a bus? In other words what is the mean waiting time? What is the standard deviation of the waiting tim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 What is the probability a student will wait more than 25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 What is the probability a student will wait between 10 and 20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A190-64A7-4221-8E02-551523A0D30F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7080" y="1924200"/>
            <a:ext cx="455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graph of this distribu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76240" y="2997360"/>
            <a:ext cx="7696440" cy="276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B602C-72CA-4342-80C3-1D56A5C9EE3A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484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long will a student “typically” have to wait for a bus? In other words what is the mean waiting time? What is the standard deviation of the waiting tim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97560" y="2971800"/>
            <a:ext cx="4267080" cy="20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147E-AEB0-4BE3-8A7C-C72FEA215BDC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198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more than 25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54480" y="2629080"/>
            <a:ext cx="4686480" cy="33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F3D4-4BFB-4176-B350-6571497D5843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between 10 and 20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03720" y="2717640"/>
            <a:ext cx="4714920" cy="32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6A52-AEF4-42A3-9D2F-E01F33CB7C76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1:28Z</dcterms:modified>
  <cp:revision>164</cp:revision>
  <dc:subject>Normal Probability Distribution</dc:subject>
  <dc:title>Chapter 7</dc:title>
</cp:coreProperties>
</file>