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18.wmf" ContentType="image/x-wmf"/>
  <Override PartName="/ppt/media/image2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4E330-B5F8-49B7-BBBA-C24F65B9C1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D351F-E6B6-47A4-949D-62CB986566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D460E-B82F-4C88-96BD-62CCB395F2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8EDDA-64B3-430C-BD90-132A24BC0C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57711-6154-4842-A584-F170F0AF11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85570-7FC9-44C9-8CFE-8F8FE18277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51C2C-A865-40FA-A9D2-FB5EA9C388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7F461-2A6C-4D39-9303-0B0154A1DC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139EE-FE26-4A1B-BEAC-B556A4F20F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56E64-77F7-4C35-8207-C26A6AB6C3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89B37-4010-4873-86B6-3677755D34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A4D8C-6651-4AD5-8DF5-832AD9F464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3886200" cy="685800"/>
          </a:xfrm>
          <a:custGeom>
            <a:avLst/>
            <a:gdLst/>
            <a:ahLst/>
            <a:rect l="l" t="t" r="r" b="b"/>
            <a:pathLst>
              <a:path w="1728" h="735">
                <a:moveTo>
                  <a:pt x="1728" y="0"/>
                </a:moveTo>
                <a:lnTo>
                  <a:pt x="1728" y="480"/>
                </a:lnTo>
                <a:lnTo>
                  <a:pt x="380" y="482"/>
                </a:lnTo>
                <a:lnTo>
                  <a:pt x="354" y="480"/>
                </a:lnTo>
                <a:lnTo>
                  <a:pt x="308" y="489"/>
                </a:lnTo>
                <a:cubicBezTo>
                  <a:pt x="290" y="498"/>
                  <a:pt x="263" y="513"/>
                  <a:pt x="246" y="531"/>
                </a:cubicBezTo>
                <a:cubicBezTo>
                  <a:pt x="229" y="549"/>
                  <a:pt x="215" y="574"/>
                  <a:pt x="206" y="597"/>
                </a:cubicBezTo>
                <a:cubicBezTo>
                  <a:pt x="197" y="620"/>
                  <a:pt x="194" y="643"/>
                  <a:pt x="192" y="666"/>
                </a:cubicBezTo>
                <a:lnTo>
                  <a:pt x="192" y="735"/>
                </a:lnTo>
                <a:lnTo>
                  <a:pt x="0" y="735"/>
                </a:lnTo>
                <a:lnTo>
                  <a:pt x="0" y="480"/>
                </a:lnTo>
                <a:lnTo>
                  <a:pt x="0" y="0"/>
                </a:lnTo>
                <a:lnTo>
                  <a:pt x="1728" y="0"/>
                </a:lnTo>
                <a:close/>
              </a:path>
            </a:pathLst>
          </a:cu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3" name="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9297A-6C34-46D3-8761-E1F9EF7B32EE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9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ftr" idx="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327720" y="6583320"/>
            <a:ext cx="276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©The McGraw-Hill Companies, Inc. 2008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4440" y="6583320"/>
            <a:ext cx="138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McGraw-Hill/Irwin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he Normal Probability Distributio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apter 7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36560" y="4178160"/>
            <a:ext cx="2562120" cy="1809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aracteristics of a Normal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bability Distrib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39000"/>
          </a:bodyPr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t i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bell-shaped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nd has a single peak at the center of the distribution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arithmetic mean, median, and mode are equal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total area under the curve is 1.00; half the area under the normal curve is to the right of this center point and the other half to the left of it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t i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ymmetrical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bout the mean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t i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symptotic: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curve gets closer and closer to th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axis but never actually touches it. To put it another way, the tails of the curve extend indefinitely in both direction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location of a normal distribution is determined by the mean,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 the dispersion or spread of the distribution is determined by the standard deviation,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Arial"/>
              </a:rPr>
              <a:t>σ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033F2-BDD3-46DD-855A-305A66D4837F}" type="slidenum">
              <a:t>10</a:t>
            </a:fld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Normal Distribution - Graphicall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930320" y="2349360"/>
            <a:ext cx="5734080" cy="3581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E9E67-9A35-48B0-A0D7-B79AA7B097BE}" type="slidenum">
              <a:t>11</a:t>
            </a:fld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Normal Distribution - Famil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104840" y="1981080"/>
            <a:ext cx="2781360" cy="19144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054760" y="1943280"/>
            <a:ext cx="2743200" cy="20095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286000" y="4280040"/>
            <a:ext cx="5105520" cy="1962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A84DE-026E-42A3-8229-BF939A9C2A53}" type="slidenum">
              <a:t>12</a:t>
            </a:fld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Standard Normal  Probability Distrib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834920"/>
            <a:ext cx="7499520" cy="14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6000"/>
          </a:bodyPr>
          <a:p>
            <a:pPr marL="191880" indent="-191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standard normal distribution is a normal distribution with a mean of 0 and a standard deviation of 1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-191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t is also called the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z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stribution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-191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33cccc"/>
                </a:solidFill>
                <a:latin typeface="Arial"/>
              </a:rPr>
              <a:t>z-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value</a:t>
            </a:r>
            <a:r>
              <a:rPr b="0" lang="en-US" sz="2400" spc="-1" strike="noStrike">
                <a:solidFill>
                  <a:srgbClr val="4db14b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s the distance between a selected value, designat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and the population mean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divided by the population standard deviation, </a:t>
            </a:r>
            <a:r>
              <a:rPr b="0" lang="el-GR" sz="2400" spc="-1" strike="noStrike">
                <a:solidFill>
                  <a:srgbClr val="003366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-191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formula i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530520" y="5499000"/>
            <a:ext cx="2457360" cy="86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292A3-023D-4BE9-A84F-B4E8893C05EF}" type="slidenum">
              <a:t>13</a:t>
            </a:fld>
          </a:p>
        </p:txBody>
      </p:sp>
    </p:spTree>
  </p:cSld>
  <p:transition spd="med">
    <p:wipe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reas Under the Normal Curv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028880" y="1879560"/>
            <a:ext cx="7810200" cy="4657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61677-D397-4179-9F3E-184171464FED}" type="slidenum">
              <a:t>14</a:t>
            </a:fld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Normal Distribution – Ex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333216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weekly incomes of shift foremen in the glass industry follow the normal probability distribution with a mean of $1,000 and a standard deviation of $100. What is th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z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alue for the income, let’s call it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,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f a foreman who earns $1,100 per week? For a foreman who earns $900 per week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59400" y="2781360"/>
            <a:ext cx="4228920" cy="2905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60DD4-8F04-4ED5-B6FC-B06BE04A1D93}" type="slidenum">
              <a:t>15</a:t>
            </a:fld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Empirical Ru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23712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bout 68 percent of the area under the normal curve is within one standard deviation of the mea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bout 95 percent is within two standard deviations of the mean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actically all is within three standard deviations of the mea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267080" y="2870280"/>
            <a:ext cx="4534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D6B05-30A6-48CF-AB45-89F1294003FD}" type="slidenum">
              <a:t>16</a:t>
            </a:fld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Empirical Rule - Ex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276084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s part of its quality assurance program, the Autolite Battery Company conducts tests on battery life. For a particular D-cell alkaline battery, the mean life is 19 hours. The useful life of the battery follows a normal distribution with a standard deviation of 1.2 hours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nswer the following questions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bout 68 percent of the batteries failed between what two values?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bout 95 percent of the batteries failed between what two values?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Virtually all of the batteries failed between what two values?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254480" y="2286000"/>
            <a:ext cx="458172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2F726-DB10-4FFF-9D06-A4B4377FE1DB}" type="slidenum">
              <a:t>17</a:t>
            </a:fld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ormal Distribution – Finding Probabiliti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307512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 an earlier example we reported that the mean weekly income of a shift foreman in the glass industry is normally distributed with a mean of $1,000 and a standard deviation of $100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likelihood of selecting a foreman whose weekly income is between $1,000 and $1,10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406760" y="2806560"/>
            <a:ext cx="4524480" cy="268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CE119-D776-4C3F-9F90-99CE07D1C68A}" type="slidenum">
              <a:t>18</a:t>
            </a:fld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740640" y="6076800"/>
            <a:ext cx="2092320" cy="228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914400" y="2141640"/>
            <a:ext cx="7473960" cy="4125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1C553-5B78-4ECE-879D-A92D71FCB12D}" type="slidenum">
              <a:t>19</a:t>
            </a:fld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OA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the difference between discrete and continuous distribution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mpute the mean and the standard deviation for a uniform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mpute probabilities by using the uniform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ist the characteristics of the normal probability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fine and calculate z valu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termine the probability an observation is between two points on a normal probability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termine the probability an observation is above (or below) a point on a normal probability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se the normal probability distribution to approximate the binomial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33B65-1C57-441F-8FEB-E7C168838489}" type="slidenum">
              <a:t>2</a:t>
            </a:fld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inding Areas for Z Using Exce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359000" y="1943280"/>
            <a:ext cx="7572240" cy="44859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68800" y="2446200"/>
            <a:ext cx="458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e Excel functio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=NORMDIST(x,Mean,Standard_dev,Cumu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101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NORMDIST(1100,1000,100,true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generates area (probability) from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Z=1 and below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8355A-DB5B-4BFD-96CD-6A5D4EAEC18E}" type="slidenum">
              <a:t>20</a:t>
            </a:fld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Between $790 and $1,00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 (Example 2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003640" y="2019240"/>
            <a:ext cx="3714840" cy="441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7541B-2D50-45EE-B818-AAECBB871B98}" type="slidenum">
              <a:t>21</a:t>
            </a:fld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Less than $79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 (Example 3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054760" y="2031840"/>
            <a:ext cx="3695400" cy="441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B89E5-1054-4070-92CB-A3F6941CEB77}" type="slidenum">
              <a:t>22</a:t>
            </a:fld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Between $840 and $1,20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 (Example 4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118120" y="1930320"/>
            <a:ext cx="3771720" cy="453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DDC35-B32C-4CEF-8110-DD7E534B0863}" type="slidenum">
              <a:t>23</a:t>
            </a:fld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Between $1,150 and $1,25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62680" y="648360"/>
            <a:ext cx="780912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ormal Distribution – Finding Probabilities (Example 5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952880" y="2044800"/>
            <a:ext cx="3800520" cy="425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54CC2-3068-4841-9822-BDB6AC5AA541}" type="slidenum">
              <a:t>24</a:t>
            </a:fld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506520" y="668520"/>
            <a:ext cx="7625160" cy="5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sing Z in Finding X Given Area - Example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ayton Tire and Rubber Company wishes to set a minimum mileage guarantee on its new MX100 tire. Tests reveal the </a:t>
            </a: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mean mileage is 67,900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with a </a:t>
            </a: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standard deviation of 2,050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miles and that the distribution of miles follows the normal probability distribution. It wants to set the minimum guaranteed mileage so that </a:t>
            </a: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no more than 4 percent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of the tires will have to be replaced. What minimum guaranteed mileage should Layton announce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079960" y="2070000"/>
            <a:ext cx="3533760" cy="4181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0AE61-E945-40D8-A82D-9E0672DD44D0}" type="slidenum">
              <a:t>25</a:t>
            </a:fld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506520" y="668520"/>
            <a:ext cx="7625160" cy="5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sing Z in Finding X Given Area - Example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71680" y="2082960"/>
            <a:ext cx="8410320" cy="4000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6F741-F12B-4A8D-B9C4-B792B4887D6F}" type="slidenum">
              <a:t>26</a:t>
            </a:fld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506520" y="668520"/>
            <a:ext cx="7625160" cy="5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sing Z in Finding X Given Area - Excel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120760" y="2235240"/>
            <a:ext cx="4753080" cy="4057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E9E1E-DC4B-4C96-AE5E-30E8F60875F9}" type="slidenum">
              <a:t>27</a:t>
            </a:fld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ormal Approximation to the Binomi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04840" y="1914480"/>
            <a:ext cx="693432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normal distribution (a continuous distribution) yields a good approximation of the binomial distribution (a discrete distribution) for large values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normal probability distribution is generally a good approximation to the binomial probability distribution whe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(1-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re both greater than 5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4FCB1-1496-4FAE-9BF8-C1134C719EC9}" type="slidenum">
              <a:t>28</a:t>
            </a:fld>
          </a:p>
        </p:txBody>
      </p:sp>
    </p:spTree>
  </p:cSld>
  <p:transition spd="med">
    <p:wipe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771480" y="1909800"/>
            <a:ext cx="7486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sing the normal distribution (a continuous distribution) as a substitute for a binomial distribution (a discrete distribution) for large values of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ems reasonable because, as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creases, a binomial distribution gets closer and closer to a normal distribution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ormal Approximation to the Binomi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206360" y="3606840"/>
            <a:ext cx="7562880" cy="291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7770F-EE1F-47C7-8E85-4144B1BCF241}" type="slidenum">
              <a:t>29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Uniform Distrib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26556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uniform probability distribution is perhaps the simplest distribution for a continuous random variable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s distribution is rectangular in shape and is defined by minimum and maximum valu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457880" y="2641680"/>
            <a:ext cx="4209840" cy="311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6AC9E-EB9C-489B-963D-5A03544B2DD4}" type="slidenum">
              <a:t>3</a:t>
            </a:fld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inuity Correction Facto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52328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e value .5 subtracted or added, depending on the problem, to a selected value when a binomial probability distribution (a discrete probability distribution) is being approximated by a continuous probability distribution (the normal distribution)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1F7B4-D4D3-427D-A44D-F1100C3670A4}" type="slidenum">
              <a:t>30</a:t>
            </a:fld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ow to Apply the Correction Factor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ly four cases may arise. These cases ar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 For the probability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at least X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ccurs, use the area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above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5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 For the probability that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more than X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ccurs, use the area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above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+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5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 For the probability that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 or fewer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ccurs, use the area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below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.5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. For the probability that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fewer than X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ccurs, use the area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below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+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5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C66BF-4B64-4F9F-959C-D81A1BCBB08B}" type="slidenum">
              <a:t>31</a:t>
            </a:fld>
          </a:p>
        </p:txBody>
      </p:sp>
    </p:spTree>
  </p:cSld>
  <p:transition spd="med">
    <p:wipe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704880" y="1819080"/>
            <a:ext cx="40068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uppose the management of the Santoni Pizza Restaurant found that 70 percent of its new customers return for another meal. For a week in which 80 new (first-time) customers dined at Santoni’s, </a:t>
            </a:r>
            <a:r>
              <a:rPr b="0" lang="en-US" sz="2400" spc="-1" strike="noStrike">
                <a:solidFill>
                  <a:srgbClr val="ff3101"/>
                </a:solidFill>
                <a:latin typeface="Arial"/>
              </a:rPr>
              <a:t>what is the probability that 60 or more will return for another meal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3520" y="457200"/>
            <a:ext cx="7924680" cy="9144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ormal Approximation to the Binomial - Exampl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092560" y="2654280"/>
            <a:ext cx="3762360" cy="22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222C4-C5F5-4C27-A25D-111D36A440E2}" type="slidenum">
              <a:t>32</a:t>
            </a:fld>
          </a:p>
        </p:txBody>
      </p:sp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ormal Approximation to the Binomial - Examp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974880" y="2206800"/>
            <a:ext cx="6810120" cy="3571560"/>
          </a:xfrm>
          <a:prstGeom prst="rect">
            <a:avLst/>
          </a:prstGeom>
          <a:ln w="0">
            <a:noFill/>
          </a:ln>
        </p:spPr>
      </p:pic>
      <p:grpSp>
        <p:nvGrpSpPr>
          <p:cNvPr id="184" name=""/>
          <p:cNvGrpSpPr/>
          <p:nvPr/>
        </p:nvGrpSpPr>
        <p:grpSpPr>
          <a:xfrm>
            <a:off x="2581200" y="4324320"/>
            <a:ext cx="5295960" cy="2170800"/>
            <a:chOff x="2581200" y="4324320"/>
            <a:chExt cx="5295960" cy="2170800"/>
          </a:xfrm>
        </p:grpSpPr>
        <p:grpSp>
          <p:nvGrpSpPr>
            <p:cNvPr id="185" name=""/>
            <p:cNvGrpSpPr/>
            <p:nvPr/>
          </p:nvGrpSpPr>
          <p:grpSpPr>
            <a:xfrm>
              <a:off x="2581200" y="4581360"/>
              <a:ext cx="4992840" cy="1913760"/>
              <a:chOff x="2581200" y="4581360"/>
              <a:chExt cx="4992840" cy="1913760"/>
            </a:xfrm>
          </p:grpSpPr>
          <p:sp>
            <p:nvSpPr>
              <p:cNvPr id="186" name=""/>
              <p:cNvSpPr/>
              <p:nvPr/>
            </p:nvSpPr>
            <p:spPr>
              <a:xfrm>
                <a:off x="2581200" y="4581360"/>
                <a:ext cx="1028880" cy="12668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249720" y="6157800"/>
                <a:ext cx="4324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66"/>
                    </a:solidFill>
                    <a:latin typeface="Arial"/>
                  </a:rPr>
                  <a:t>P(X </a:t>
                </a:r>
                <a:r>
                  <a:rPr b="0" lang="en-US" sz="1600" spc="-1" strike="noStrike">
                    <a:solidFill>
                      <a:srgbClr val="003366"/>
                    </a:solidFill>
                    <a:latin typeface="Arial"/>
                    <a:ea typeface="Times New Roman"/>
                  </a:rPr>
                  <a:t>≥ 60) = 0.063+0.048+ … + 0.001) = 0.197</a:t>
                </a:r>
                <a:endParaRPr b="0" lang="en-US" sz="16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400560" y="5867280"/>
                <a:ext cx="266400" cy="37152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6534000" y="4324320"/>
              <a:ext cx="1343160" cy="1266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2AD2D-D508-430C-B6C3-71F1AF7D3857}" type="slidenum">
              <a:t>33</a:t>
            </a:fld>
          </a:p>
        </p:txBody>
      </p:sp>
    </p:spTree>
  </p:cSld>
  <p:transition spd="med">
    <p:wipe dir="r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5038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tep 1.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nd the mean and the variance of a binomial distribution and find the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z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rresponding to an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f 59.5  (x-.5, the correction factor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tep 2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Determine the area from 59.5 and beyon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457200"/>
            <a:ext cx="7924680" cy="9144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Approximation to the Binomial - Exampl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851360" y="2006640"/>
            <a:ext cx="3952800" cy="446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5F0CE-238B-4FA9-BB51-BE3C47572083}" type="slidenum">
              <a:t>34</a:t>
            </a:fld>
          </a:p>
        </p:txBody>
      </p:sp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724320" y="318204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d of Chapter 7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AC598-B643-460A-A21D-9DA6D3162885}" type="slidenum">
              <a:t>35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Uniform Distribution – Mean and Standard Devia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23960" y="2336760"/>
            <a:ext cx="8200800" cy="3657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0F5BE-FD00-4B53-9558-99E1D34271FF}" type="slidenum">
              <a:t>4</a:t>
            </a:fld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outhwest Arizona State University provides bus service to students while they are on campus. A bus arrives at the North Main Street and College Drive stop every 30 minutes between 6 A.M. and 11 P.M. during weekdays. Students arrive at the bus stop at random times. The time that a student waits is uniformly distributed from 0 to 30 minute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 Draw a graph of this distribution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 How long will a student “typically” have to wait for a bus? In other words what is the mean waiting time? What is the standard deviation of the waiting times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 What is the probability a student will wait more than 25 minutes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. What is the probability a student will wait between 10 and 20 minutes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Uniform Distribution - Examp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EC760-2F40-4B86-870B-9C91B071537C}" type="slidenum">
              <a:t>5</a:t>
            </a:fld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Uniform Distribution - Examp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7080" y="1924200"/>
            <a:ext cx="4551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aw a graph of this distribution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76240" y="2997360"/>
            <a:ext cx="7696440" cy="2761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36612-765B-48B2-8019-937D19D75A26}" type="slidenum">
              <a:t>6</a:t>
            </a:fld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Uniform Distribution - Examp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34848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ow long will a student “typically” have to wait for a bus? In other words what is the mean waiting time? What is the standard deviation of the waiting time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97560" y="2971800"/>
            <a:ext cx="4267080" cy="208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FAE5B-A599-49A9-9AC5-257F7FB6A6BF}" type="slidenum">
              <a:t>7</a:t>
            </a:fld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Uniform Distribution - Examp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319896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is the probability a student will wait more than 25 minute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254480" y="2629080"/>
            <a:ext cx="4686480" cy="336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41DAB-57DE-47D0-86E7-CF4D84AABB85}" type="slidenum">
              <a:t>8</a:t>
            </a:fld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Uniform Distribution - Examp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is the probability a student will wait between 10 and 20 minute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203720" y="2717640"/>
            <a:ext cx="4714920" cy="3210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573E6-F5B2-42D0-BFA8-FB3C5DD9CB47}" type="slidenum">
              <a:t>9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7T15:17:12Z</dcterms:created>
  <dc:creator>Rene Leo E. Ordonez</dc:creator>
  <dc:description/>
  <dc:language>en-US</dc:language>
  <cp:lastModifiedBy>MHE</cp:lastModifiedBy>
  <dcterms:modified xsi:type="dcterms:W3CDTF">2006-07-19T16:11:28Z</dcterms:modified>
  <cp:revision>164</cp:revision>
  <dc:subject>Normal Probability Distribution</dc:subject>
  <dc:title>Chapter 7</dc:title>
</cp:coreProperties>
</file>